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B706-4C7E-4A72-9D5B-CBFD1BAAE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145A-D1E1-474E-BC97-3FFFE9025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3C8F-21B5-4D4A-AF1F-F57F3D83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A62D-7239-4AFC-9D3D-0E27DD1A2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EF35-DB67-4B5B-9495-39257E1F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1034-C07A-4B83-A092-CC253E57C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C73E-67C4-4627-8B40-D7C2BBDCC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AE10-456C-4311-8319-1B6F949BD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F270-73A8-48A3-BE2D-5930A5DB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D75C-3EC7-4406-8A35-4A8D9BD57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00F3-ED6B-457D-9E19-F34633FD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4DFE-8125-439E-806C-F1BD0AD64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4E47-F2EC-4E9E-BC7B-231051B0F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65D8-AA83-46FD-B608-29D6612DC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F887-7094-4B7E-960B-5139215A2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3755-C5E8-4B7D-B0F3-FD97C451E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1A6F-2442-40D7-9EC2-6B719E9C5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17AE-DD79-408B-88C1-B7CC02A1C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0CB7-B07A-42D8-8FD3-EE33542C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AC8A-9DC4-40E7-9AB4-F66A0DF75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EAEE-4AA7-4FFB-A995-4F605283D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E24D-31A5-494F-9E7B-60DCD50C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E289-D248-4AFA-A2C8-15685394B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96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GAMBIA AND THE MALDIVES BOTH GOT INDEPENDENCE FROM WHAT COLONIZING NA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AT CITY PASSED NEW YORK CITY AS THE MOST POPULOUS CITY     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JOR INITIATIVE DID LYNDON JOHNSON ANNOUNCE DURING THE 1965 STATE OF THE UNION ADDR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4916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FUNERAL IN 1965 HAD THE LARGEST ASSEMBLY OF STATESMEN ATTENDING UNTIL THE FUNERAL OF POPE JOHN PAUL II IN 2005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TH AMERICAN COUNTRY REDESIGNED ITS FLAG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UMAN RIGHTS LEADER WAS ASSASSINATED ON FEBRUARY 21,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FORM  A  SPACE  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66760" y="762120"/>
            <a:ext cx="861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8, 1965, COSMONAUT ALEXEY LEONOV BECAME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ERSON TO DO WHAT?  ORBIT THE EARTH, PERFORM A SPACE WALK, OR TAKE A PICTURE FROM SPA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FEATURED THE CAST OF WHAT COMIC STR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ROD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USTON STADIUM OPENED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JOR INITIATIVE DID LYNDON JOHNSON ANNOUNCE DURING THE 1965 STATE OF THE UNION ADDRES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  INTERNATIONAL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UNIVERSITY WAS FOUNDED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GAMBIA AND THE MALDIVES BOTH GOT INDEPENDENCE FROM WHAT COLONIZING NA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K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WHAT CITY PASSED NEW YORK CITY AS THE MOST POPULOUS CITY       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SE FUNERAL IN 1965 HAD THE LARGEST ASSEMBLY OF STATESMEN ATTENDING UNTIL THE FUNERAL OF POPE JOHN PAUL II IN 2005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ORTH AMERICAN COUNTRY REDESIGNED ITS FLAG IN 196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UMAN RIGHTS LEADER WAS ASSASSINATED ON FEBRUARY 21,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2396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8, 1965, COSMONAUT ALEXEY LEONOV BECAME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ERSON TO DO WHAT?  ORBIT THE EARTH, PERFORM A SPACE WALK, OR TAKE A PICTURE FROM SP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5,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FEATURED THE CAST OF WHAT COMIC STR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USTON STADIUM OPENED IN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UNIVERSITY WAS FOUNDED IN 196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6T20:06:28Z</dcterms:created>
  <dc:creator>Jennifer Budzinski</dc:creator>
  <dc:description/>
  <dc:language>en-US</dc:language>
  <cp:lastModifiedBy>Erich Friedman</cp:lastModifiedBy>
  <dcterms:modified xsi:type="dcterms:W3CDTF">2020-09-01T12:14:47Z</dcterms:modified>
  <cp:revision>322</cp:revision>
  <dc:subject/>
  <dc:title>Slide 1</dc:title>
</cp:coreProperties>
</file>