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8FCC-9B2D-416D-922F-B1F415F27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FFB2-48DD-4E96-8F0C-CE6D68722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31B3-E958-4679-8320-954C346FC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C47C-949F-4D60-B659-AC62353C1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0B01-35D5-4CB1-B7E9-FB6D0346C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4C88-A024-4065-BDE4-588703B60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E685-B370-48A2-BD4A-D86308A16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DB08-3560-4475-8EC7-FC8826535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D43F-056F-4C0C-86C4-9B06C787B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A117-4474-4AB4-92B3-DB02DED47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B77F-D3C5-4801-A6A2-1BFF8427D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CABD-BB32-4DDB-9B2B-3AADFCA8F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D9AE-EF7B-4D7F-81AE-B4E375032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61ED-3EA9-4173-B14F-BFC4E3CB3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E65B-A4AB-44DE-AB58-CE65CB958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FB74-7E6B-41F9-854D-6446B8DA1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5CBA-5DAA-4923-90FF-7C43D9ED2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F1F3-F556-4C67-A57F-C0F99F92D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2D16-81DE-44AE-BE59-EDCBDE8D8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F90D-D421-43E5-B16F-4FEBBA141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AD01-3A07-4739-9392-A4A3A58DA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89FB-27D2-4F38-9781-4157F3C81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3E1C-9C59-4E1B-ABD8-4E5F8029E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6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THE GAMBIA AND THE MALDIVES BOTH GOT INDEPENDENCE FROM WHAT COLONIZING NA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WHAT CITY PASSED NEW YORK CITY AS THE MOST POPULOUS CITY     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  SOC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AJOR INITIATIVE DID LYNDON JOHNSON ANNOUNCE DURING THE 1965 STATE OF THE UNION ADDR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TON  CHUR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4916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FUNERAL IN 1965 HAD THE LARGEST ASSEMBLY OF STATESMEN ATTENDING UNTIL THE FUNERAL OF POPE JOHN PAUL II IN 2005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ORTH AMERICAN COUNTRY REDESIGNED ITS FLAG IN 196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COLM 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UMAN RIGHTS LEADER WAS ASSASSINATED ON FEBRUARY 21, 196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FORM  A  SPACE 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RCH 18, 1965, COSMONAUT ALEXEY LEONOV BECAME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ERSON TO DO WHAT?  ORBIT THE EARTH, PERFORM A SPACE WALK, OR TAKE A PICTURE FROM SPA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THE COVER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FEATURED THE CAST OF WHAT COMIC STR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TROD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USTON STADIUM OPENED IN 196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AJOR INITIATIVE DID LYNDON JOHNSON ANNOUNCE DURING THE 1965 STATE OF THE UNION ADDRES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343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IDA  INTERNATIONAL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95320" y="762120"/>
            <a:ext cx="735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AMI UNIVERSITY WAS FOUNDED IN 196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THE GAMBIA AND THE MALDIVES BOTH GOT INDEPENDENCE FROM WHAT COLONIZING NA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K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WHAT CITY PASSED NEW YORK CITY AS THE MOST POPULOUS CITY       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FUNERAL IN 1965 HAD THE LARGEST ASSEMBLY OF STATESMEN ATTENDING UNTIL THE FUNERAL OF POPE JOHN PAUL II IN 2005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ORTH AMERICAN COUNTRY REDESIGNED ITS FLAG IN 196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UMAN RIGHTS LEADER WAS ASSASSINATED ON FEBRUARY 21, 196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72396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RCH 18, 1965, COSMONAUT ALEXEY LEONOV BECAME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ERSON TO DO WHAT?  ORBIT THE EARTH, PERFORM A SPACE WALK, OR TAKE A PICTURE FROM SPA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THE COVER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FEATURED THE CAST OF WHAT COMIC STR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USTON STADIUM OPENED IN 196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AMI UNIVERSITY WAS FOUNDED IN 196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6T20:06:28Z</dcterms:created>
  <dc:creator>Jennifer Budzinski</dc:creator>
  <dc:description/>
  <dc:language>en-US</dc:language>
  <cp:lastModifiedBy>Erich Friedman</cp:lastModifiedBy>
  <dcterms:modified xsi:type="dcterms:W3CDTF">2020-09-01T12:14:47Z</dcterms:modified>
  <cp:revision>322</cp:revision>
  <dc:subject/>
  <dc:title>Slide 1</dc:title>
</cp:coreProperties>
</file>