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031B-AA77-4598-8C04-0D4AE2EE9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3EA0-2A66-4415-9C6A-6EFD18FCD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9FE0-66D8-452C-82AC-516B70CF4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AB17-9242-4D30-BDA0-72B7B04C8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B3D3-9253-4BB2-B4A9-F1E981700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DCF0-FB05-4D27-8359-F8F7DC817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3E11-7D59-4761-9D78-CC9560673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6B74-D0F3-464F-AF07-90D423126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0341-700C-4305-A7AB-D84254A8A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9140-CBB4-48D8-9691-865E582E6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A99D-E55C-4FB6-85CC-A91DF2212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6448-126A-4ECB-9CA3-F00709B33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0109-C55B-4853-85B8-C4B04B1AB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9665-BE67-46F3-98F5-A062D3C45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A390-4E2F-4AC9-BC5F-0A8D27759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1346-A07F-43BF-A32A-143E9B61C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BA12-3EB4-4291-BB75-023EFDDD1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9EFA-B425-4097-9172-F27E82057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22FB-382B-4AB0-B3AA-5A081499E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95F7-1AD1-47F1-8514-E798289D8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6902-0B62-471C-A358-3AEF89375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6888-0FE8-4BC8-AED5-EF7AA23A0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36B3-62FF-48E3-8767-8523E9711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84, PRINCE RELEASED WHAT ALBUM, SONG, AND  FILM WITH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AND ACTRESS WAS THE FIRST MISS AMERICA TO STEP DOWN IN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&amp;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LECOM GIANT WAS BROKEN INTO 8 SMALLER COMPANIES IN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N  HA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RELEASED THEIR MOST SUCCESSFUL ALBUM "MCMLXXXIV" IN 1984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RE'S  THE  BEEF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84, WENDY'S BEGAN RUNNING COMMERCIALS WITH AN OLD LADY ASKING WHAT ICONIC QUES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P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824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84, MICHAEL JACKSON WAS BURNED WHILE FILMING A COMMERCIAL FOR WHAT SOFT DRIN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8628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RA  GAND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DIAN PRIME MINISTER WAS ASSASSINATED IN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HARD  GOE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4 BLACK YOUTHS IN SELF-DEFENSE ON A NYC SUBWAY IN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THE SUMMER OLYMPICS HELD IN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LECOM GIANT WAS BROKEN INTO 8 SMALLER COMPANIES IN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OR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DYSTOPIAN NOVEL "198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 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84, PRINCE RELEASED WHAT ALBUM, SONG, AND  FILM WITH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NESSA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AND ACTRESS WAS THE FIRST MISS AMERICA TO STEP DOWN IN 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RELEASED THEIR MOST SUCCESSFUL ALBUM "MCMLXXXIV" IN 1984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84, WENDY'S BEGAN RUNNING COMMERCIALS WITH AN OLD LADY ASKING WHAT ICONIC QUES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84, MICHAEL JACKSON WAS BURNED WHILE FILMING A COMMERCIAL FOR WHAT SOFT DRI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23960"/>
            <a:ext cx="7925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DIAN PRIME MINISTER WAS ASSASSINATED IN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4 BLACK YOUTHS IN SELF-DEFENSE ON A NYC SUBWAY IN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ERE THE SUMMER OLYMPICS HELD IN 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DYSTOPIAN NOVEL "1984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12:55:22Z</dcterms:created>
  <dc:creator>Jennifer Budzinski</dc:creator>
  <dc:description/>
  <dc:language>en-US</dc:language>
  <cp:lastModifiedBy>Erich Friedman</cp:lastModifiedBy>
  <dcterms:modified xsi:type="dcterms:W3CDTF">2020-09-01T12:18:11Z</dcterms:modified>
  <cp:revision>333</cp:revision>
  <dc:subject/>
  <dc:title>Slide 1</dc:title>
</cp:coreProperties>
</file>