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17FD-C32A-4716-B214-EB880D691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268C-655C-4776-BBB9-45C00045A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B148-8C22-470A-AB9C-B209555ED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FC60-7EAC-49CA-988D-05B6FC2C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0714-E5B0-4860-A09F-FAC195770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7B2F-F499-4958-97AF-D83E0EED3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58EF-3537-440E-8644-37228091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96B7-48CA-4D9E-8DC2-DE2975804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5C1F-A3AF-44C5-8E3F-1EA17EB43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7655-8FD1-4E24-AAD5-890C3C9AE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42EC-855E-4F20-BAFE-2750E042E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2A27-394D-4C33-9BEA-48F546AAC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04C2-19EE-43AF-9B70-C0E09F7AC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6E5D-F43F-4DE0-8AB3-15283A38A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AE96-53F6-4298-9DFC-72FF6DCDA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CD98-F38F-4EBD-A5EB-0AD0D8900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97B2-4AFA-483D-ADA9-2DAD52FC8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59E0-8049-4D85-95AE-F345E286D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BE92-0A0B-4990-824A-FA781FF51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58B3-A321-4AB7-B47B-AACAC9252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4131-5490-49DB-A4B3-7A2597DFB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FA7-5A04-4EFA-86A9-799762401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3A7E-9D1E-421F-95A2-D72FDEA2A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PRINCE RELEASED WHAT ALBUM, SONG, AND  FILM WITH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AND ACTRESS WAS THE FIRST MISS AMERICA TO STEP DOWN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&amp;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LECOM GIANT WAS BROKEN INTO 8 SMALLER COMPANIES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  H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RELEASED THEIR MOST SUCCESSFUL ALBUM "MCMLXXXIV" IN 1984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RE'S  THE  BEE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WENDY'S BEGAN RUNNING COMMERCIALS WITH AN OLD LADY ASKING WHAT ICONIC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824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MICHAEL JACKSON WAS BURNED WHILE FILMING A COMMERCIAL FOR WHAT SOFT DRI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862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RA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IAN PRIME MINISTER WAS ASSASSINATED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HARD  GOE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4 BLACK YOUTHS IN SELF-DEFENSE ON A NYC SUBWAY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SUMMER OLYMPICS HELD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LECOM GIANT WAS BROKEN INTO 8 SMALLER COMPANIES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OR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DYSTOPIAN NOVEL "198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PRINCE RELEASED WHAT ALBUM, SONG, AND  FILM WITH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ESSA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AND ACTRESS WAS THE FIRST MISS AMERICA TO STEP DOWN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RELEASED THEIR MOST SUCCESSFUL ALBUM "MCMLXXXIV" IN 1984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WENDY'S BEGAN RUNNING COMMERCIALS WITH AN OLD LADY ASKING WHAT ICONIC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MICHAEL JACKSON WAS BURNED WHILE FILMING A COMMERCIAL FOR WHAT SOFT DRI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2396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IAN PRIME MINISTER WAS ASSASSINATED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4 BLACK YOUTHS IN SELF-DEFENSE ON A NYC SUBWAY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SUMMER OLYMPICS HELD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DYSTOPIAN NOVEL "198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12:55:22Z</dcterms:created>
  <dc:creator>Jennifer Budzinski</dc:creator>
  <dc:description/>
  <dc:language>en-US</dc:language>
  <cp:lastModifiedBy>Erich Friedman</cp:lastModifiedBy>
  <dcterms:modified xsi:type="dcterms:W3CDTF">2020-09-01T12:18:11Z</dcterms:modified>
  <cp:revision>333</cp:revision>
  <dc:subject/>
  <dc:title>Slide 1</dc:title>
</cp:coreProperties>
</file>