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2216-B78E-41FD-8037-017988571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9BD4-2672-4D4A-BA8C-8DE2C6219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656C-56DC-4D38-BFF1-5C14F7AB9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62F6-080B-4B96-B127-6337F9571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8DE6-13E2-4248-8C48-3E3FF20D6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79AD-C467-4B7D-8DCC-EA36585BE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909F-68C7-4C9C-871B-CE4651213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D254-1A6E-40F4-90F8-A64830BF2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C870-F31E-4AB2-834E-E1929158C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E94D-B7D3-4257-B540-C4BB86B3F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BF6C-BC56-42F8-BA05-CE0607458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0D6A-A3A2-4F43-B244-283248792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968B-5D83-4BD2-8428-FE8AAA5DE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5C4D-B34E-4FF0-A82B-2E1F8D262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60C2-D4A1-4313-A429-6BAABB832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4BDE-DF27-4C39-AB8D-EB6983895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2714-07AE-42E8-8333-851CF4BFD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998B-35A0-43AE-B011-C06F6610D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62F0-8ABE-45D7-A364-E4AD776CA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67A7-031D-43BE-9998-6377EA5D7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94E8-B3FA-4E7B-9FD8-09C81F0BC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DEAA-0E07-498D-8B36-D200BD8E7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6661-BDF9-4FB5-BBE3-C5034D966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YEAR IN THE 1970'S DID THESE EVENTS HAPPEN? (THE ANSWERS ARE ALL DIFFEREN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TLES DISBAND AND THE U.S. INVADES CAMBOD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NAMA CANAL IS RETURNED TO PANAMA AND ELVIS PRESLEY D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CONCORDE FLIGHT TAKES PLACE AND THE APPLE COMPUTER COMPANY IS FORM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7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UPREME COURT DECIDES ROE V. WADE AND SECRETARIAT WINS THE TRIPLE CR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OTING AGE IS LOWERED TO 18 AND WALT DISNEY WORLD OP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7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MILE ISLAND NUCLEAR ACCIDENT OCCURS AND AYATOLLAH KHOMEINI RETURNS TO POWER IN IR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7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IDENT NIXON RESIGNS AND THE UPC BAR CODE IS INTRODUC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TURDAY NIGHT LIVE" AIRS FOR THE FIRST TIME AND THE VIETNAM WAR END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28600" y="7621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BO BEGINS BROADCASTING AND 11 ISRAELI ATHLETES ARE MURDERED AT THE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CONCORDE FLIGHT TAKES PLACE AND THE APPLE COMPUTER COMPANY IS FORM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PES JOHN PAUL I AND II BECOME POPE AND THE FIRST TEST TUBE BABY IS B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81160" y="762120"/>
            <a:ext cx="6781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TLES DISBAND AND THE U.S. INVADES CAMBOD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NAMA CANAL IS RETURNED TO PANAMA AND ELVIS PRESLEY D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UPREME COURT DECIDES ROE V. WADE AND SECRETARIAT WINS THE TRIPLE CR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OTING AGE IS LOWERED TO 18 AND WALT DISNEY WORLD OP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MILE ISLAND NUCLEAR ACCIDENT OCCURS AND AYATOLLAH KHOMEINI RETURNS TO POWER IN IR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58880"/>
            <a:ext cx="76197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IDENT NIXON RESIGNS AND THE UPC BAR CODE IS INTRODUC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TURDAY NIGHT LIVE" AIRS FOR THE FIRST TIME AND THE VIETNAM WAR END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BO BEGINS BROADCASTING AND 11 ISRAELI ATHLETES ARE MURDERED AT THE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PES JOHN PAUL I AND II BECOME POPE AND THE FIRST TEST TUBE BABY IS B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9T18:03:36Z</dcterms:created>
  <dc:creator>Jennifer Budzinski</dc:creator>
  <dc:description/>
  <dc:language>en-US</dc:language>
  <cp:lastModifiedBy>Erich Friedman</cp:lastModifiedBy>
  <dcterms:modified xsi:type="dcterms:W3CDTF">2020-09-01T12:19:48Z</dcterms:modified>
  <cp:revision>339</cp:revision>
  <dc:subject/>
  <dc:title>Slide 1</dc:title>
</cp:coreProperties>
</file>