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F99-A816-47E1-8C18-B86ACF37D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9E8-1D2B-4BB3-946C-D4D2CBAF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597-D7A0-4CC7-90CC-33E4D87E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E5FC-C25C-479A-AF93-F2806C8E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679-110C-46F8-9429-9DFCBB49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35A4-5476-48B0-9CC8-DE03F724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2C55-A38B-434D-AF16-B3F0B103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AB1-B600-487B-BD77-354B3FB05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1C2-91FA-4F16-BC0A-A6E31DC1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C46F-ECE7-4EAE-88B1-E9ECFEDB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9C7-5FA0-4AB5-9CF6-BE529FB3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0CFE-1A78-4CC5-98D0-42F4600D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828-19A3-42C1-9C70-BABB85E9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9833-A72F-4784-8751-FE03911D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CA3-3B26-453C-9B34-7AE9CBE5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897D-2FDD-4C5B-B57A-3D6E3FF9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A17-B62E-465D-B51D-BD27CE19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398-D442-4055-B528-B6934B6E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72A-B1AF-4A5D-B50E-6750DACD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1EDE-3091-440D-9AF5-78F192B3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0746-15C8-4415-9A42-34BBC6CE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D31-6225-4A82-85D8-E316FCDB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4BD-03CD-43D7-AF46-A549D4DF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7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DISBAND AND THE U.S. INVADES CAMBO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NAMA CANAL IS RETURNED TO PANAMA AND ELVIS PRESLEY 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NCORDE FLIGHT TAKES PLACE AND THE APPLE COMPUTER COMPANY IS 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PREME COURT DECIDES ROE V. WADE AND SECRETARIAT WINS THE TRIPLE C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OTING AGE IS LOWERED TO 18 AND WALT DISNEY WORLD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ILE ISLAND NUCLEAR ACCIDENT OCCURS AND AYATOLLAH KHOMEINI RETURNS TO POWER IN I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NIXON RESIGNS AND THE UPC BAR CODE IS INT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 LIVE" AIRS FOR THE FIRST TIME AND THE VIETNAM WAR E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BO BEGINS BROADCASTING AND 11 ISRAELI ATHLETES ARE MURDERED AT THE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NCORDE FLIGHT TAKES PLACE AND THE APPLE COMPUTER COMPANY IS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S JOHN PAUL I AND II BECOME POPE AND THE FIRST TEST TUBE BABY I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DISBAND AND THE U.S. INVADES CAMBO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NAMA CANAL IS RETURNED TO PANAMA AND ELVIS PRESLEY 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PREME COURT DECIDES ROE V. WADE AND SECRETARIAT WINS THE TRIPLE CR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OTING AGE IS LOWERED TO 18 AND WALT DISNEY WORLD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ILE ISLAND NUCLEAR ACCIDENT OCCURS AND AYATOLLAH KHOMEINI RETURNS TO POWER IN I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5888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NIXON RESIGNS AND THE UPC BAR CODE IS INTRODU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 LIVE" AIRS FOR THE FIRST TIME AND THE VIETNAM WAR E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BO BEGINS BROADCASTING AND 11 ISRAELI ATHLETES ARE MURDERED AT THE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S JOHN PAUL I AND II BECOME POPE AND THE FIRST TEST TUBE BABY IS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8:03:36Z</dcterms:created>
  <dc:creator>Jennifer Budzinski</dc:creator>
  <dc:description/>
  <dc:language>en-US</dc:language>
  <cp:lastModifiedBy>Erich Friedman</cp:lastModifiedBy>
  <dcterms:modified xsi:type="dcterms:W3CDTF">2020-09-01T12:19:48Z</dcterms:modified>
  <cp:revision>339</cp:revision>
  <dc:subject/>
  <dc:title>Slide 1</dc:title>
</cp:coreProperties>
</file>