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B7C9-2617-47EF-806A-262499ECD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21DC-9D7E-4382-B5F0-9F2538EFB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A48-80F9-46FD-9A09-4B4DF6672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45B-9EEC-47EA-A451-1047B29C7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E042-A889-44BF-B783-951CE0DBA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F42D-9004-4E3B-9B83-B2930D2C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9A07-F732-49BD-8636-CED5388EF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078A-BA9B-4548-B48D-57B72F9B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EE8C-30A7-4128-A968-53D80558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6236-E5D4-4AA6-AD32-853B0E9B0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6A12-7176-4B30-83ED-D7FE9F34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A039-8606-494B-BD32-1F3473C9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C617-1F40-4A97-8233-C4970DF6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9032-6D6B-4DD2-9040-73125D808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9D0F-AD1D-4453-8F2F-93CA8312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F86A-3D7E-4328-8EB6-24D44465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BB66-3AB1-445D-B3EF-E4C6EF07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3EFA-4D44-4CB1-83AE-11EE6244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73A0-58EE-40A4-9A19-93C9F264D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05BB-7AF8-40CD-BCAE-D8F5CA69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76B3-D41B-4B09-AFB0-74D4C2A3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B4C5-2167-40F4-B9CA-FD8994F03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49A-29EB-4BFC-96B2-9B9834738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YEAR IN THE 1980'S DID THESE EVENTS HAPPEN? (THE ANSWERS ARE ALL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RNOBYL NUCLEAR MELTDOWN OCCURS       AND SPACE SHUTTLE CHALLENGER EXPL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RAN-CONTRA SCANDAL ERUPTS AND MIKHAIL GORBACHEV CALLS FOR GLASN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MMERCIAL CELL PHONE CALL IS MADE AND MICHAEL JACKSON RELEASES "THRIL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CK MARKET PLUNGES ON BLACK MONDAY AND ELI LILLY STARTS SELLING PROZ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ENNON IS MURDERED AND MOUNT ST. HELENS ERUP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NHARD GOETZ SHOOTS 4 WOULD-BE ATTACKERS ON A SUBWAY AND PRIME MINISTER INDIRA GANDHI I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N AM FLIGHT 103 IS BOMBED OVER SCOTLAND AND CD'S OUTSELL LP'S FOR THE FIRS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GENTINA INVADES THE FALKLAND ISLANDS AND THE MOVIE "E.T." IS RELEAS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RLIN WALL FALLS AND STUDENT PROTESTERS ARE KILLED IN TIANANMEN SQU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MMERCIAL CELL PHONE CALL IS MADE AND MICHAEL JACKSON RELEASES "THRIL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E CHARLES MARRIES DIANA SPENCER AND AIDS IS RECOGNIZED BY THE CD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RNOBYL NUCLEAR MELTDOWN OCCURS       AND SPACE SHUTTLE CHALLENGER EXPL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6212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RAN-CONTRA SCANDAL ERUPTS AND MIKHAIL GORBACHEV CALLS FOR GLASN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CK MARKET PLUNGES ON BLACK MONDAY AND ELI LILLY STARTS SELLING PROZ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ENNON IS MURDERED AND MOUNT ST. HELENS ERUP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NHARD GOETZ SHOOTS 4 WOULD-BE ATTACKERS ON A SUBWAY AND PRIME MINISTER INDIRA GANDHI I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2396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N AM FLIGHT 103 IS BOMBED OVER SCOTLAND AND CD'S OUTSELL LP'S FOR THE FIRST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GENTINA INVADES THE FALKLAND ISLANDS AND THE MOVIE "E.T." IS RELEAS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RLIN WALL FALLS AND STUDENT PROTESTERS ARE KILLED IN TIANANMEN SQU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E CHARLES MARRIES DIANA SPENCER AND AIDS IS RECOGNIZED BY THE CD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45:47Z</dcterms:created>
  <dc:creator>Jennifer Budzinski</dc:creator>
  <dc:description/>
  <dc:language>en-US</dc:language>
  <cp:lastModifiedBy>Erich Friedman</cp:lastModifiedBy>
  <dcterms:modified xsi:type="dcterms:W3CDTF">2020-09-01T12:21:32Z</dcterms:modified>
  <cp:revision>339</cp:revision>
  <dc:subject/>
  <dc:title>Slide 1</dc:title>
</cp:coreProperties>
</file>