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7FE6-A4EC-4FDB-979C-390D9B9B4F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F721-815B-4E2C-87C1-33BEEAD50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45DE1-1C96-4D5B-BF6E-C41AEDB1F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9169-B3DE-430C-9F31-E792A0804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2564-5785-468A-B1CA-2DFBCE59F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5AB1D-4C3A-4063-A4D0-2EA8FFACF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E8C3-CC83-48F3-82A4-70CE8B91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EA84-5190-4F40-928F-C9F8DD4B0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828E-9922-4846-9808-364EB3D60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FDD2-1E31-4F7C-91CE-A85D14A4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1ED5-C1B8-432F-A544-DAD4F0971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E9E8-3CB7-438D-B121-07CBDC543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6EDF-FFA9-4EA2-886A-CA4D2D60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3946-5DDE-4636-9E38-A858C7949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6A2E-FF82-4B35-A710-1E3AFC4DB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FC4C-2FFE-4F58-BC97-0EF5B518F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7799-B8D4-4059-B6B6-9B58A3B7A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E750-C37B-42CD-BDDD-DB9AAE771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23DD-0EA6-4B75-9190-39AEABDD7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463D-AA86-41F9-9044-A6365F73B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32BC1-59C3-4B04-8CF0-BE6116F0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E7D2-5D02-470C-9F1B-3738D7F90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B5374-6655-46DB-87A2-9D0152615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6212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YEAR IN THE 1980'S DID THESE EVENTS HAPPEN? (THE ANSWERS ARE ALL DIFFERE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76240" y="762120"/>
            <a:ext cx="73915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76240" y="762120"/>
            <a:ext cx="73915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8600" y="762120"/>
            <a:ext cx="8686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IRST COMMERCIAL CELL PHONE CALL IS MADE AND MICHAEL JACKSON RELEASES "THRILL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HERNOBYL NUCLEAR MELTDOWN OCCURS       AND SPACE SHUTTLE CHALLENGER EXPLOD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8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257480" y="762120"/>
            <a:ext cx="6629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RAN-CONTRA SCANDAL ERUPTS AND MIKHAIL GORBACHEV CALLS FOR GLASN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TOCK MARKET PLUNGES ON BLACK MONDAY AND ELI LILLY STARTS SELLING PROZA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OHN LENNON IS MURDERED AND MOUNT ST. HELENS ERUP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RNHARD GOETZ SHOOTS 4 WOULD-BE ATTACKERS ON A SUBWAY AND PRIME MINISTER INDIRA GANDHI I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23960"/>
            <a:ext cx="7238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N AM FLIGHT 103 IS BOMBED OVER SCOTLAND AND CD'S OUTSELL LP'S FOR THE FIRST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RGENTINA INVADES THE FALKLAND ISLANDS AND THE MOVIE "E.T." IS RELEASE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RLIN WALL FALLS AND STUDENT PROTESTERS ARE KILLED IN TIANANMEN SQU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E CHARLES MARRIES DIANA SPENCER AND AIDS IS RECOGNIZED BY THE CD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9T15:45:47Z</dcterms:created>
  <dc:creator>Jennifer Budzinski</dc:creator>
  <dc:description/>
  <dc:language>en-US</dc:language>
  <cp:lastModifiedBy>Erich Friedman</cp:lastModifiedBy>
  <dcterms:modified xsi:type="dcterms:W3CDTF">2020-09-01T12:21:32Z</dcterms:modified>
  <cp:revision>339</cp:revision>
  <dc:subject/>
  <dc:title>Slide 1</dc:title>
</cp:coreProperties>
</file>