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5ADD-A2BB-45EB-944D-625E3991F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F1E3-3AD8-44F6-B202-D22CB0A7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863-07A0-4A10-990C-2E2C33F8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5665-247B-4641-8A66-538108B1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E9B7-00B0-4947-8FD6-2C0A4991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A015-EDDE-424A-A89B-E664DE26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240-65D7-4DC6-B462-3F29B5B2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2C73-DBD4-4B91-9ACD-FD52ED49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8FC-0F7B-40E4-9E3D-D5201C38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054-9FF2-404B-8AC0-5B2F9737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ED98-BCDF-4CB6-B504-ECCE720F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D42-831D-4CBE-BC34-A03C5483D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6FD4-5CB7-4E14-943B-1095C568D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B172-28E1-413C-BC62-5F8EFF58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4DF-E9CF-4974-AF96-6BDDB2EDF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588E-BB0B-4676-B474-85C9CF156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DFB-86F8-4046-8DEC-17F4FA5F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68E2-9C44-4C6A-BEE2-F8EB2F74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C68E-20D2-4678-B9B3-E61D641F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BDFB-746F-4AEC-B160-1F46023A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A10A-5425-477D-93EC-34B6D131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DB0-B8D1-448A-8377-C7E672CE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4044-8298-4FA2-8092-EC102AFC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8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RNOBYL NUCLEAR MELTDOWN OCCURS       AND SPACE SHUTTLE CHALLENGER EXPL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RAN-CONTRA SCANDAL ERUPTS AND MIKHAIL GORBACHEV CALLS FOR GLASN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MMERCIAL CELL PHONE CALL IS MADE AND MICHAEL JACKSON RELEASES "THR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CK MARKET PLUNGES ON BLACK MONDAY AND ELI LILLY STARTS SELLING PROZ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ENNON IS MURDERED AND MOUNT ST. HELENS ERUP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NHARD GOETZ SHOOTS 4 WOULD-BE ATTACKERS ON A SUBWAY AND PRIME MINISTER INDIRA GANDHI I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N AM FLIGHT 103 IS BOMBED OVER SCOTLAND AND CD'S OUTSELL LP'S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ENTINA INVADES THE FALKLAND ISLANDS AND THE MOVIE "E.T." IS RELEAS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RLIN WALL FALLS AND STUDENT PROTESTERS ARE KILLED IN TIANANMEN SQU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MMERCIAL CELL PHONE CALL IS MADE AND MICHAEL JACKSON RELEASES "THR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E CHARLES MARRIES DIANA SPENCER AND AIDS IS RECOGNIZED BY THE CD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RNOBYL NUCLEAR MELTDOWN OCCURS       AND SPACE SHUTTLE CHALLENGER EXPL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RAN-CONTRA SCANDAL ERUPTS AND MIKHAIL GORBACHEV CALLS FOR GLASN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CK MARKET PLUNGES ON BLACK MONDAY AND ELI LILLY STARTS SELLING PROZ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ENNON IS MURDERED AND MOUNT ST. HELENS ERUP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NHARD GOETZ SHOOTS 4 WOULD-BE ATTACKERS ON A SUBWAY AND PRIME MINISTER INDIRA GANDHI I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2396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N AM FLIGHT 103 IS BOMBED OVER SCOTLAND AND CD'S OUTSELL LP'S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ENTINA INVADES THE FALKLAND ISLANDS AND THE MOVIE "E.T." IS RELEAS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RLIN WALL FALLS AND STUDENT PROTESTERS ARE KILLED IN TIANANMEN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E CHARLES MARRIES DIANA SPENCER AND AIDS IS RECOGNIZED BY THE CD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45:47Z</dcterms:created>
  <dc:creator>Jennifer Budzinski</dc:creator>
  <dc:description/>
  <dc:language>en-US</dc:language>
  <cp:lastModifiedBy>Erich Friedman</cp:lastModifiedBy>
  <dcterms:modified xsi:type="dcterms:W3CDTF">2020-09-01T12:21:32Z</dcterms:modified>
  <cp:revision>339</cp:revision>
  <dc:subject/>
  <dc:title>Slide 1</dc:title>
</cp:coreProperties>
</file>