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8D93-F1DD-4980-AF37-0C4B9423C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C123-B3B3-46B6-B9EA-98561E59D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7BC0-45C2-403B-9B1A-D7825CE15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5642-6F8C-4054-9074-560C1B7C8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FD31-58D6-4B94-8028-0AB3E9D25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6C4C-3AF5-43D9-8E0D-917929E21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39D0-9182-4990-A622-2E2F55EDD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8256-1C46-4382-A4C2-EFAF765EC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E24A-E5B8-4412-90F6-76BBF3BCC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EBFE-54F9-44F1-8946-26C13883D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4C84-AA53-4D0B-8CCD-2FFA31209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6429-D967-4F2A-83B2-C3FA575EA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18E4-27BA-4CC4-9CF9-8A76BB9F4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0AA9-83E7-42F0-B52E-BE0AC4E65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D361-1370-46FC-83C6-2AEEE68A9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805E-29E5-4FCF-BC10-6A1F5D5FF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F1D7-0AB6-4F8F-AB13-9A113518E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3922-C37E-43E6-B34B-8470857FA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FA7F-27C9-4C94-8347-305C05F74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A3BF-0512-4852-A1A5-5005F80C8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6F01-0958-4906-A46F-A17936E4F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A44E-069D-4BF0-A758-2A56FFEF7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BEB6-9876-4600-B2C9-9354B70D9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62120" y="10666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CH YEAR IN THE 1990'S DID THESE EVENTS HAPPEN? (THE ANSWERS ARE ALL DIFFERENT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BAY IS FOUNDED AND        THE WORLD TRADE ORGANIZATION IS CRE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ERATION DESERT STORM SUCCEEDS AND BORIS YELTSIN IS ELECTED PRESIDENT OF RUSS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LB SEASON IS CANCELED WHEN THE PLAYERS STRIKE AND THE CHUNNEL IS COMPLE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HUBBLE TELESCOPE IS LAUNCHED AND NELSON MANDELA IS RELEASED FROM PRI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IDENT CLINTON IS IMPEACHED AND THE COLUMBINE HIGH SCHOOL GUN SHOOTING OCCU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FTA IS SIGNED INTO LAW AND THE BRANCH DAVIDIANS ARE ATTACKED IN WA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GLISH ROYALS CHARLES AND DIANA GET DIVORCED AND MAJOR LEAGUE SOCCER DEBUTS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OGLE IS FOUNDED AND THE U.S. HAS A BUDGET SURPLUS FOR THE FIRST TIME IN 30 YEAR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1904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ARRY POTTER BOOK IS PUBLISHED AND A SHEEP IS CLONED FOR THE FIRST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LB SEASON IS CANCELED WHEN THE PLAYERS STRIKE AND THE CHUNNEL IS COMPLE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UROPEAN UNION IS ESTABLISHED AND THE MALL OF AMERICA OP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BAY IS FOUNDED AND        THE WORLD TRADE ORGANIZATION IS CRE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14400" y="7621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ERATION DESERT STORM SUCCEEDS AND BORIS YELTSIN IS ELECTED PRESIDENT OF RUSS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HUBBLE TELESCOPE IS LAUNCHED AND NELSON MANDELA IS RELEASED FROM PRI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IDENT CLINTON IS IMPEACHED AND THE COLUMBINE HIGH SCHOOL GUN SHOOTING OCCU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FTA IS SIGNED INTO LAW AND THE BRANCH DAVIDIANS ARE ATTACKED IN WAC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95360" y="72396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GLISH ROYALS CHARLES AND DIANA GET DIVORCED AND MAJOR LEAGUE SOCCER DEBUTS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OGLE IS FOUNDED AND THE U.S. HAS A BUDGET SURPLUS FOR THE FIRST TIME IN 30 YEAR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ARRY POTTER BOOK IS PUBLISHED AND A SHEEP IS CLONED FOR THE FIRST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UROPEAN UNION IS ESTABLISHED AND THE MALL OF AMERICA OPE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9T21:10:56Z</dcterms:created>
  <dc:creator>Jennifer Budzinski</dc:creator>
  <dc:description/>
  <dc:language>en-US</dc:language>
  <cp:lastModifiedBy>Erich Friedman</cp:lastModifiedBy>
  <dcterms:modified xsi:type="dcterms:W3CDTF">2020-09-01T12:22:57Z</dcterms:modified>
  <cp:revision>340</cp:revision>
  <dc:subject/>
  <dc:title>Slide 1</dc:title>
</cp:coreProperties>
</file>