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44CF-A3DA-4BF0-BCFE-377BDB8C8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7BF4-5063-4721-BBC5-C9B7728EC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3B4C-83C5-4242-92BF-E78A86508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6DC4-6363-41A5-96F9-F3566636F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CD5E-326B-411C-BC32-983046AA2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BBB4-FD21-496D-8384-42D0AAFDF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B3A9-5ECF-4B55-918E-F1C4CAE13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6AF4-B542-405A-BE4C-705AB372A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1E80-EB06-417D-A846-DB9D6295C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71A3-26EC-4840-B28B-D8A88658F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6398-6BB2-496B-8A95-E2243FF0D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7334-E8F7-4BAC-9B68-72E544B3E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27DC-3F73-463D-95B4-0F9DB267C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E0F9-3E69-4C9E-8B15-A71B52C54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AF15-BF65-4650-9E23-DB95B0396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66EB-A99C-4581-B780-3F24AA561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0F35-5772-4EA1-8B9E-0FF13077D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4F27-1B43-478E-B015-574C6673A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404F-4F7B-4BEE-A0C9-94A8EB1E3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DD3C-6153-4EFD-8068-883782E6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015A-0D99-4CDD-AD09-3E7584DD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00F6-7BE2-45F7-BEF4-0A7734D96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1055-44B4-4CAF-9BD4-2A5E5DADE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YEAR IN THE 1990'S DID THESE EVENTS HAPPEN? (THE ANSWERS ARE ALL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BAY IS FOUNDED AND        THE WORLD TRADE ORGANIZATION IS CRE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RATION DESERT STORM SUCCEEDS AND BORIS YELTSIN IS ELECTED PRESIDENT OF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LB SEASON IS CANCELED WHEN THE PLAYERS STRIKE AND THE CHUNNEL IS COMPLE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BBLE TELESCOPE IS LAUNCHED AND NELSON MANDELA IS RELEASED FROM PRI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CLINTON IS IMPEACHED AND THE COLUMBINE HIGH SCHOOL GUN SHOOTING OCC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FTA IS SIGNED INTO LAW AND THE BRANCH DAVIDIANS ARE ATTACKED IN WA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ISH ROYALS CHARLES AND DIANA GET DIVORCED AND MAJOR LEAGUE SOCCER DEBUT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OGLE IS FOUNDED AND THE U.S. HAS A BUDGET SURPLUS FOR THE FIRST TIME IN 30 YE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RRY POTTER BOOK IS PUBLISHED AND A SHEEP IS CLONED FOR THE FIRST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LB SEASON IS CANCELED WHEN THE PLAYERS STRIKE AND THE CHUNNEL IS COMPLE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 UNION IS ESTABLISHED AND THE MALL OF AMERICA OP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BAY IS FOUNDED AND        THE WORLD TRADE ORGANIZATION IS CRE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ERATION DESERT STORM SUCCEEDS AND BORIS YELTSIN IS ELECTED PRESIDENT OF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BBLE TELESCOPE IS LAUNCHED AND NELSON MANDELA IS RELEASED FROM PRI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CLINTON IS IMPEACHED AND THE COLUMBINE HIGH SCHOOL GUN SHOOTING OCC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FTA IS SIGNED INTO LAW AND THE BRANCH DAVIDIANS ARE ATTACKED IN WA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2396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ISH ROYALS CHARLES AND DIANA GET DIVORCED AND MAJOR LEAGUE SOCCER DEBUT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OGLE IS FOUNDED AND THE U.S. HAS A BUDGET SURPLUS FOR THE FIRST TIME IN 30 YEAR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RRY POTTER BOOK IS PUBLISHED AND A SHEEP IS CLONED FOR THE FIRST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 UNION IS ESTABLISHED AND THE MALL OF AMERICA OP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21:10:56Z</dcterms:created>
  <dc:creator>Jennifer Budzinski</dc:creator>
  <dc:description/>
  <dc:language>en-US</dc:language>
  <cp:lastModifiedBy>Erich Friedman</cp:lastModifiedBy>
  <dcterms:modified xsi:type="dcterms:W3CDTF">2020-09-01T12:22:57Z</dcterms:modified>
  <cp:revision>340</cp:revision>
  <dc:subject/>
  <dc:title>Slide 1</dc:title>
</cp:coreProperties>
</file>