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11A-5070-487F-AB4F-FD927D55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BEAF-4AC5-455F-A01B-394198F0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02C-CA8D-40EB-A874-488994EA5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64C-EADD-47F1-A342-B33EC948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EE4-566F-44D4-AEF6-9B246A15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10E-019E-4479-BDCC-FF535362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4F0-AD0F-4C66-9EA7-57636B44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2A8-FD3F-4EF4-83EF-91135E36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9A8-F656-4B60-8F3D-F94054946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238F-F5BF-484A-8CF0-76EB7131C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9C7A-16CA-4FAA-8F53-F6589883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91B-F895-4AC4-BE8B-79EF7A19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CE31-06CD-461E-9DFD-760C2167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E81D-009A-4216-A059-F65D6D9E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8415-139C-40CD-BF16-E9E47880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D03-84FD-4A0C-BDD4-85DAE77C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10D-F669-4962-B398-F0FE5A19E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522-2167-4E51-A65D-4C1E50D8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3882-DE04-4D4F-9998-50AF65CB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6FC-44E1-4CCC-BD6E-E712E437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4111-93B9-46E1-866C-DF270211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293-5E5D-4D0E-9F7A-9CC0E0FB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FA97-D22E-41BD-9C89-FA40FAAF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ICKNAME WAS THE "IRON BUTTER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PRESIDENT IN FRENCH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FIGURES DID NOT LIVE I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.C.?  CONFUCIUS, BUDDHA, PYTHAGORAS, OR 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5000"/>
            <a:ext cx="708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43000" y="49528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N EMPIRE WAS LOCATED IN WHAT IS NOW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PAK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GAINING INDEPENDENCE, WHAT WAS BANGLADES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90720" y="44197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'S  FLIGHT  FROM  MECCA  TO  MED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YEAR OF THE ISLAMIC CALENDAR MARKS WHAT IMPORTANT E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SEE THE PACIF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CKED ROME IN 410, END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FIGURES DID NOT LIVE I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.C.?  CONFUCIUS, BUDDHA, PYTHAGORAS, OR N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B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GANDAN CITY'S AIRPORT DID AN ISRAELI COMMANDO RAID RESCUE 103 HOSTAGES IN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9528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ELDA  MAR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ICKNAME WAS THE "IRON BUTTER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OIS  MITTER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PRESIDENT IN FRENCH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FIGURE CROSSED THE RUB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N EMPIRE WAS LOCATED IN WHAT IS NOW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GAINING INDEPENDENCE, WHAT WAS BANGLADES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YEAR OF THE ISLAMIC CALENDAR MARKS WHAT IMPORTANT EV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SEE THE PACIF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CKED ROME IN 410, ENDING THE ROMAN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GANDAN CITY'S AIRPORT DID AN ISRAELI COMMANDO RAID RESCUE 103 HOSTAGES IN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16:14:02Z</dcterms:created>
  <dc:creator>Jennifer Budzinski</dc:creator>
  <dc:description/>
  <dc:language>en-US</dc:language>
  <cp:lastModifiedBy>Erich Friedman</cp:lastModifiedBy>
  <dcterms:modified xsi:type="dcterms:W3CDTF">2020-09-01T12:24:31Z</dcterms:modified>
  <cp:revision>363</cp:revision>
  <dc:subject/>
  <dc:title>Slide 1</dc:title>
</cp:coreProperties>
</file>