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EA5A-F7BB-4446-9B0D-AEB425167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ACEF-00BB-4A60-B2C8-58781351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2988-171F-44D8-9F31-F4F6E3CB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8AFD-F0F4-45F2-8843-836FD331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689C-BD92-49FF-982C-3E6B8B8AE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42A0-DE14-40EC-A7B3-A8C990A1D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0B2A-AC13-4447-B0AC-4ECFAA91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573D-BFA1-4AA2-AA4E-8E6E427C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D5DB-B8DD-4462-BDAC-1FE4A889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45F7-F97D-4920-AE00-9E13873FE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483-9ECC-469F-A458-5F24A47D1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04EB-E1DF-4E42-8626-C34EB2476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A8EC-6231-46AA-A026-6F09DE9A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528A-1C19-4490-90C7-F6372FE03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F711-AC99-4124-9293-70A74286C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2AFF-EF7F-41C8-9AE5-B11E9FBA6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521E-3829-449B-804D-308429541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5995-095C-432E-999E-E4E18E89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58F0-7CEF-4421-9724-3CE08B687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283E-EC10-4A2E-907D-CBCFFBAA1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4CAAA-6BCA-4EA7-B913-EBEA4E2E3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55E1-9D9C-4D53-8EE8-667F0BCAF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A886-CF3F-42FE-B6EF-496508B7B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523520"/>
            <a:ext cx="6629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ICKNAME WAS THE "IRON BUTTER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PRESIDENT IN FRENCH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FIGURES DID NOT LIVE I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.C.?  CONFUCIUS, BUDDHA, PYTHAGORAS, OR N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  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5000"/>
            <a:ext cx="708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FIGURE CROSSED THE RUB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143000" y="495288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N EMPIRE WAS LOCATED IN WHAT IS NOW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 PAK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GAINING INDEPENDENCE, WHAT WAS BANGLADES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90720" y="4419720"/>
            <a:ext cx="7162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'S  FLIGHT  FROM  MECCA  TO  MED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YEAR OF THE ISLAMIC CALENDAR MARKS WHAT IMPORTANT EV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SCO  NÚÑEZ  DE  BAL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62120"/>
            <a:ext cx="601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SEE THE PACIF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CKED ROME IN 410, ENDING THE RO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FIGURES DID NOT LIVE I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.C.?  CONFUCIUS, BUDDHA, PYTHAGORAS, OR N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952880"/>
            <a:ext cx="7010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B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GANDAN CITY'S AIRPORT DID AN ISRAELI COMMANDO RAID RESCUE 103 HOSTAGES IN 19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990720" y="495288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MELDA  MAR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ICKNAME WAS THE "IRON BUTTER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OIS  MITTER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-SERVING PRESIDENT IN FRENCH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FIGURE CROSSED THE RUBI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N EMPIRE WAS LOCATED IN WHAT IS NOW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GAINING INDEPENDENCE, WHAT WAS BANGLADES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YEAR OF THE ISLAMIC CALENDAR MARKS WHAT IMPORTANT EV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SEE THE PACIF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CKED ROME IN 410, ENDING THE ROMAN EMP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GANDAN CITY'S AIRPORT DID AN ISRAELI COMMANDO RAID RESCUE 103 HOSTAGES IN 19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16:14:02Z</dcterms:created>
  <dc:creator>Jennifer Budzinski</dc:creator>
  <dc:description/>
  <dc:language>en-US</dc:language>
  <cp:lastModifiedBy>Erich Friedman</cp:lastModifiedBy>
  <dcterms:modified xsi:type="dcterms:W3CDTF">2020-09-01T12:24:31Z</dcterms:modified>
  <cp:revision>363</cp:revision>
  <dc:subject/>
  <dc:title>Slide 1</dc:title>
</cp:coreProperties>
</file>