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B91D-BE80-48AB-A313-836A878F5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6AED-E5AB-4AFF-BBDF-0899C812F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C1E6-86D8-456C-B9AB-C66C5614D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7BF7-4B79-44DE-B5CC-D562D6BB6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4A99-6D38-4490-8A5F-9BFBC0B71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05B5-C24B-46A6-BA38-74FF8202F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B2FA-58E9-4AB5-89DE-C8754DB30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0CFB-4A44-49CE-9225-C2F97E4EC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1248-2D7C-4FED-96CF-5D6FBFC5B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5AA8-645A-4A6B-9A14-1DACC9640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18D0-789D-4E20-B0D4-716C85652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0B89-95ED-4123-864B-3A47B8A43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4ADD-780D-4153-9571-AFD9DA98D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C50E-686A-4F46-AC6B-53B35B33D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08EA-6730-4DFC-872A-D07799515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BC79-53EF-43F4-B6CC-1F870BF5F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FC01-6958-41B7-9A70-AAE9A9285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085C-4141-490B-B40A-48C2D85AA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25A0-689D-4666-81FC-9C5290995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9B7E-1CE8-4E8C-A051-77AD82BE4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E73D-06A6-467C-BF24-946CD5E95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96FB-1E4D-40FA-88B4-4255C74C8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BBAA-2E74-4D0E-89FA-ED968DA6D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1523520"/>
            <a:ext cx="6629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ICKNAME WAS THE "IRON BUTTERF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SERVING PRESIDENT IN FRENCH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FOLLOWING FIGURES DID NOT LIVE IN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B.C.?  CONFUCIUS, BUDDHA, PYTHAGORAS, OR N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US  CAE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5000"/>
            <a:ext cx="7086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FIGURE CROSSED THE RUB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143000" y="495288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CAN EMPIRE WAS LOCATED IN WHAT IS NOW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T  PAKI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GAINING INDEPENDENCE, WHAT WAS BANGLADESH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90720" y="4419720"/>
            <a:ext cx="7162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HAMMAD'S  FLIGHT  FROM  MECCA  TO  MED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YEAR OF THE ISLAMIC CALENDAR MARKS WHAT IMPORTANT EV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SCO  NÚÑEZ  DE  BALB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62040" y="762120"/>
            <a:ext cx="6019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UROPEAN TO SEE THE PACIFIC OC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CKED ROME IN 410, ENDING THE ROMAN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FOLLOWING FIGURES DID NOT LIVE IN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B.C.?  CONFUCIUS, BUDDHA, PYTHAGORAS, OR NE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952880"/>
            <a:ext cx="7010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EB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UGANDAN CITY'S AIRPORT DID AN ISRAELI COMMANDO RAID RESCUE 103 HOSTAGES IN 19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990720" y="495288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MELDA  MAR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ICKNAME WAS THE "IRON BUTTERF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OIS  MITTER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SERVING PRESIDENT IN FRENCH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FIGURE CROSSED THE RUBIC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CAN EMPIRE WAS LOCATED IN WHAT IS NOW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GAINING INDEPENDENCE, WHAT WAS BANGLADESH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YEAR OF THE ISLAMIC CALENDAR MARKS WHAT IMPORTANT EV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UROPEAN TO SEE THE PACIFIC OC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CKED ROME IN 410, ENDING THE ROMAN EMP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UGANDAN CITY'S AIRPORT DID AN ISRAELI COMMANDO RAID RESCUE 103 HOSTAGES IN 19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16:14:02Z</dcterms:created>
  <dc:creator>Jennifer Budzinski</dc:creator>
  <dc:description/>
  <dc:language>en-US</dc:language>
  <cp:lastModifiedBy>Erich Friedman</cp:lastModifiedBy>
  <dcterms:modified xsi:type="dcterms:W3CDTF">2020-09-01T12:24:31Z</dcterms:modified>
  <cp:revision>363</cp:revision>
  <dc:subject/>
  <dc:title>Slide 1</dc:title>
</cp:coreProperties>
</file>