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31EA-6AB8-4038-A971-D5D20E3AD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67A3-437A-43E4-A9DE-1A3E72BE3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42B1-1A89-4948-B453-825CF0C98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B490-0BE1-4C96-BF8E-A73B55C59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DF2F-B7D8-4911-8C3A-48FACAAD2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834B-799D-464C-A069-78E0F0C98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92C9-C8F2-4FB1-BF6E-6FB048E8C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9B9D-492D-430A-89CF-7EB4CACFB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2804-8480-4BF3-BEB8-1AB5C1518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D299-1093-4264-BD5D-01F8576FE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E890-27D1-45F8-9FA2-646055D2F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FDB0-0B0D-487C-95FA-67A77EE6E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5CBB-D6AA-40DE-B3C5-F99A8E8A9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728A-6B53-4AB8-8681-6F61DEB7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4D4A-700D-4FEE-876A-293B70155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AEBA-8C01-47C3-9A90-80D4B7B43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CB15-09BD-40B0-BE93-207DCB014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879E-35ED-4742-B133-60615DB0C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C6F2-7FE3-4827-B7F2-565D6AA3C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511D-7788-4085-87EB-C7F019CB0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85EA-048C-43E7-B8BE-4502E14C5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6605-D9CC-445A-9809-6B9CF425E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FC79-66DF-4BDD-AC71-9DE895101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 "1999" OFF THE ALBU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SIGNED AS PRESIDENT OF RUSSIA ON THE LAST DAY OF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0656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0080" y="762120"/>
            <a:ext cx="7162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DOW JONES INDUSTRIAL AVERAGE FIRST PASSED WHAT ROUND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359240"/>
            <a:ext cx="746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LUMBINE  HIGH  SCHOOL  MASSAC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ERIC HARRIS AND DYLAN KLEBOLD BECOME FAMOUS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 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POPULATION OF THE WORLD BECAME HOW MANY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J.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OLD HIS HEISMAN TROPHY IN 1999 TO PAY FOR LEGAL BI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AIR  BALL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BERTRAND PICCARD AND BRIAN JONES BECOME THE FIRST PEOPLE TO CIRCUMNAVIGATE THE WORLD I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POPE JOHN PAUL II  VISITED WHAT PREDOMINANTLY EASTERN ORTHODOX COUNTR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PE TO DO SO IN ALMOST 10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14400" y="4876920"/>
            <a:ext cx="7467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RISONER  OF  AZKA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110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J. K. ROWLING PUBLISHED HE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OOK IN THE SERIES, "HARRY POTTER AND...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DOW JONES INDUSTRIAL AVERAGE FIRST PASSED WHAT ROUND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/1/6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/11/1999 WAS A DATE THAT READS AS ANOTHER SERIES OF DIGITS UPSIDE DOWN.  WHEN IS THE NEXT SUCH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 "1999" OFF THE ALBU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  YELT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SIGNED AS PRESIDENT OF RUSSIA ON THE LAST DAY OF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ERIC HARRIS AND DYLAN KLEBOLD BECOME FAMOUS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THE POPULATION OF THE WORLD BECAME HOW MANY B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OLD HIS HEISMAN TROPHY IN 1999 TO PAY FOR LEGAL BI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BERTRAND PICCARD AND BRIAN JONES BECOME THE FIRST PEOPLE TO CIRCUMNAVIGATE THE WORLD I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POPE JOHN PAUL II  VISITED WHAT PREDOMINANTLY EASTERN ORTHODOX COUNTR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OPE TO DO SO IN ALMOST 10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9, J. K. ROWLING PUBLISHED HER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OOK IN THE SERIES, "HARRY POTTER AND..."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1/11/1999 WAS A DATE THAT READS AS ANOTHER SERIES OF DIGITS UPSIDE DOWN.  WHEN IS THE NEXT SUCH D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4:58:21Z</dcterms:created>
  <dc:creator>Jennifer Budzinski</dc:creator>
  <dc:description/>
  <dc:language>en-US</dc:language>
  <cp:lastModifiedBy>Erich Friedman</cp:lastModifiedBy>
  <dcterms:modified xsi:type="dcterms:W3CDTF">2020-09-01T12:25:09Z</dcterms:modified>
  <cp:revision>340</cp:revision>
  <dc:subject/>
  <dc:title>Slide 1</dc:title>
</cp:coreProperties>
</file>