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B592-5195-48FC-A211-7604A39A3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D4AD-88E6-45DF-900C-DDD61E8DA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62A2-3B61-47AD-94B0-50381A64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513E-A115-4533-A6A4-E82B865FC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42E8-6A3D-4647-AFEA-C3CEFA510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F2B3-B028-4DE7-8288-915F68A9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4B86-ED33-4775-A85D-39493B700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80F8-401D-4D22-9E22-095797FC9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233F-55CC-4F9A-AB90-80B6693C9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2A9E-7313-4F5D-98C3-222DED6E0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939F-ABEE-470B-997C-00520A63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E34F-D4F0-4647-908D-3BF30A94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AA0-70B1-4453-AC91-C06BDA18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5F74-8563-4493-8FCB-B811F9B5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28E5-B83E-4D84-A4DB-63DB1AD1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3620-BA46-4B36-BF9F-7A1B6E65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37BD-9392-4334-A775-DF3E93310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182C-DF9E-4EEF-BF8C-DDCA3E07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C282-813E-488F-988B-522F3F992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6FFE-7B2E-4D11-90CF-321476E41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9620-F7F2-4BE6-B889-4F9A26454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6369-6221-4439-BAAA-E668F5341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2908-CA24-4CFC-824D-C956B8F21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1999" OFF THE ALBU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SIGNED AS PRESIDENT OF RUSSIA ON THE LAST DAY OF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0656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0080" y="762120"/>
            <a:ext cx="7162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DOW JONES INDUSTRIAL AVERAGE FIRST PASSED WHAT ROUND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35924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UMBINE  HIGH  SCHOOL  MASSA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ERIC HARRIS AND DYLAN KLEBOLD BECOME FAMOUS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 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POPULATION OF THE WORLD BECAME HOW MANY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J.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OLD HIS HEISMAN TROPHY IN 1999 TO PAY FOR LEGAL BI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AIR  BALL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BERTRAND PICCARD AND BRIAN JONES BECOME THE FIRST PEOPLE TO CIRCUMNAVIGATE THE WORLD I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POPE JOHN PAUL II  VISITED WHAT PREDOMINANTLY EASTERN ORTHODOX COUNTR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PE TO DO SO IN ALMOST 10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14400" y="4876920"/>
            <a:ext cx="746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RISONER  OF  AZKA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110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J. K. ROWLING PUBLISHED HE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OK IN THE SERIES, "HARRY POTTER AND...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DOW JONES INDUSTRIAL AVERAGE FIRST PASSED WHAT ROUND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/1/6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/11/1999 WAS A DATE THAT READS AS ANOTHER SERIES OF DIGITS UPSIDE DOWN.  WHEN IS THE NEXT SUCH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1999" OFF THE ALBU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YELT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SIGNED AS PRESIDENT OF RUSSIA ON THE LAST DAY OF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ERIC HARRIS AND DYLAN KLEBOLD BECOME FAMOUS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POPULATION OF THE WORLD BECAME HOW MANY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OLD HIS HEISMAN TROPHY IN 1999 TO PAY FOR LEGAL BI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BERTRAND PICCARD AND BRIAN JONES BECOME THE FIRST PEOPLE TO CIRCUMNAVIGATE THE WORLD I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POPE JOHN PAUL II  VISITED WHAT PREDOMINANTLY EASTERN ORTHODOX COUNTR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PE TO DO SO IN ALMOST 10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J. K. ROWLING PUBLISHED HE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OK IN THE SERIES, "HARRY POTTER AND...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/11/1999 WAS A DATE THAT READS AS ANOTHER SERIES OF DIGITS UPSIDE DOWN.  WHEN IS THE NEXT SUCH 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4:58:21Z</dcterms:created>
  <dc:creator>Jennifer Budzinski</dc:creator>
  <dc:description/>
  <dc:language>en-US</dc:language>
  <cp:lastModifiedBy>Erich Friedman</cp:lastModifiedBy>
  <dcterms:modified xsi:type="dcterms:W3CDTF">2020-09-01T12:25:09Z</dcterms:modified>
  <cp:revision>340</cp:revision>
  <dc:subject/>
  <dc:title>Slide 1</dc:title>
</cp:coreProperties>
</file>