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B95-0FAF-45C2-B859-E79B965D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1192-8228-447F-BD6C-4F803F1B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4F94-4FF0-4C24-B3DD-67D6E85E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35A8-04F6-4416-B874-0859147E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7F57-9C31-4B34-937F-548B4A48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810B-DF32-4658-AA13-5A4ABC0B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F3F-531B-4A19-9938-DB9D5919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DDB-8133-4106-9EBE-F3167A9E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A77-27CE-424F-9770-76F1FE33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6A6B-BAC5-4F42-A307-D9753510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C32F-E915-4375-AB2A-5109B2EA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978-DDD1-4603-B706-FCF348395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B27-FA56-4FAD-8989-95D8CCC2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FE5-1EE8-4D0E-93AB-0D6DABFC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5F52-8E99-4A38-8A1A-5CF1A213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2CE-7270-483F-BBE6-D4668262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61D4-468E-4309-8410-460FCCA6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300D-B4B1-4EB7-864B-074A01F73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7BB3-97AD-4BAC-B560-A31A90F97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C92-F6AE-4AAA-9C2D-49F70A40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B3C-2C65-4019-A322-3EDD630D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DA0E-3658-4D69-A03A-96E2C196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099-17A8-488A-AAF1-6AD652EC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1999" OFF THE ALBU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SIGNED AS PRESIDENT OF RUSSIA ON THE LAST DAY OF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0656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0080" y="762120"/>
            <a:ext cx="7162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DOW JONES INDUSTRIAL AVERAGE FIRST PASSED WHAT ROUND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35924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UMBINE  HIGH  SCHOOL  MASSA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ERIC HARRIS AND DYLAN KLEBOLD BECOME FAMOUS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POPULATION OF THE WORLD BECAME HOW MANY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OLD HIS HEISMAN TROPHY IN 1999 TO PAY FOR LEGAL B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AIR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BERTRAND PICCARD AND BRIAN JONES BECOME THE FIRST PEOPLE TO CIRCUMNAVIGATE THE WORLD I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POPE JOHN PAUL II  VISITED WHAT PREDOMINANTLY EASTERN ORTHODOX COUNTR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PE TO DO SO IN ALMOST 1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769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RISONER  OF  AZKA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10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J. K. ROWLING PUBLISHED HE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OK IN THE SERIES, "HARRY POTTER AND...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DOW JONES INDUSTRIAL AVERAGE FIRST PASSED WHAT ROUND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1/6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/11/1999 WAS A DATE THAT READS AS ANOTHER SERIES OF DIGITS UPSIDE DOWN.  WHEN IS THE NEXT SUCH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1999" OFF THE ALBU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YELT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SIGNED AS PRESIDENT OF RUSSIA ON THE LAST DAY OF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ERIC HARRIS AND DYLAN KLEBOLD BECOME FAMOUS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POPULATION OF THE WORLD BECAME HOW MANY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OLD HIS HEISMAN TROPHY IN 1999 TO PAY FOR LEGAL BI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BERTRAND PICCARD AND BRIAN JONES BECOME THE FIRST PEOPLE TO CIRCUMNAVIGATE THE WORLD I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POPE JOHN PAUL II  VISITED WHAT PREDOMINANTLY EASTERN ORTHODOX COUNTR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PE TO DO SO IN ALMOST 1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J. K. ROWLING PUBLISHED HE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OK IN THE SERIES, "HARRY POTTER AND...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/11/1999 WAS A DATE THAT READS AS ANOTHER SERIES OF DIGITS UPSIDE DOWN.  WHEN IS THE NEXT SUCH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4:58:21Z</dcterms:created>
  <dc:creator>Jennifer Budzinski</dc:creator>
  <dc:description/>
  <dc:language>en-US</dc:language>
  <cp:lastModifiedBy>Erich Friedman</cp:lastModifiedBy>
  <dcterms:modified xsi:type="dcterms:W3CDTF">2020-09-01T12:25:09Z</dcterms:modified>
  <cp:revision>340</cp:revision>
  <dc:subject/>
  <dc:title>Slide 1</dc:title>
</cp:coreProperties>
</file>