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CFBB-A855-4F40-B839-3A8B92D39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5249-13BF-46AE-8C6B-8FCD66AB8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882C-9EAC-40C3-8E4B-8CCA87937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EE9E-2F4C-4889-8354-FF578F511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1ADE-B6E1-4124-8A02-941926F98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72DC-5740-4D45-A098-3ED2043AC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AE04-3679-43DD-B0BE-4B59B880C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BDB5-F606-4804-95DC-829B12338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BFCF-6CD3-4104-B4AB-EA8C908A0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12FE-760B-469C-87A8-56E89A74C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7587-DF8E-43EC-9005-4E0F31637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4E93-0179-4576-B6F3-C1F403EFC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C7621-71B8-4B9E-ACAF-B33D229F7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19DB-75D6-4912-8416-3B7B563D3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FE1F-6B57-46C8-A0C8-3E46BDC3F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9D4D-D3E6-40A3-8109-95CD9A162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5D06-CDAA-4363-8903-1AB4FB05F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5BBA-8D5D-408B-99F6-FB907A890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2785-BD5D-4923-BC6E-27CE7B59C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5422-3914-45F5-9940-FA66FAA78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E489-4A28-40FC-B426-63B1462D8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DC35-D618-4042-9F60-0A9413574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0F0F-CABD-429E-BF6F-F315CF09B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71600" y="1066680"/>
            <a:ext cx="6324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ROADWAY MUSICAL HIDDEN ME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L BROOKS MUSICAL IS BASED ON HIS HORROR PARODY FILM OF THE SAM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104840" y="762120"/>
            <a:ext cx="693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NY-WINNING MUSICAL IS THE HIDDEN MESSAGE IN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MI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BOUT A FOUNDING FATHER EARNED A RECORD 16 TONY NOMINATIONS IN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942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VENUE  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NG-OF-AGE MUSICAL THAT FEATURES PUPPETS ALONGSIDE HUMAN ACTORS WON A TONY FOR BEST MUSICAL IN 200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8808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  THE  HE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95360" y="712800"/>
            <a:ext cx="81532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T IN A HISPANIC-AMERICAN NEIGHBORHOOD OF NYC, WHAT MUSICAL WON A TONY FOR BEST MUSICAL IN 200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38040" y="488160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BOUT YOUNG ARTISTS IN THE EAST VILLAGE OF NYC WON A TONY FOR BEST MUSICAL IN 199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MA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DAPTATION OF MONTY PYTHON'S "HOLY GRAIL" WON THE TONY FOR BEST MUSICAL IN 200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ANTOM  OF  THE  OP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NNER OF THE TONY FOR BEST MUSICAL IN 1988 IS THE LONGEST-RUNNING MUSICAL ON BROADWA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685800" y="4876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Y  HORROR  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FEATURES THE TRANSVESTITE SCIENTIST DR. FRANK N. FUR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BOUT A FOUNDING FATHER EARNED A RECORD 16 TONY NOMINATIONS IN 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9420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19320" y="762120"/>
            <a:ext cx="6705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BOUT AN 11-YEAR-OLD ORPHAN WON THE TONY FOR BEST MUSICAL IN 197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NG  FRANKENS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L BROOKS MUSICAL IS BASED ON HIS HORROR PARODY FILM OF THE SAM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3434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IRSPRAY                                     (1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LETTER  OF  EACH  ANSW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04840" y="762120"/>
            <a:ext cx="6934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NY-WINNING MUSICAL IS THE HIDDEN MESSAGE IN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NG-OF-AGE MUSICAL THAT FEATURES PUPPETS ALONGSIDE HUMAN ACTORS WON A TONY FOR BEST MUSICAL IN 200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43080" y="762120"/>
            <a:ext cx="8458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T IN A HISPANIC-AMERICAN NEIGHBORHOOD OF NYC, WHAT MUSICAL WON A TONY FOR BEST MUSICAL IN 200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BOUT YOUNG ARTISTS IN THE EAST VILLAGE OF NYC WON A TONY FOR BEST MUSICAL IN 199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DAPTATION OF MONTY PYTHON'S "HOLY GRAIL" WON THE TONY FOR BEST MUSICAL IN 200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INNER OF THE TONY FOR BEST MUSICAL IN 1988 IS THE LONGEST-RUNNING MUSICAL ON BROADWA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FEATURES THE TRANSVESTITE SCIENTIST DR. FRANK N. FUR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BOUT AN 11-YEAR-OLD ORPHAN WON THE TONY FOR BEST MUSICAL IN 197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5T18:38:47Z</dcterms:created>
  <dc:creator>Jennifer Budzinski</dc:creator>
  <dc:description/>
  <dc:language>en-US</dc:language>
  <cp:lastModifiedBy>Erich Friedman</cp:lastModifiedBy>
  <dcterms:modified xsi:type="dcterms:W3CDTF">2020-08-26T15:54:30Z</dcterms:modified>
  <cp:revision>382</cp:revision>
  <dc:subject/>
  <dc:title>Slide 1</dc:title>
</cp:coreProperties>
</file>