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065A-CCDA-48CE-BD17-3DE6B1C07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2E78-1F8F-42D5-8F12-CEFE465CC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ABD6-F6CE-45F4-975F-C131A1120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022A-E75F-48C3-8148-8C57911C2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FB67-B7AD-47A9-8122-B3946EA3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154F-A752-4BE7-86EA-EAE94996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5AF5-8ED9-44E8-A500-6D70B89AB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80FE-3E87-4C63-8BC7-A543B31B8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0F94-D19F-4B2E-82F0-68143746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2E08-775B-403A-8236-60006AD3C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CB3F-7356-4602-B5BE-41A3F33B7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4465-AE68-4BF9-92DF-AA0E8BF43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7C64-7C3F-4CE5-B020-B9D34C69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D0D1-1429-44F2-9825-1934F542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5DEC-E564-455D-98D2-29E79AF20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80C0-7B83-4094-A0DE-9A985A63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F999-3F98-4607-8C52-E7D08EC8F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14D5-7D20-4813-90C3-BBA3722B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3993-6F71-4665-97BA-6FBF3E42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6FA-C33A-4F63-80A1-B32E284B6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163B-2D75-4B08-BCE2-E771705B5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F4BB-E67D-4A45-83F1-38BFDEC8E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6B6B-8C37-4E6D-9B2F-94C44D10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ADWAY MUSICAL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L BROOKS MUSICAL IS BASED ON HIS HORROR PARODY FIL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NY-WINNING MUSICAL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A FOUNDING FATHER EARNED A RECORD 16 TONY NOMINATIONS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ENUE 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NG-OF-AGE MUSICAL THAT FEATURES PUPPETS ALONGSIDE HUMAN ACTORS WON A TONY FOR BEST MUSICAL IN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HE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128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 IN A HISPANIC-AMERICAN NEIGHBORHOOD OF NYC, WHAT MUSICAL WON A TONY FOR BEST MUSICAL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38040" y="4881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YOUNG ARTISTS IN THE EAST VILLAGE OF NYC WON A TONY FOR BEST MUSICAL IN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MA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DAPTATION OF MONTY PYTHON'S "HOLY GRAIL" WON THE TONY FOR BEST MUSICAL IN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NTOM  OF  THE  OP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ONY FOR BEST MUSICAL IN 1988 IS THE LONGEST-RUNNING MUSICAL ON BROADW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85800" y="4876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  HORROR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FEATURES THE TRANSVESTITE SCIENTIST DR. FRANK N. FUR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A FOUNDING FATHER EARNED A RECORD 16 TONY NOMINATIONS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42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AN 11-YEAR-OLD ORPHAN WON THE TONY FOR BEST MUSICAL IN 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  FRANKE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L BROOKS MUSICAL IS BASED ON HIS HORROR PARODY FIL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SPRAY                                     (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ETTER  OF  EACH  ANSW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NY-WINNING MUSICAL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NG-OF-AGE MUSICAL THAT FEATURES PUPPETS ALONGSIDE HUMAN ACTORS WON A TONY FOR BEST MUSICAL IN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 IN A HISPANIC-AMERICAN NEIGHBORHOOD OF NYC, WHAT MUSICAL WON A TONY FOR BEST MUSICAL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YOUNG ARTISTS IN THE EAST VILLAGE OF NYC WON A TONY FOR BEST MUSICAL IN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DAPTATION OF MONTY PYTHON'S "HOLY GRAIL" WON THE TONY FOR BEST MUSICAL IN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ONY FOR BEST MUSICAL IN 1988 IS THE LONGEST-RUNNING MUSICAL ON BROADW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FEATURES THE TRANSVESTITE SCIENTIST DR. FRANK N. FUR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AN 11-YEAR-OLD ORPHAN WON THE TONY FOR BEST MUSICAL IN 197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5T18:38:47Z</dcterms:created>
  <dc:creator>Jennifer Budzinski</dc:creator>
  <dc:description/>
  <dc:language>en-US</dc:language>
  <cp:lastModifiedBy>Erich Friedman</cp:lastModifiedBy>
  <dcterms:modified xsi:type="dcterms:W3CDTF">2020-08-26T15:54:30Z</dcterms:modified>
  <cp:revision>382</cp:revision>
  <dc:subject/>
  <dc:title>Slide 1</dc:title>
</cp:coreProperties>
</file>