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8793-7025-4952-9EA7-8C2E0B0D2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1290-1FA1-4E3F-8C13-A0C5DDC46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F0F9-7663-43DB-BD3C-0629756F7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EB7-182B-4374-B53E-E0C73E3A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2A34-BBAD-41A4-B32E-B01EA7BB2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6F3C-6CBC-458B-9C7F-405E8F368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E542-CB73-4ED8-9C02-00C3DE619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7BA-4650-4198-90AB-D1C240FED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9079-9976-4B43-8192-FBBEA58A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014A-4879-4BC4-A2F7-4B20C7E5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5F9-0F3F-4D10-801B-114FDA561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2973-A3F5-4EF8-82A4-69044A3B3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B688-2FB7-4F20-B5B8-B2F6EA743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0609-788B-43DB-9338-2682CA268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D328-5319-4092-B241-4D0845F4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B12D-BFBB-4CA6-8CE7-4750DC901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79C4-0E0F-4FBC-94FD-A66D6A9D9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8D02-3546-4EC5-8E83-366B2FE22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0CD4-2AE6-4E18-88AA-CA68C771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8F3E-C39C-4391-8DAA-822AD908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33DB-93D1-42D7-B2AD-E903D9D8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5746-B085-426F-BBA3-78D4C057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66F1-6C36-431A-BA39-44E99CA2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HAS MICHAEL J. FOX WORKING IN THE MAILROOM BUT PRETENDING TO BE AN EXECUTIVE AT HIS UNCLE'S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744480" y="762120"/>
            <a:ext cx="7653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EXANDER GRAHAM BELL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876240" y="495288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LS  BEFORE  S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HAS THESE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  ANYTH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3120" y="762120"/>
            <a:ext cx="7996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ROMANCE FILM WHOSE TITLE CONTAINS ELLIPSES STARRED JOHN CUSACK AND IONE SK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4197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BODY  ELSE  IS  DOING  IT, SO  WHY  CAN'T  W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ONG NAME OF THE FIRST CRANBERRIES ALBUM, CONTAINING THEIR HITS "DREAMS" AND "LI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PARATION 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33240" y="762120"/>
            <a:ext cx="7875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HEMORRHOID MED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LAND  IS  YOUR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FOLK SONG DID WOODY GUTHRIE WRITE IN 1940 BECAUSE HE WAS TIRED OF HEARING "GOD BLESS AMERICA" ON THE RAD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CH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38280" y="762120"/>
            <a:ext cx="786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SURFIN' SAFARI", "SURFIN' U.S.A.", AND "SURFER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SERVED AS "THE WINTER WHITE HOUSE" FOR PRESIDENT TRU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HAS THESE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95288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IRWAY  TO 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28680" y="762120"/>
            <a:ext cx="8486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THE MOST REQUESTED SONG ON U.S. RADIO STATIONS IN THE 70'S, DESPITE NEVER BEING RELEASED AS A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ECRET  TO  MY  SU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9120" y="762120"/>
            <a:ext cx="8105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7 FILM HAS MICHAEL J. FOX WORKING IN THE MAILROOM BUT PRETENDING TO BE AN EXECUTIVE AT HIS UNCLE'S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3886200"/>
            <a:ext cx="6705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FORE  ANYTHING  ELSE, PREPARATION  IS  THE  KEY  TO SUCC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27040" y="762120"/>
            <a:ext cx="80899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EXANDER GRAHAM BELL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ROMANCE FILM WHOSE TITLE CONTAINS ELLIPSES STARRED JOHN CUSACK AND IONE SK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06440" y="762120"/>
            <a:ext cx="833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ONG NAME OF THE FIRST CRANBERRIES ALBUM, CONTAINING THEIR HITS "DREAMS" AND "LI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HEMORRHOID MED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51000" y="761760"/>
            <a:ext cx="844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TRIOTIC FOLK SONG DID WOODY GUTHRIE WRITE IN 1940 BECAUSE HE WAS TIRED OF HEARING "GOD BLESS AMERICA" ON THE RAD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68160" y="761760"/>
            <a:ext cx="780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SURFIN' SAFARI", "SURFIN' U.S.A.", AND "SURFER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SERVED AS "THE WINTER WHITE HOUSE" FOR PRESIDENT TRU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D ZEPPELIN SONG WAS THE MOST REQUESTED SONG ON U.S. RADIO STATIONS IN THE 70'S, DESPITE NEVER BEING RELEASED AS A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08:14Z</dcterms:modified>
  <cp:revision>389</cp:revision>
  <dc:subject/>
  <dc:title>Slide 1</dc:title>
</cp:coreProperties>
</file>