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990C-1BAD-451C-BCBB-486154678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EDB5-7A12-4B0A-BFB2-A6101F449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F564-8E76-4DD5-AB44-DEFAA314C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2BCD-C882-40E8-914E-EA61CC7DA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4DA8-09EA-44F3-9E60-C134A9DC7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1A37-4294-4F90-A64B-74DF8BC6E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EF56-31F4-4E05-BC74-46ED7A685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C172-A7FA-496F-8F62-A1EC10B89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2099-E037-498F-89E1-46A521B11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5783-237B-4DBF-A061-73664EC8D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A8A6-9B9A-4426-83FC-85152BFF5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1A72-CA7E-421D-A9E1-46C01A6D5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5CE7-BEC3-435B-AFA1-AC3444A5E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43D3-EEFB-4E51-8233-48DBB2878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51B9-B61C-4E43-83A8-C1AF0B4E5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78E3-E9E2-4998-ADE2-04F7350C2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ADB2-93FD-46E0-8201-5B8134FD7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D9DF-76EC-4990-85D6-D08E142F4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B9F5-8EA8-4DE2-9A32-86B7E80BC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7D4F-0C6C-420F-8479-DB9C17918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4ADD-A3CE-415D-A94C-2945C19E3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3EDD-AD3B-40C4-AFB2-E06E050B3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E213-E4B9-4BC5-9B30-C23068F33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2190600" y="1523880"/>
            <a:ext cx="4762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DDEN QUO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52600" y="761760"/>
            <a:ext cx="8038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7 FILM HAS MICHAEL J. FOX WORKING IN THE MAILROOM BUT PRETENDING TO BE AN EXECUTIVE AT HIS UNCLE'S COMPAN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744480" y="762120"/>
            <a:ext cx="7653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EXANDER GRAHAM BELL QUOTE CONTAINS 1 WORD FROM EACH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876240" y="49528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RLS  BEFORE  SW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RIP HAS THESE CHARAC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"/>
          <p:cNvPicPr/>
          <p:nvPr/>
        </p:nvPicPr>
        <p:blipFill>
          <a:blip r:embed="rId1"/>
          <a:stretch/>
        </p:blipFill>
        <p:spPr>
          <a:xfrm>
            <a:off x="2666880" y="2666880"/>
            <a:ext cx="36576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Y  ANYTHING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73120" y="762120"/>
            <a:ext cx="7996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9 ROMANCE FILM WHOSE TITLE CONTAINS ELLIPSES STARRED JOHN CUSACK AND IONE SKY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4197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ERYBODY  ELSE  IS  DOING  IT, SO  WHY  CAN'T  W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ONG NAME OF THE FIRST CRANBERRIES ALBUM, CONTAINING THEIR HITS "DREAMS" AND "LING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EPARATION 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33240" y="762120"/>
            <a:ext cx="7875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KNOWN HEMORRHOID MEDIC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S  LAND  IS  YOUR  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TRIOTIC FOLK SONG DID WOODY GUTHRIE WRITE IN 1940 BECAUSE HE WAS TIRED OF HEARING "GOD BLESS AMERICA" ON THE RAD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ACH  BO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38280" y="762120"/>
            <a:ext cx="7867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SURFIN' SAFARI", "SURFIN' U.S.A.", AND "SURFER GIR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Y  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82800" y="762120"/>
            <a:ext cx="71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RIDA CITY SERVED AS "THE WINTER WHITE HOUSE" FOR PRESIDENT TRU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52480" y="762120"/>
            <a:ext cx="7439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RIP HAS THESE CHARAC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666880" y="2666880"/>
            <a:ext cx="36576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447920" y="4952880"/>
            <a:ext cx="6248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IRWAY  TO  HEA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28680" y="762120"/>
            <a:ext cx="84866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D ZEPPELIN SONG WAS THE MOST REQUESTED SONG ON U.S. RADIO STATIONS IN THE 70'S, DESPITE NEVER BEING RELEASED AS A SI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ECRET  TO  MY  SU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19120" y="762120"/>
            <a:ext cx="81057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7 FILM HAS MICHAEL J. FOX WORKING IN THE MAILROOM BUT PRETENDING TO BE AN EXECUTIVE AT HIS UNCLE'S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219320" y="3886200"/>
            <a:ext cx="6705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FORE  ANYTHING  ELSE, PREPARATION  IS  THE  KEY  TO SUCCE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27040" y="762120"/>
            <a:ext cx="808992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EXANDER GRAHAM BELL QUOTE CONTAINS 1 WORD FROM EACH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833040" y="761760"/>
            <a:ext cx="747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9 ROMANCE FILM WHOSE TITLE CONTAINS ELLIPSES STARRED JOHN CUSACK AND IONE SKY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406440" y="762120"/>
            <a:ext cx="8331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ONG NAME OF THE FIRST CRANBERRIES ALBUM, CONTAINING THEIR HITS "DREAMS" AND "LING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90480" y="762120"/>
            <a:ext cx="7763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KNOWN HEMORRHOID MEDIC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51000" y="761760"/>
            <a:ext cx="8440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TRIOTIC FOLK SONG DID WOODY GUTHRIE WRITE IN 1940 BECAUSE HE WAS TIRED OF HEARING "GOD BLESS AMERICA" ON THE RADI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68160" y="761760"/>
            <a:ext cx="7807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SURFIN' SAFARI", "SURFIN' U.S.A.", AND "SURFER GIR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66960" y="761760"/>
            <a:ext cx="7210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RIDA CITY SERVED AS "THE WINTER WHITE HOUSE" FOR PRESIDENT TRU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52360" y="761760"/>
            <a:ext cx="8639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D ZEPPELIN SONG WAS THE MOST REQUESTED SONG ON U.S. RADIO STATIONS IN THE 70'S, DESPITE NEVER BEING RELEASED AS A SING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08-26T16:08:14Z</dcterms:modified>
  <cp:revision>389</cp:revision>
  <dc:subject/>
  <dc:title>Slide 1</dc:title>
</cp:coreProperties>
</file>