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CDF5-3316-47D1-BEAA-D49D0F27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5052-D22C-454B-9084-483E1B6F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31A9-85DC-424D-82F4-E1EE40097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53E9-BA76-4629-A4CF-D8BB89EE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95A-A8A7-4DEB-A81B-5D6782489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1BC7-CCA0-48BB-B574-00F75F3C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40D0-3A5F-43D1-B890-41FC3D76A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EBB4-510E-4D27-8F84-04425860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B42-543D-48F9-BCA8-8E81EF90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D368-0581-46FA-8F7D-B4BF84155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3633-D17B-44FD-9C33-F7F574583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5AED-E36A-4D27-964A-9F2C5B16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EB28-5F99-48C2-B70C-25F00869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0088-9EAA-42D8-B46A-E240DE71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6A01-66B2-41F8-82FC-6B38B32CF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A171-FAF2-4520-BAAC-BC6A6909F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CFBF-C21F-4E25-BF82-51DE85DDE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F880-FCC9-4762-8811-4FFE6C0F8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77C4-37A0-4E32-9588-56DC5076D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FCE1-7BB0-4514-A426-6D7AA980B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9843-24A2-49F0-8E01-C299DD952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FD95-BBC5-49FD-A245-A8086C49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8CAC-C304-4B49-9306-69595A8F6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SAY, SAY, SAY", "THE MAN",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92200" y="762120"/>
            <a:ext cx="795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 SHAKESPEAR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  LOVE,  NOT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VIETNAM SLOGAN PROMPTED THEN GOVERNOR RONALD REAGAN TO QUIP "THOSE GUYS LOOK LIKE THEY CAN'T MAKE EI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981080" y="4343400"/>
            <a:ext cx="51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IS  LIKE  A  BOX  OF  CHOCOL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7240" y="762120"/>
            <a:ext cx="7767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SITTING ON A BENCH WAITING FOR A BUS, WHAT DID FORREST GUMP RECALL HIS MOTHER TELLING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O  LOW  FOR  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9144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IS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YOUNG  AND  THE  REST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, ON THE AIR SINCE 1973, FEATURES THE ABBOTT, WILLIAMS, AND NEWMAN FAMIL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 IN ENGLAND WAS "SHE LOVES YOU".  WHAT WAS THEIR  FIRST #1 HI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2019240" y="4343400"/>
            <a:ext cx="5105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KNOW  WHAT  LOVE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EIGNER'S ONLY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34340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BECOMES  OF  THE  BROKEN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RUFFIN HAD ONLY 2 TOP-10 SONGS: "HOLD ON (TO MY LOVE)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VIETNAM SLOGAN PROMPTED THEN GOVERNOR RONALD REAGAN TO QUIP "THOSE GUYS LOOK LIKE THEY CAN'T MAKE EI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34340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NSCIENCE  OF  A  CONSERV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BOOK BY BARRY GOLDWATER PUT HIM ON THE POLITICAL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8769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IRL  IS  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22200" y="762120"/>
            <a:ext cx="849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SAY, SAY, SAY", "THE MAN",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3434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TOO  YOUNG  TO  KNOW  WHAT  CONSCIENCE  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60440" y="762120"/>
            <a:ext cx="822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LLIAM  SHAKESPEAR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SITTING ON A BENCH WAITING FOR A BUS, WHAT DID FORREST GUMP RECALL HIS MOTHER TELLING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1066680"/>
            <a:ext cx="419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IS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4800600" y="609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, ON THE AIR SINCE 1973, FEATURES THE ABBOTT, WILLIAMS, AND NEWMAN FAM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89120" y="761760"/>
            <a:ext cx="7564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 IN ENGLAND WAS "SHE LOVES YOU".  WHAT WAS THEIR  FIRST #1 HI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6640" y="761760"/>
            <a:ext cx="693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FOREIGNER'S ONLY #1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MY RUFFIN HAD ONLY 2 TOP-10 SONGS: "HOLD ON (TO MY LOVE)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0640" y="761760"/>
            <a:ext cx="790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0 BOOK BY BARRY GOLDWATER PUT HIM ON THE POLITICAL M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10:24Z</dcterms:modified>
  <cp:revision>394</cp:revision>
  <dc:subject/>
  <dc:title>Slide 1</dc:title>
</cp:coreProperties>
</file>