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86F8-7497-4F81-B072-60FC4FAD6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B67-F34D-4127-ABF6-CEA06CFB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D13-80C4-453D-80D2-965356A6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8D33-5A4A-49A3-8790-F652F94A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132C-B49D-4DED-BB97-DF8D7952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4C6-BC03-41B6-8F80-A89254A53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205E-3A09-42B2-A3A5-7BA0644C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D48-7DFC-4260-B070-B0F1C6A2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027-3F5F-4C16-B356-3C51E107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A709-D2AB-4BDE-838F-B5D063E7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B6DD-0BB8-44AF-9014-F54D54E3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42FA-1604-4B35-9D5A-9EFC620D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EA83-81E7-4424-A1AA-87CF12AC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9CBD-B579-426B-9542-B9C5BAFA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A98D-6450-4BE9-B141-0373E571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6ACF-1ED3-4042-944A-ED5C23E3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AEFF-DAEF-4894-9E8F-B92FBECF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F165-00AF-49A6-ADE7-67B4ED66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D1FF-C5E3-4548-A3B0-BBDDF8E3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2D84-EC04-48D4-80DB-90FD6591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9FBB-021F-425D-BF44-655DAF77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815-0F8F-4C42-AE56-41781DE8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33B8-CA43-4108-A8AC-F56BD48C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SAY, SAY, SAY", "THE MAN",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92200" y="762120"/>
            <a:ext cx="795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 SHAKESPEAR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  LOVE,  NOT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VIETNAM SLOGAN PROMPTED THEN GOVERNOR RONALD REAGAN TO QUIP "THOSE GUYS LOOK LIKE THEY CAN'T MAKE EI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IS  LIKE  A  BOX  OF  CHOCOL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7240" y="762120"/>
            <a:ext cx="7767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SITTING ON A BENCH WAITING FOR A BUS, WHAT DID FORREST GUMP RECALL HIS MOTHER TELLING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096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O  LOW  FOR  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9144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IS ELTON JOH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OUNG  AND  THE  REST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, ON THE AIR SINCE 1973, FEATURES THE ABBOTT, WILLIAMS, AND NEWMAN FAMI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 IN ENGLAND WAS "SHE LOVES YOU".  WHAT WAS THEIR  FIRST #1 HI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2019240" y="4343400"/>
            <a:ext cx="5105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KNOW  WHAT  LOVE 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EIGNER'S ONLY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34340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BECOMES  OF  THE  BROKENHE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RUFFIN HAD ONLY 2 TOP-10 SONGS: "HOLD ON (TO MY LOVE)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7440" y="762120"/>
            <a:ext cx="816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VIETNAM SLOGAN PROMPTED THEN GOVERNOR RONALD REAGAN TO QUIP "THOSE GUYS LOOK LIKE THEY CAN'T MAKE EI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3434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NSCIENCE  OF  A  CONSERV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BOOK BY BARRY GOLDWATER PUT HIM ON THE POLITICAL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IRL  IS 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22200" y="762120"/>
            <a:ext cx="849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SAY, SAY, SAY", "THE MAN",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TOO  YOUNG  TO  KNOW  WHAT  CONSCIENCE 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60440" y="762120"/>
            <a:ext cx="822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 SHAKESPEAR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SITTING ON A BENCH WAITING FOR A BUS, WHAT DID FORREST GUMP RECALL HIS MOTHER TELLING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066680"/>
            <a:ext cx="419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IS ELTON JOH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, ON THE AIR SINCE 1973, FEATURES THE ABBOTT, WILLIAMS, AND NEWMAN FAM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89120" y="761760"/>
            <a:ext cx="756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 IN ENGLAND WAS "SHE LOVES YOU".  WHAT WAS THEIR  FIRST #1 HI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6640" y="761760"/>
            <a:ext cx="693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EIGNER'S ONLY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08200" y="761760"/>
            <a:ext cx="752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RUFFIN HAD ONLY 2 TOP-10 SONGS: "HOLD ON (TO MY LOVE)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BOOK BY BARRY GOLDWATER PUT HIM ON THE POLITICAL M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10:24Z</dcterms:modified>
  <cp:revision>394</cp:revision>
  <dc:subject/>
  <dc:title>Slide 1</dc:title>
</cp:coreProperties>
</file>