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41F6-408E-4CAA-99A2-3AAC1D876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A5C8-4FAA-4618-B477-504C5562F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216A-AD3D-405B-B3C0-7D31755A3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6B5A-3BC6-41D9-BFA4-53ABC8C8C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A832-20B0-4CFB-81C4-2062D871E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106C-DB09-48D8-8BA4-25D948DEE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AEB5-C1F4-4168-9EF4-4422E725A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518C-76A7-489A-AD3B-0867C27B6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AF93-5AAA-4DB2-BE10-C8A074925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198A-7E4C-4E90-8BF3-830BC0ABD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FFE9-477D-4DAC-8F2F-C04EA6F5A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81CD-B536-402E-85AA-265E122E0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E383-F498-4CF8-87AE-BFB773FD9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9B85-0408-4E11-96C9-0F2BE111A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FC4A-9B1C-43C6-97DD-EB0590D26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3541-D507-4D95-BC15-3A4243C29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02BE-4A78-4088-A0C7-41C31F528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A490-9D58-4A5C-9EA4-1C58D8284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C23A-8C97-4B34-9F7A-8AA66A85A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CA61-5F5F-4C38-B355-665D6B57C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C385-2BCC-40FD-8806-4537AE0B8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6DC2-865E-460E-ABEA-7912449A2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3D12-8CA4-4310-BFD5-9FEB98570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2190600" y="1523880"/>
            <a:ext cx="4762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DDEN QUO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52600" y="761760"/>
            <a:ext cx="8038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0 FILM STARRING DONALD SUTHERLAND, MARY TYLER MOORE, JUDD HIRSCH AND TIMOTHY HUTTON WON BEST PIC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71440" y="762120"/>
            <a:ext cx="8601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SCAR WILDE QUOTE CONTAINS 1 WORD FROM EACH OF THE PREVIOUS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87624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VER  GONNA  GIVE  YOU  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76240" y="762120"/>
            <a:ext cx="7391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LDWIDE #1 HIT IS RICK ASTLEY'S SIGNATURE SONG, OFTEN CALLED "THE RICKROLL SO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INTED 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95400" y="762120"/>
            <a:ext cx="71517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OF THE BRITISH GROUP SOFT C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9276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YONE  WHO  HAD  A  HE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31920" y="762120"/>
            <a:ext cx="8480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AS A TOP-10 HIT FOR DIONNE WARWICK IN THE U.S., CILIA BLACK IN THE U.K., AND PETULA CLARK IN SPAIN, FRANCE, AND ITA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836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63720" y="762120"/>
            <a:ext cx="7216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MADE THE ROCK OPERA "TOMM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E  KRISPIES  TRE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NACK FOOD POPULARIZED IN THE 1930'S WAS ORIGINALLY CALLED "PUFFED WHEAT SQUAR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CH  ME  IF  YOU  C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285840" y="762120"/>
            <a:ext cx="8572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2 FILM'S POSTER PICTURED A BLURRY TOM HANKS CHASING AFTER A BLURRY LEONARDO DICAPRI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KE  A  ROLLING  S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82800" y="762120"/>
            <a:ext cx="71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BOB DYLAN SONG DOES HE FAMOUSLY ASK "HOW DO YOU FEEL?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52480" y="762120"/>
            <a:ext cx="7439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LDWIDE #1 HIT IS RICK ASTLEY'S SIGNATURE SONG, OFTEN CALLED "THE RICKROLL SO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447920" y="4343400"/>
            <a:ext cx="6248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U'RE  A  GOOD  MAN,  CHARLIE  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41280" y="762120"/>
            <a:ext cx="6661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7 MUSICAL WAS BASED ON THE COMIC STRIP "PEANU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DINARY  PEO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19120" y="762120"/>
            <a:ext cx="81057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0 FILM STARRING DONALD SUTHERLAND, MARY TYLER MOORE, JUDD HIRSCH AND TIMOTHY HUTTON WON BEST PI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76200" y="3809880"/>
            <a:ext cx="6591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VER  LOVE  ANYONE  WHO  TREATS  YOU  LIKE  YOU'RE  ORDINA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254160" y="762120"/>
            <a:ext cx="86342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SCAR WILDE QUOTE CONTAINS 1 WORD FROM EACH OF THE PREVIOUS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3040" y="761760"/>
            <a:ext cx="7475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OF THE BRITISH GROUP SOFT CE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30120" y="762120"/>
            <a:ext cx="8483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AS A TOP-10 HIT FOR DIONNE WARWICK IN THE U.S., CILIA BLACK IN THE U.K., AND PETULA CLARK IN SPAIN, FRANCE, AND ITA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90480" y="762120"/>
            <a:ext cx="7763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MADE THE ROCK OPERA "TOMM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27120" y="761760"/>
            <a:ext cx="7889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NACK FOOD POPULARIZED IN THE 1930'S WAS ORIGINALLY CALLED "PUFFED WHEAT SQUAR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267840" y="761760"/>
            <a:ext cx="8605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2 FILM'S POSTER PICTURED A BLURRY TOM HANKS CHASING AFTER A BLURRY LEONARDO DICAPRI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66960" y="761760"/>
            <a:ext cx="7210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BOB DYLAN SONG DOES HE FAMOUSLY ASK "HOW DO YOU FEEL?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82640" y="761760"/>
            <a:ext cx="757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7 MUSICAL WAS BASED ON THE COMIC STRIP "PEANUT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0-08-26T16:11:59Z</dcterms:modified>
  <cp:revision>384</cp:revision>
  <dc:subject/>
  <dc:title>Slide 1</dc:title>
</cp:coreProperties>
</file>