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9A99-C190-4B02-ADF0-6B5A22942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91A-1972-45BC-94A5-93E2AB09C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3D0A-4C0B-497D-BF89-BAFC2FE38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25DE-6425-4D60-90DC-40D9FC00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8BB1-3FDA-4263-8CF8-CBD7D57D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AE79-1BB3-47E0-B3D7-1552CF4D9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1ACD-A00E-46E2-9C0A-5DE9E64E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AADA-DC72-478B-B410-3AA1B5FA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8BA64-AE90-4210-87DD-760393A39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41B8-7781-4453-990C-6B2125BE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0789-1FBE-4865-827B-5565CC6A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C6A1-600F-46EB-AEA3-30F3DD507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FC8D-4440-4651-8D0E-0265B00FE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36F-4299-4128-B17C-4BF2A97C4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9C9E-A5A6-466D-9D8E-A034B8716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9CFB-99B8-4133-9D79-E1026B404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D350-5478-4A84-861E-B3506C2E7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C69-F299-4C8B-B3D9-2DF0D52D9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5BEE-3F3F-4E68-8668-F2C5AE304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76B-E8B1-4AEA-B500-69AF14869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418C-BCCA-4E0E-B5CF-AE8070F75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04C1-D656-4D85-B8D1-09D93DF80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D061-3F72-4242-9A28-56E337ADF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87624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GONNA  GIVE  YOU  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INTED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1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YONE  WHO  HAD  A 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8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63720" y="762120"/>
            <a:ext cx="721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E  KRISPIES  TRE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85840" y="762120"/>
            <a:ext cx="8572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KE  A  ROLLING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82800" y="762120"/>
            <a:ext cx="71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52480" y="762120"/>
            <a:ext cx="7439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LDWIDE #1 HIT IS RICK ASTLEY'S SIGNATURE SONG, OFTEN CALLED "THE RICKROLL SO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447920" y="4343400"/>
            <a:ext cx="6248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'RE  A  GOOD  MAN,  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41280" y="762120"/>
            <a:ext cx="6661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DINARY  PEO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19120" y="762120"/>
            <a:ext cx="8105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0 FILM STARRING DONALD SUTHERLAND, MARY TYLER MOORE, JUDD HIRSCH AND TIMOTHY HUTTON WON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276200" y="3809880"/>
            <a:ext cx="65916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VER  LOVE  ANYONE  WHO  TREATS  YOU  LIKE  YOU'RE  ORDIN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54160" y="762120"/>
            <a:ext cx="8634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SCAR WILDE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OF THE BRITISH GROUP SOFT C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30120" y="762120"/>
            <a:ext cx="8483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A TOP-10 HIT FOR DIONNE WARWICK IN THE U.S., CILIA BLACK IN THE U.K., AND PETULA CLARK IN SPAIN, FRANCE, AND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90480" y="762120"/>
            <a:ext cx="7763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MADE THE ROCK OPERA "TOMM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27120" y="761760"/>
            <a:ext cx="7889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NACK FOOD POPULARIZED IN THE 1930'S WAS ORIGINALLY CALLED "PUFFED WHEAT SQUAR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67840" y="761760"/>
            <a:ext cx="8605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FILM'S POSTER PICTURED A BLURRY TOM HANKS CHASING AFTER A BLURRY LEONARDO DICAPRI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66960" y="761760"/>
            <a:ext cx="7210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OB DYLAN SONG DOES HE FAMOUSLY ASK "HOW DO YOU FEEL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82640" y="761760"/>
            <a:ext cx="757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7 MUSICAL WAS BASED ON THE COMIC STRIP "PEANU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6:11:59Z</dcterms:modified>
  <cp:revision>384</cp:revision>
  <dc:subject/>
  <dc:title>Slide 1</dc:title>
</cp:coreProperties>
</file>