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9842-BEB7-4637-A3C6-FCE38F03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DDF5-490B-4216-AF68-7346231A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29DE-FB81-4A8A-93BE-970DCF2F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BE6-EFF7-47E0-A840-6722D9C2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FB3-EDE0-4A73-B370-C268AF80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580F-33FB-42A3-ABF7-DBF075D0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0A3-6C0D-4284-A421-B268FD2C8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D841-A80D-4914-BCC8-B865E11E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30C-48F0-4876-99B7-7CE9E74B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586-71F5-490D-83CC-8062A843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0E6F-CB09-475A-85F7-91D4A0F8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A0E-8881-4174-9F38-FDDFD282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280-F215-4B35-8642-08DF63B1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7E6-0521-4746-9D76-71CEAB12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8A9-FEA4-415F-BF85-1966168D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AF3-6E55-4271-9E70-2E2C02DB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5B7-F547-42A0-A693-84A004791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8651-30D0-4773-BC3B-E20A880F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AB7-67AE-4F81-8B39-D27EFDE8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37FE-6EE8-4CA1-92DF-9511D08C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883-2699-4575-A7EA-3417D06E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898-5B0D-4C55-81CE-EF60A5F5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4927-ADC4-43E6-AA95-B521B5E8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GONNA  GIVE  YOU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NTED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ONE  WHO  HAD  A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63720" y="762120"/>
            <a:ext cx="721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KRISPIES  T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ROLLING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'RE  A  GOOD  MAN,  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1280" y="762120"/>
            <a:ext cx="666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INAR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9120" y="762120"/>
            <a:ext cx="8105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76200" y="3809880"/>
            <a:ext cx="6591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LOVE  ANYONE  WHO  TREATS  YOU  LIKE  YOU'RE  ORDIN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7840" y="761760"/>
            <a:ext cx="8605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11:59Z</dcterms:modified>
  <cp:revision>384</cp:revision>
  <dc:subject/>
  <dc:title>Slide 1</dc:title>
</cp:coreProperties>
</file>