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4B23-B873-4848-A897-E57F81FD1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A661-0E5F-4894-B582-AE667EC9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B67E-0036-44FE-96CD-64EE6FCE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CA24-C965-484B-81D3-364FCF929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0831-CDD4-4C7C-B4DA-7749A173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610-3DB6-4BED-88EB-710245EC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156B-7C4D-44B3-ADC4-28A22AD86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7771-88AF-449D-89AF-FA91DF74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6B79-1C9D-4B89-8987-E69FE541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DE38-ACF7-4AAB-B603-D3092E7C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1C42-90AC-44CF-8FE7-093EA2199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317B-D449-44E3-A02A-0E61F114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846C-B473-4DA0-9E1A-AD7D3FE5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2679-FCC6-4587-9FE8-8C1540630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88C7-DD84-442E-9A3E-22C23C54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0A7E-C57D-49EE-BC77-B54C23E8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50E9-AA26-4A63-93E4-432F1F76E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CAD9-A0AD-421A-9BC2-7CAAF8F7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E691-8520-49B0-BFA9-1AC99739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FB26-4C48-482F-A175-AB3BBFA29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706-C29B-4ED2-A5BC-9D9D9F6B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661-0C69-498E-8290-4AB45C3F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90F4-4C19-4B46-9E3F-CEFB7C8B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JOY TO THE WORLD", "MAMA TOLD ME (NOT TO COME)",  AND "BLACK &amp; WH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STEVE MART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'S POSTER READS "BEING THE ADVENTURES OF A YOUNG MAN WHOSE PRINCIPAL INTERESTS ARE RAPE, ULTRA-VIOLENCE, AND BEETHO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  OF  THE 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99960" y="762120"/>
            <a:ext cx="834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ESTIVAL           IS CELEBRATED FROM  HALLOWEEN TO NOVEMBER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OUT  A  T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-2009 TV SERIES FOLLOWED THE CASES OF THE MISSING PERSONS UNIT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C  AND  THE  SUNSHIN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 BAND SANG "THAT'S THE WAY (I LIKE IT)" AND "(SHAKE, SHAKE, SHAKE) SHAKE YOUR BOO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IS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NBC SHOW FOLLOWS THE PEARSON FAMILY IN SEVERAL DIFFERENT TIME FR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 "MATERIAL GIRL", AS WELL AS THE #1 TITLE 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-SHARING PLATFORM DID GOOGLE BUY IN 2006 FOR $1.65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'S POSTER READS "BEING THE ADVENTURES OF A YOUNG MAN WHOSE PRINCIPAL INTERESTS ARE RAPE, ULTRA-VIOLENCE, AND BEETHO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  THEY  KNOW  IT'S  CHRISTM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HOLIDAY SONG BY BAND AID WAS THE BIGGEST-SELLING SINGLE IN THE U.K. UNTIL "CANDLE IN THE WIND 1997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DOG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JOY TO THE WORLD", "MAMA TOLD ME (NOT TO COME)",  AND "BLACK &amp;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DAY  WITHOUT  SUNSHINE  IS  LIKE,  YOU  KNOW,  N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STEVE MART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ESTIVAL           IS CELEBRATED FROM  HALLOWEEN TO NOVEMBER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-2009 TV SERIES FOLLOWED THE CASES OF THE MISSING PERSONS UNIT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 BAND SANG "THAT'S THE WAY (I LIKE IT)" AND "(SHAKE, SHAKE, SHAKE) SHAKE YOUR BOO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NBC SHOW FOLLOWS THE PEARSON FAMILY IN SEVERAL DIFFERENT TIME FR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 "MATERIAL GIRL", AS WELL AS THE #1 TITLE 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-SHARING PLATFORM DID GOOGLE BUY IN 2006 FOR $1.65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HOLIDAY SONG BY BAND AID WAS THE BIGGEST-SELLING SINGLE IN THE U.K. UNTIL "CANDLE IN THE WIND 1997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16:13:18Z</dcterms:modified>
  <cp:revision>349</cp:revision>
  <dc:subject/>
  <dc:title>Slide 1</dc:title>
</cp:coreProperties>
</file>