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CCC1-0C8D-4C99-A3CE-FDEC16922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24FE-6D67-417F-820E-B66E062EB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3455-DAD3-4014-BE5D-856686BD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6D4-B931-405A-B337-851AAA89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4006-DB58-4177-ACF1-D093C1F89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6D99-1414-44E1-AE52-9F33ACAF3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771E-11FA-4713-A249-9E813C98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112-6213-40C0-BD98-7A613A21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1276-7D93-4C21-9B07-3BABA092D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1C5-3053-4A87-94B4-FDE53D40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8C6-5EE2-40AF-A19E-65EC467E8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F5CA-D60E-4C81-84C0-CC5C6C69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03F0-D263-4D04-AEE0-9FE3F48D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E819-7B49-4005-8B20-5D4C0134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678A-AA79-4319-B6FE-1A84B9FB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8D31-FEA3-4741-BAC6-C4E10FD6C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F904-F52B-437B-9353-DEC85773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86E4-5850-4C23-A379-7759AAAF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7DAA-62B6-4C7C-9EBF-536B6D02E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555E-C44D-4946-889E-597A03CB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23B2-7926-4913-B869-0FCF41B89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4BA5-8C95-439E-90D8-7658CF4F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1D56-DAFB-4651-98BF-E916F50CF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JOY TO THE WORLD", "MAMA TOLD ME (NOT TO COME)",  AND "BLACK &amp; WH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STEVE MART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'S POSTER READS "BEING THE ADVENTURES OF A YOUNG MAN WHOSE PRINCIPAL INTERESTS ARE RAPE, ULTRA-VIOLENCE, AND BEETHO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  OF  THE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99960" y="762120"/>
            <a:ext cx="8344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ESTIVAL           IS CELEBRATED FROM  HALLOWEEN TO NOVEMBER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OUT  A  T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-2009 TV SERIES FOLLOWED THE CASES OF THE MISSING PERSONS UNIT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C  AND  THE  SUNSHIN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 BAND SANG "THAT'S THE WAY (I LIKE IT)" AND "(SHAKE, SHAKE, SHAKE) SHAKE YOUR BOO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IS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NBC SHOW FOLLOWS THE PEARSON FAMILY IN SEVERAL DIFFERENT TIME FR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 "MATERIAL GIRL", AS WELL AS THE #1 TITLE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-SHARING PLATFORM DID GOOGLE BUY IN 2006 FOR $1.65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'S POSTER READS "BEING THE ADVENTURES OF A YOUNG MAN WHOSE PRINCIPAL INTERESTS ARE RAPE, ULTRA-VIOLENCE, AND BEETHO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THEY  KNOW  IT'S  CHRISTMA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HOLIDAY SONG BY BAND AID WAS THE BIGGEST-SELLING SINGLE IN THE U.K. UNTIL "CANDLE IN THE WIND 1997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DOG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HITS "JOY TO THE WORLD", "MAMA TOLD ME (NOT TO COME)",  AND "BLACK &amp; WH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DAY  WITHOUT  SUNSHINE  IS  LIKE,  YOU  KNOW,  N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STEVE MART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FESTIVAL           IS CELEBRATED FROM  HALLOWEEN TO NOVEMBER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-2009 TV SERIES FOLLOWED THE CASES OF THE MISSING PERSONS UNIT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O BAND SANG "THAT'S THE WAY (I LIKE IT)" AND "(SHAKE, SHAKE, SHAKE) SHAKE YOUR BOO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NBC SHOW FOLLOWS THE PEARSON FAMILY IN SEVERAL DIFFERENT TIME FR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 "MATERIAL GIRL", AS WELL AS THE #1 TITLE 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IDEO-SHARING PLATFORM DID GOOGLE BUY IN 2006 FOR $1.65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HOLIDAY SONG BY BAND AID WAS THE BIGGEST-SELLING SINGLE IN THE U.K. UNTIL "CANDLE IN THE WIND 1997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6:13:18Z</dcterms:modified>
  <cp:revision>349</cp:revision>
  <dc:subject/>
  <dc:title>Slide 1</dc:title>
</cp:coreProperties>
</file>