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3609-C270-4D81-B5B6-C446C9302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11B3-7AC6-4FCE-9718-5ABCD3BE5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8BCA-7C9A-4A2F-9526-FB09695FC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BEDA-6DB9-4CF0-A543-D4582C297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D553-0D12-4CBC-9683-EDF49359D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C8A6-02E9-4A70-893E-3EF05CA83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C3DF-A127-4449-B61A-DFF4403B6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A3AC-E2A6-43D3-A4EE-5613E120E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7685-45EF-4D87-8634-27996641F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5C32-A266-419C-8630-B4E96E68F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6E12-AE27-4D01-B2FB-C15500A27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713D-9F81-4E2D-9E38-5EAA48BA3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60C2-ADD5-4818-B30E-7A4E056DE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DC97-62E0-44F4-8D49-AD8814089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3700-AA56-4821-BBB4-6DB183C91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125B-81E1-4CB5-B039-BD0411C5F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D3AE-BB3A-45B1-B073-C603E62DE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EF37-4BFE-41DF-A87D-6A221ED4E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9321-A570-480B-82F4-857686DF8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9F69-FC68-414F-BD25-84A2A173E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77B9-1BC0-4C98-971B-903171A41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7E46-6BD7-4712-9912-680938799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11EE-01A9-4079-8B62-C95A644F5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 QU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#1 HITS "JOY TO THE WORLD", "MAMA TOLD ME (NOT TO COME)",  AND "BLACK &amp; WHI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OTE BY STEVE MARTIN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CLOCKWORK  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28600" y="76212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'S POSTER READS "BEING THE ADVENTURES OF A YOUNG MAN WHOSE PRINCIPAL INTERESTS ARE RAPE, ULTRA-VIOLENCE, AND BEETHOV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Y  OF  THE  D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99960" y="762120"/>
            <a:ext cx="83440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XICAN FESTIVAL           IS CELEBRATED FROM  HALLOWEEN TO NOVEMBER 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THOUT  A  T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-2009 TV SERIES FOLLOWED THE CASES OF THE MISSING PERSONS UNIT OF THE FB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8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C  AND  THE  SUNSHINE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CO BAND SANG "THAT'S THE WAY (I LIKE IT)" AND "(SHAKE, SHAKE, SHAKE) SHAKE YOUR BOO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S  IS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NBC SHOW FOLLOWS THE PEARSON FAMILY IN SEVERAL DIFFERENT TIME FR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KE  A  VIR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MADONNA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CONTAINING THE SONG "MATERIAL GIRL", AS WELL AS THE #1 TITLE TR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 TU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IDEO-SHARING PLATFORM DID GOOGLE BUY IN 2006 FOR $1.65 B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'S POSTER READS "BEING THE ADVENTURES OF A YOUNG MAN WHOSE PRINCIPAL INTERESTS ARE RAPE, ULTRA-VIOLENCE, AND BEETHOV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8484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  THEY  KNOW  IT'S  CHRISTM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HOLIDAY SONG BY BAND AID WAS THE BIGGEST-SELLING SINGLE IN THE U.K. UNTIL "CANDLE IN THE WIND 1997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  DOG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#1 HITS "JOY TO THE WORLD", "MAMA TOLD ME (NOT TO COME)",  AND "BLACK &amp; WHI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343400"/>
            <a:ext cx="7162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DAY  WITHOUT  SUNSHINE  IS  LIKE,  YOU  KNOW,  N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OTE BY STEVE MARTIN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XICAN FESTIVAL           IS CELEBRATED FROM  HALLOWEEN TO NOVEMBER 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-2009 TV SERIES FOLLOWED THE CASES OF THE MISSING PERSONS UNIT OF THE FB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CO BAND SANG "THAT'S THE WAY (I LIKE IT)" AND "(SHAKE, SHAKE, SHAKE) SHAKE YOUR BOO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NBC SHOW FOLLOWS THE PEARSON FAMILY IN SEVERAL DIFFERENT TIME FR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MADONNA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CONTAINING THE SONG "MATERIAL GIRL", AS WELL AS THE #1 TITLE TR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IDEO-SHARING PLATFORM DID GOOGLE BUY IN 2006 FOR $1.65 B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HOLIDAY SONG BY BAND AID WAS THE BIGGEST-SELLING SINGLE IN THE U.K. UNTIL "CANDLE IN THE WIND 1997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6T16:13:18Z</dcterms:modified>
  <cp:revision>349</cp:revision>
  <dc:subject/>
  <dc:title>Slide 1</dc:title>
</cp:coreProperties>
</file>