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CCDE-96DB-4E21-99D8-3D2948DD7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7A4D-3CD2-4653-BDAE-2EB126001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E2EF-2038-4C2F-8AAC-E3AF6DFA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C7AA-3F6C-4B8F-A9EC-7315ABA9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6AE7-4B41-4AB3-8573-ABE1CB79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DBBF-4FAF-40FE-8E53-439D22DC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2A60-290A-45ED-9ED5-CD4C30B4F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E34-3449-4E0C-83C8-85428EF9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2022-7FDF-46B9-B58F-9790FEAD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E13-40C6-4161-AF1C-9BEEE32B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734-65B6-4892-93A4-B5F49744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3CD-4F57-401E-B3A2-A1B53180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ECB5-3536-487F-BCA7-DFA08395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68EC-31FE-4D55-8ADF-873E5B2D3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0B6F-B4B0-4F05-A1B2-036294D73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0EC8-A18C-4D57-B9A4-8F710EDD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17DA-A082-4CE4-AB60-92021785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6BE4-BFB6-4DB9-A670-D903657ED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668B-5727-4E73-8A2A-9BE21B28D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D1DF-AC4F-41E8-91A4-8349169A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E481-8222-450A-9033-E92757DD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F23-C6F2-4A2F-AB84-2F3C518A0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75E3-4117-4719-B016-B4DA8155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ATLES SONGS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-MINUTE BEATLES    SONG WAS THE BEST-SELLING SINGLE IN THE WORLD IN 196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HIT   SONG IS HIDDEN IN THE   THIRD LETTERS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905120" y="4286160"/>
            <a:ext cx="5333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Y  DON'T  WE  DO  IT  IN  THE  RO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320" y="762120"/>
            <a:ext cx="899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PAUL MCCARTNEY WRITE AFTER SEEING 2 MONKEYS COPULATING ON THE STREETS OF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FITTINGLY THE LAST ONE RECORDED BY ALL 4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M  SO  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I'D GIVE YOU EVERYTHING I'VE GOT FOR A LITTLE PEA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IT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TRACK FROM THE LAST STUDIO ALBUM OF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  LOVES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INGLE BY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BERRY  FIELDS  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INSPIRED BY THE GARDEN IN A LIVERPOOL CHILDREN'S HOME, AND WAS LENNON'S FAVORITE BEATLES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3336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FOR SATU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240" y="762120"/>
            <a:ext cx="9029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PAUL MCCARTNEY WRITE AFTER SEEING 2 MONKEYS COPULATING ON THE STREETS OF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PRU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00240" y="762120"/>
            <a:ext cx="674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WAS WRITTEN ABOUT MIA FARROW'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J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-MINUTE BEATLES    SONG WAS THE BEST-SELLING SINGLE IN THE WORLD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HIT   SONG IS HIDDEN IN THE    THIRD LETTERS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FITTINGLY THE LAST ONE RECORDED BY ALL 4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95200" y="762120"/>
            <a:ext cx="855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I'D GIVE YOU EVERYTHING I'VE GOT FOR A LITTLE PEA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TRACK FROM THE LAST STUDIO ALBUM OF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INGLE BY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INSPIRED BY THE GARDEN IN A LIVERPOOL CHILDREN'S HOME, AND WAS LENNON'S FAVORITE BEATLES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85840" y="76176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FOR SATUR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WAS WRITTEN ABOUT MIA FARROW'S 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6:13:57Z</dcterms:modified>
  <cp:revision>361</cp:revision>
  <dc:subject/>
  <dc:title>Slide 1</dc:title>
</cp:coreProperties>
</file>