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7852F-0ADE-4735-86A7-C17D21387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9B98-0A06-46F0-AC9B-A49F5F6B6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7467-51D6-40C6-A5DD-CCB41010F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6A47-BCA8-4B00-AE1A-6A064245E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0108-DC78-4FA2-913D-17D7BFD5A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5B4E-9780-4F4A-904E-1F77C9384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7D30-6297-4043-B623-AE923E8DE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26B3-6032-475E-A487-8C1AECB66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ECEB-1929-42F1-9745-5315B3DF8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6134-4B04-4CFD-9A05-BE7FB447A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216E-2B44-4970-BB69-48BA20D74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E706-2A24-410D-8C7A-DA4AAFD03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FCDA-7654-4D91-93D2-880DCC0AF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0097-CCE3-4E6C-A47A-95D229F01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BFE2-F146-4BE0-8585-B1CAB2E65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88C6-0D92-4D51-86FB-489A63091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41D8-C822-41EA-9D7E-1627544A0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38D3-70E4-494E-A47A-E4FD1FE74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3F32-E36D-4016-BF8E-A93AF6771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5E1B-8A87-4FBD-A2A4-961EF6D7E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7342-485F-4252-A73F-9964417C0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EB75-0468-4A99-9350-6853E2D4D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9C78-F61D-4E6C-A5F7-17A96505D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90720" y="990360"/>
            <a:ext cx="7162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EATLES SONGS HIDDEN MESS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14280" y="761760"/>
            <a:ext cx="8515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7-MINUTE BEATLES    SONG WAS THE BEST-SELLING SINGLE IN THE WORLD IN 196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181160" y="762120"/>
            <a:ext cx="6781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HIT   SONG IS HIDDEN IN THE   THIRD LETTERS OF THE PREVIOUS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905120" y="4286160"/>
            <a:ext cx="53337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Y  DON'T  WE  DO  IT  IN  THE  ROA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6320" y="762120"/>
            <a:ext cx="8991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DID PAUL MCCARTNEY WRITE AFTER SEEING 2 MONKEYS COPULATING ON THE STREETS OF IND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0060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33480" y="762120"/>
            <a:ext cx="72770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IS FITTINGLY THE LAST ONE RECORDED BY ALL 4 BEAT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'M  SO  TI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52440" y="762120"/>
            <a:ext cx="8439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CONTAINS THE LYRICS "I'D GIVE YOU EVERYTHING I'VE GOT FOR A LITTLE PEACE OF MI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00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T  IT 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81200" y="762120"/>
            <a:ext cx="7581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TITLE TRACK FROM THE LAST STUDIO ALBUM OF THE BEAT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00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E  LOVES 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04880" y="762120"/>
            <a:ext cx="7734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SINGLE BY THE BEAT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AWBERRY  FIELDS  FORE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2120"/>
            <a:ext cx="7391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AS INSPIRED BY THE GARDEN IN A LIVERPOOL CHILDREN'S HOME, AND WAS LENNON'S FAVORITE BEATLES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  MADON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33360" y="762120"/>
            <a:ext cx="8477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MENTIONS EVERY DAY OF THE WEEK EXCEPT FOR SATUR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240" y="762120"/>
            <a:ext cx="9029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DID PAUL MCCARTNEY WRITE AFTER SEEING 2 MONKEYS COPULATING ON THE STREETS OF IND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AR  PRU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00240" y="762120"/>
            <a:ext cx="67435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WAS WRITTEN ABOUT MIA FARROW'S SIS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0060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Y  J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04920" y="762120"/>
            <a:ext cx="85341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7-MINUTE BEATLES    SONG WAS THE BEST-SELLING SINGLE IN THE WORLD IN 196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00600"/>
            <a:ext cx="8229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4000"/>
          </a:bodyPr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STER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2080" indent="-82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143000" y="762120"/>
            <a:ext cx="6858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HIT   SONG IS HIDDEN IN THE    THIRD LETTERS OF THE PREVIOUS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57160" y="761760"/>
            <a:ext cx="7429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IS FITTINGLY THE LAST ONE RECORDED BY ALL 4 BEAT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295200" y="762120"/>
            <a:ext cx="8553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CONTAINS THE LYRICS "I'D GIVE YOU EVERYTHING I'VE GOT FOR A LITTLE PEACE OF MI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71480" y="762120"/>
            <a:ext cx="7601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TITLE TRACK FROM THE LAST STUDIO ALBUM OF THE BEAT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SINGLE BY THE BEAT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33240" y="761760"/>
            <a:ext cx="7877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AS INSPIRED BY THE GARDEN IN A LIVERPOOL CHILDREN'S HOME, AND WAS LENNON'S FAVORITE BEATLES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285840" y="761760"/>
            <a:ext cx="8572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MENTIONS EVERY DAY OF THE WEEK EXCEPT FOR SATUR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238400" y="761760"/>
            <a:ext cx="6667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WAS WRITTEN ABOUT MIA FARROW'S SIS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8T13:15:19Z</dcterms:created>
  <dc:creator>Jennifer Budzinski</dc:creator>
  <dc:description/>
  <dc:language>en-US</dc:language>
  <cp:lastModifiedBy>Erich Friedman</cp:lastModifiedBy>
  <dcterms:modified xsi:type="dcterms:W3CDTF">2020-08-26T16:13:57Z</dcterms:modified>
  <cp:revision>361</cp:revision>
  <dc:subject/>
  <dc:title>Slide 1</dc:title>
</cp:coreProperties>
</file>