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D18-EB7F-4407-9522-ACF68B4A0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32E-F189-48B6-8267-C5E2E3FFB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6902-88F1-4B18-9922-30F874EE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3C42-4B7A-45E4-8F90-B608F65E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F4E8-9551-4B59-8473-020547B3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32C7-3CCB-4445-A031-70340643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8EB-BEBB-46D8-B21A-CC10766B7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CFD1-A73C-4018-8282-40E2C77F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CC35-5BE5-4FC5-B688-4FE9080B2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9D96-3853-4A77-9907-300CA1B11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5DE5-24BD-4A13-8679-17F89CAA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633-90B0-493B-8C5D-84E5A27F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C795-6836-47F8-897E-C2DE2E03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849F-1A59-41B9-A47E-5B22EE132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08A6-222C-4320-9C36-F9CB8D7B3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654-9715-4272-A252-737F722C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943D-1E77-4671-A33A-1F34CA8F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3481-05CF-4ADA-B0AA-A4A892A00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B23E-BF8A-46C1-8AD4-8DEEC39A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7136-EB95-4387-A768-3CC9167D5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4915-B192-4880-A426-42F30D7E3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53D4-CA39-4ADF-8833-65FC881DD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374E-84B6-4A80-8AF8-4628DF7A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14360" y="1066680"/>
            <a:ext cx="65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OUS PEOPLE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ANCED WITH GENE KELLY IN "COVER GIRL", AND WAS THE TOP PIN-UP GIRL FOR G.I.'S DURING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IS HIDDEN IN THE NAMES OF THESE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ZE  TH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90560" y="762120"/>
            <a:ext cx="756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A SERIAL KILLER IN "MON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ELU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1600" y="762120"/>
            <a:ext cx="874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"SNL" MEMBER PLAYED BLUTO IN "NATIONAL LAMPOON'S ANIMAL 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3920" y="762120"/>
            <a:ext cx="8696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LAUREN BACALL IN "DARK PASSAGE", "TO HAVE AND HAVE NOT", "THE BIG SLEEP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WAS KNOWN AS "THE MASTER OF SUSP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61920" y="762120"/>
            <a:ext cx="722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ORTRAYING A COWBOY WITH AIDS IN "DALLAS BUYER'S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PL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1120" y="762120"/>
            <a:ext cx="83199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BOTH THE OLDEST PERSON TO WIN AN ACTING OSCAR ("BEGINNERS", AGE 82) AND TO BE NOMINATED FOR ONE ("ALL THE MONEY IN THE WORLD", AGE 88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IN  CHENOW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9440" y="762120"/>
            <a:ext cx="838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MINUTIVE ACTRESS WON A TONY AWARD FOR PLAYING SALLY IN "YOU'RE A GOOD MAN, CHARLIE B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A SERIAL KILLER IN "MONS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HIGHM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8360" y="762120"/>
            <a:ext cx="766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HE STARRING ROLES IN "FINDING NEVERLAND", "CHARLIE AND THE CHOCOLATE FACTORY", AND "AUGUST RU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A  HAY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1400" y="762120"/>
            <a:ext cx="779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ANCED WITH GENE KELLY IN "COVER GIRL", AND WAS THE TOP PIN-UP GIRL FOR G.I.'S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38360" y="4343400"/>
            <a:ext cx="586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  (EACH  NAME  HAS  2  "H"S  AND 1 "O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IS HIDDEN IN THE NAMES OF THESE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"SNL" MEMBER PLAYED BLUTO IN "NATIONAL LAMPOON'S ANIMAL 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LAUREN BACALL IN "DARK PASSAGE", "TO HAVE AND HAVE NOT", "THE BIG SLEEP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WAS KNOWN AS "THE MASTER OF SUSP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9080" y="762120"/>
            <a:ext cx="730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ORTRAYING A COWBOY WITH AIDS IN "DALLAS BUYER'S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7920" y="761760"/>
            <a:ext cx="858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BOTH THE OLDEST PERSON TO WIN AN ACTING OSCAR ("BEGINNERS", AGE 82) AND TO BE NOMINATED FOR ONE ("ALL THE MONEY IN THE WORLD", AGE 88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8280" y="762120"/>
            <a:ext cx="840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MINUTIVE ACTRESS WON A TONY AWARD FOR PLAYING SALLY IN "YOU'RE A GOOD MAN, CHARLIE B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HE STARRING ROLES IN "FINDING NEVERLAND", "CHARLIE AND THE CHOCOLATE FACTORY", AND "AUGUST RU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4:01:19Z</dcterms:modified>
  <cp:revision>431</cp:revision>
  <dc:subject/>
  <dc:title>Slide 1</dc:title>
</cp:coreProperties>
</file>