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50AD-719C-4A3A-9833-737B1CA5D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CA73-6026-4725-BBE8-14391CFC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AB8C-7FC2-41BE-85D1-8FD459A0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A661-9A4E-4F99-BDFD-9733D7CF4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EF1D-33DF-4E09-845C-8CA7846FC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3C75-4E10-43AD-A78B-9C144EC61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6DFA-AABE-4729-AA23-773DB93EF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D64-FEA1-453A-87CB-007DBA96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C239-DA39-491F-AC85-0D60C5ACC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7218-28CB-4C17-965B-9AED1CAD8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D08E-ECBF-4ED0-BD46-23C895E1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34D5-49C9-4A1F-8155-9867FB05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83DA-D353-4FE8-8EFB-9DC2F340A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1A0E-380D-49D5-82A6-0B30F217A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D76D-F732-467B-B765-2BFADBC33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FA31-E41D-48EE-8F43-01E00E893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5C72A-1C21-4FF9-B763-5C1035E69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DEDE-2492-4324-AA9A-DB0C7E87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65D0-4472-4DF9-984B-111A73791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334E-3607-4D80-92C8-B9F070EE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2CCD-8207-4A01-A49E-A9D3B90F1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DA19-C2F0-4329-B821-9DACB6B5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A1E8-55C0-44AA-9A99-410DE3255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14360" y="1066680"/>
            <a:ext cx="6515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PEOPLE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ANCED WITH GENE KELLY IN "COVER GIRL", AND WAS THE TOP PIN-UP GIRL FOR G.I.'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IS HIDDEN IN THE NAMES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90560" y="762120"/>
            <a:ext cx="756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A SERIAL KILLER IN "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ELU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"SNL" MEMBER PLAYED BLUTO IN "NATIONAL LAMPOON'S ANIMAL HO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PHREY  BOG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23920" y="762120"/>
            <a:ext cx="8696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LAUREN BACALL IN "DARK PASSAGE", "TO HAVE AND HAVE NOT", "THE BIG SLEEP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WAS KNOWN AS "THE MASTER OF SUSPEN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ORTRAYING A COWBOY WITH AIDS IN "DALLAS BUYER'S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PL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1120" y="762120"/>
            <a:ext cx="83199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BOTH THE OLDEST PERSON TO WIN AN ACTING OSCAR ("BEGINNERS", AGE 82) AND TO BE NOMINATED FOR ONE ("ALL THE MONEY IN THE WORLD", AGE 88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IN  CHENOW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MINUTIVE ACTRESS WON A TONY AWARD FOR PLAYING SALLY IN "YOU'RE A GOOD MAN, CHARLIE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A SERIAL KILLER IN "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HIGHMO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38360" y="762120"/>
            <a:ext cx="766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STARRING ROLES IN "FINDING NEVERLAND", "CHARLIE AND THE CHOCOLATE FACTORY", AND "AUGUST R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HAY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71400" y="762120"/>
            <a:ext cx="779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ANCED WITH GENE KELLY IN "COVER GIRL", AND WAS THE TOP PIN-UP GIRL FOR G.I.'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38360" y="4343400"/>
            <a:ext cx="5867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  (EACH  NAME  HAS  2  "H"S  AND 1 "O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IS HIDDEN IN THE NAMES OF THESE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IGINAL "SNL" MEMBER PLAYED BLUTO IN "NATIONAL LAMPOON'S ANIMAL HO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LAUREN BACALL IN "DARK PASSAGE", "TO HAVE AND HAVE NOT", "THE BIG SLEEP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WAS KNOWN AS "THE MASTER OF SUSPEN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9080" y="762120"/>
            <a:ext cx="7305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ORTRAYING A COWBOY WITH AIDS IN "DALLAS BUYER'S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7920" y="761760"/>
            <a:ext cx="858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BOTH THE OLDEST PERSON TO WIN AN ACTING OSCAR ("BEGINNERS", AGE 82) AND TO BE NOMINATED FOR ONE ("ALL THE MONEY IN THE WORLD", AGE 88)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8280" y="762120"/>
            <a:ext cx="840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MINUTIVE ACTRESS WON A TONY AWARD FOR PLAYING SALLY IN "YOU'RE A GOOD MAN, CHARLIE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THE STARRING ROLES IN "FINDING NEVERLAND", "CHARLIE AND THE CHOCOLATE FACTORY", AND "AUGUST R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4:01:19Z</dcterms:modified>
  <cp:revision>431</cp:revision>
  <dc:subject/>
  <dc:title>Slide 1</dc:title>
</cp:coreProperties>
</file>