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2E5-1E5D-4C11-B1B0-01A222592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8BE5-2702-412C-A507-53B7D25C5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C1A9-93D2-47BA-A75C-0181AD929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85FE-6B62-4A82-816F-C76A87F1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92A2-51DA-4B07-9151-0013D0A22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ACC1-98D1-4D5D-9F70-43EC1827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0161-6F22-487D-B3F6-46D7B63B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C6F-BDB1-4DB3-B00A-DA27D247C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4D98-A834-4205-BD17-B25DFD84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4F6A-375A-47AF-B104-56AB1D239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EA6A-6BBD-49AB-89F8-8133BA29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F88F-F1CC-49D3-A705-54BDF5ECD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A241-28B4-48FC-B9E9-2894DF46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30F6-C6CE-4C50-8D1C-C8371EFA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DE128-46EF-4B42-AFF9-92CB61120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8A2-633C-48B9-B11B-AF838E87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F7AA-6821-430D-9D15-C024FF1B7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C50-D649-4976-BA61-7657A215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59D5-5913-4E2D-840A-5D42AC90F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05C6-06BF-4DAA-A1B9-C4FE585E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225B-3790-43D0-ABC0-3B128ADE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0DA-E7ED-492A-A5BB-3BF8A3D38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D303-D427-48A6-BCC0-2A2989FB7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OFF THE ALBUM "I WALK THE LINE" WAS THE ONLY NEW SONG THAT TOPPED THE CHARTS (ITS INITIALS ARE U.Y.M.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ALBERT EINSTE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SAFE  AT  ANY 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7621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 BOOK BY RALPH NADER WAS A LANDMARK BOOK FOR CONSUMER SAFE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OL  ON  THE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4280" y="762120"/>
            <a:ext cx="8515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WELL ON THE WAY / HEAD IN A CLOUD / THE MAN OF A THOUSAND VOICES / TALKING PERFECTLY LO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86080" y="434340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KNOW  WHY  THE  CAGED  BIRD  S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AUTOBIOGRAPHICAL NOVEL WAS THE FIRST AND MOST WELL-KNOWN OF 7 WRITTEN BY MAY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GEL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BRITISH SITCOM STARRING RICKY GERVAIS LED TO A 9-SEASON AMERICAN SITCOM WITH   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POINT,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2372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U.S. MILITARY ACADEM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AR  IS  B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STREISAND / KRISTOFFERSON FILM WAS REMADE IN 2018 STARRING BRADLEY COOPER / LADY GAG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 BOOK BY RALPH NADER WAS A LANDMARK BOOK FOR CONSUMER SAFE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Y  TO  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 DOG NIGHT SONG, ALSO THE NAME OF A POPULAR CHRISTMAS HYMN, IS PLAYED AFTER EVERY DENVER BRONCOS VIC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STAND  YOU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 OFF THE ALBUM "I WALK THE LINE" WAS THE ONLY NEW SONG THAT TOPPED THE CHARTS (ITS INITIALS ARE U.Y.M.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90720" y="434340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  FOOL  CAN  KNOW.  THE  POINT  IS  TO  UNDERST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OTE BY ALBERT EINSTEIN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WELL ON THE WAY / HEAD IN A CLOUD / THE MAN OF A THOUSAND VOICES / TALKING PERFECTLY LO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1920" y="762120"/>
            <a:ext cx="722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AUTOBIOGRAPHICAL NOVEL WAS THE FIRST AND MOST WELL-KNOWN OF 7 WRITTEN BY MAY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GEL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BRITISH SITCOM STARRING RICKY GERVAIS LED TO A 9-SEASON AMERICAN SITCOM WITH 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THE U.S. MILITARY ACADEM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4240" y="761760"/>
            <a:ext cx="7715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STREISAND / KRISTOFFERSON FILM WAS REMADE IN 2018 STARRING BRADLEY COOPER / LADY GAG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 DOG NIGHT SONG, ALSO THE NAME OF A POPULAR CHRISTMAS HYMN, IS PLAYED AFTER EVERY DENVER BRONCOS VIC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3:15Z</dcterms:modified>
  <cp:revision>353</cp:revision>
  <dc:subject/>
  <dc:title>Slide 1</dc:title>
</cp:coreProperties>
</file>