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EABA-6D09-4C9F-A8A3-9B71061FE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42AE-2829-4BAC-A785-A592057B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F35-743E-404A-9B85-C2C32BEBE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EFD3-2C28-4FE1-A5BC-B3D0A9DD3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5E6A-5BD0-4C7C-8CC2-C9B3FE95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B81C-EA05-4CC6-8D6A-5B94E434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3F96-9E39-4C77-9DF1-35E1FA59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965B-AEA0-4BD1-AD2D-DBBADA767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9F6C-A1B9-4E59-8FC3-B30089EC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7C2C-F404-48A9-BBC1-B973F5FA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E3E0-2153-49F0-A2F2-88BED731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5687-E609-4927-941D-8DE286844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42BF-602B-494F-8924-ED77760C4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D3A2-CA3E-4AFD-AEE1-B46630C7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6251-8EA0-43C7-A2AA-B2A9F898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246E-6C5C-44FD-A84C-6CF258F0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71CC-458A-463A-9B2F-9362BAD74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EDB0-163F-4958-B043-3AF2216BF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A6A7-27A5-4718-854A-3E041CCA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F891-13B9-47E5-90B8-49079DF5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75B2-67EE-4211-B593-F18EC5DC0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9C13-6B07-4488-B0E1-F91D54D8E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AD3E-E4BD-4B58-93A1-8AE622F56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 OFF THE ALBUM "I WALK THE LINE" WAS THE ONLY NEW SONG THAT TOPPED THE CHARTS (ITS INITIALS ARE U.Y.M.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OTE BY ALBERT EINSTEIN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SAFE  AT  ANY 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76212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 BOOK BY RALPH NADER WAS A LANDMARK BOOK FOR CONSUMER SAFE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OL  ON  THE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14280" y="762120"/>
            <a:ext cx="8515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WELL ON THE WAY / HEAD IN A CLOUD / THE MAN OF A THOUSAND VOICES / TALKING PERFECTLY LO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  ME  IF  YOU  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'S POSTER PICTURED A BLURRY TOM HANKS CHASING AFTER A BLURRY LEONARDO DICAPR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486080" y="434340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KNOW  WHY  THE  CAGED  BIRD  S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AUTOBIOGRAPHICAL NOVEL WAS THE FIRST AND MOST WELL-KNOWN OF 7 WRITTEN BY MAY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GEL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SEASON BRITISH SITCOM STARRING RICKY GERVAIS LED TO A 9-SEASON AMERICAN SITCOM WITH   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  POINT,  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2372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E U.S. MILITARY ACADEM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STAR  IS  B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STREISAND / KRISTOFFERSON FILM WAS REMADE IN 2018 STARRING BRADLEY COOPER / LADY GAG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 BOOK BY RALPH NADER WAS A LANDMARK BOOK FOR CONSUMER SAFE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Y  TO  TH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REE DOG NIGHT SONG, ALSO THE NAME OF A POPULAR CHRISTMAS HYMN, IS PLAYED AFTER EVERY DENVER BRONCOS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STAND  YOUR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4308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 OFF THE ALBUM "I WALK THE LINE" WAS THE ONLY NEW SONG THAT TOPPED THE CHARTS (ITS INITIALS ARE U.Y.M.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90720" y="4343400"/>
            <a:ext cx="7162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Y  FOOL  CAN  KNOW.  THE  POINT  IS  TO  UNDERST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OTE BY ALBERT EINSTEIN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WELL ON THE WAY / HEAD IN A CLOUD / THE MAN OF A THOUSAND VOICES / TALKING PERFECTLY LO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61920" y="762120"/>
            <a:ext cx="722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'S POSTER PICTURED A BLURRY TOM HANKS CHASING AFTER A BLURRY LEONARDO DICAPR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AUTOBIOGRAPHICAL NOVEL WAS THE FIRST AND MOST WELL-KNOWN OF 7 WRITTEN BY MAY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GELO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SEASON BRITISH SITCOM STARRING RICKY GERVAIS LED TO A 9-SEASON AMERICAN SITCOM WITH 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E U.S. MILITARY ACADEMY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4240" y="761760"/>
            <a:ext cx="771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STREISAND / KRISTOFFERSON FILM WAS REMADE IN 2018 STARRING BRADLEY COOPER / LADY GAG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REE DOG NIGHT SONG, ALSO THE NAME OF A POPULAR CHRISTMAS HYMN, IS PLAYED AFTER EVERY DENVER BRONCOS VIC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4:13:15Z</dcterms:modified>
  <cp:revision>353</cp:revision>
  <dc:subject/>
  <dc:title>Slide 1</dc:title>
</cp:coreProperties>
</file>