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0637-B5CD-4FCC-BE05-A84CE58A9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E1F5-BCD4-4F8D-8E74-6FCAB3DE7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29A6-65F0-4343-927A-97D30E300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F670-8B83-45A8-849E-F452A27ED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A48F-19FD-4DA1-B201-BE959CEEB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6636-E299-4915-9C9E-D656050D0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083A7-0245-440E-B36E-A860B2DD8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EE0B-C608-4E87-B315-5E025B289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000C-8C94-4DAE-BD39-492658C0B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CB11-6257-4404-B451-5F61A965C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07DB-D2A8-4FE4-B347-18ECD249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9252-9013-472E-863C-766D0639F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FEC6-8050-4D25-B7CF-8B9FAA85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DFD4-E6CF-40B3-A558-A5B33EC66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1653-0FEC-45D3-A31E-73482E0D0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B107-1D5E-4B02-9E21-7E7EA06E0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EC04-7C42-4C51-B8CC-77DCE2F2A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3817-2CAF-4C19-9448-175AB1D34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BB5-26D3-41AA-AFA3-741111F92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99B5-1075-4BC9-BEC4-DE062C172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BDED-0879-41E8-B5D0-C9A071C7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19E1-8897-4B1C-AAF6-1FDA621CC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0D2F-D58C-4FA5-9262-003733B0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LM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28560" y="761760"/>
            <a:ext cx="7886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AUGHTER ON "THE BIG VALLEY" AND THE WIFE OF AN OIL TYCOON ON "DYNAS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09800" y="762120"/>
            <a:ext cx="7124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HIT FILM IS THE HIDDEN MESSAGE IN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PHIA  L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 CID" WITH CHARLTON HESTON, "THE MILLIONAIRESS" WITH PETER SELLERS, AND "ARABESQUE" WITH GREGORY PE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ILIO  ESTE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YOUNG GUNS", "STAKEOUT",    "THE MIGHTY DUCKS", AND "THE BREAKFAST CLU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GGY  L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99960" y="762120"/>
            <a:ext cx="834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THE JAZZ SINGER" WITH DANNY THOMAS AND "PETE KELLY'S BLUES" WITH JACK WEB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MMA  ST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LA LA 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ERSONALITY STARRED IN THE FILM    "THE CROCODILE HUN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SI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WRIGHT WROTE THE SCREENPLAYS FOR "THE OUT-OF-TOWNERS", "MURDER BY DEATH", AND "THE GOODBYE GIR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DIE  ALB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743040" y="762120"/>
            <a:ext cx="7657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"ROMAN HOLIDAY" AND "THE HEARTBREAK K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EL CID" WITH CHARLTON HESTON, "THE MILLIONAIRESS" WITH PETER SELLERS, AND "ARABESQUE" WITH GREGORY PE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NA  TU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MAD MAX BEYOND THUNDERDOME" WITH MEL GIB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A  EV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DAUGHTER ON "THE BIG VALLEY" AND THE WIFE OF AN OIL TYCOON ON "DYNAS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2670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LESS  IN  SEATTLE  (THE INITIALS  OF  THE  ANSW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066680" y="762120"/>
            <a:ext cx="70106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HIT FILM IS THE HIDDEN MESSAGE IN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YOUNG GUNS", "STAKEOUT",    "THE MIGHTY DUCKS", AND "THE BREAKFAST CLU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THE JAZZ SINGER" WITH DANNY THOMAS AND "PETE KELLY'S BLUES" WITH JACK WEB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RESS FOR "LA LA 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PERSONALITY STARRED IN THE FILM    "THE CROCODILE HUN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LAYWRIGHT WROTE THE SCREENPLAYS FOR "THE OUT-OF-TOWNERS", "MURDER BY DEATH", AND "THE GOODBYE GIR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SUPPORTING ACTOR FOR "ROMAN HOLIDAY" AND "THE HEARTBREAK K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ER STARRED IN "MAD MAX BEYOND THUNDERDOME" WITH MEL GIB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6:26:12Z</dcterms:modified>
  <cp:revision>356</cp:revision>
  <dc:subject/>
  <dc:title>Slide 1</dc:title>
</cp:coreProperties>
</file>