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716-B4CD-4FF6-8B44-463BABAA1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52D6-552F-41C0-8235-C0D5FDB4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EB29-E8AA-401F-BC05-194D67F1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3E1A-3FE4-41AC-BB0B-52F271F3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0706-DA02-4C0F-BC18-451D47F3A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E4CA-6C91-412B-AD32-DAF0FDA4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8B9F-3AC3-4A69-9E53-1FFBE17A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5553-7D5D-4EDA-A1B9-4FBD0195C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D2DA-B0AE-4082-B862-E226CED3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132D-6315-4A5A-BC04-99B735BB6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71D3-921F-41A6-BEAD-7070A1AA0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30E7-5A00-4D46-B228-DD40DDBF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97AA-2BED-43DE-9A86-624D42893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6DD9-D29B-4E78-B1FE-F7E19E9D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82AE-35AF-4022-805C-D5611852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4C28-0274-48F3-B4AE-CA2F67E3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228E-F587-4433-ACE6-2EE845C53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4D27-C864-4042-B041-2CD45115A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FD19-DFF5-45C1-9917-858C30CA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D68A-CBCD-4A21-9981-F87BCDFA1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33AB-DEB0-4DC1-871B-7526DA2B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1860-EAB1-46AB-9210-6B2A71535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BF81-5166-4697-8ED5-E60A315C3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DAUGHTER ON "THE BIG VALLEY" AND THE WIFE OF AN OIL TYCOON ON "DYNAS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09800" y="762120"/>
            <a:ext cx="7124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HIT FILM IS THE HIDDEN MESSAGE IN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HIA  L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 CID" WITH CHARLTON HESTON, "THE MILLIONAIRESS" WITH PETER SELLERS, AND "ARABESQUE" WITH GREGORY P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IO  ESTEV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62120"/>
            <a:ext cx="7277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YOUNG GUNS", "STAKEOUT",    "THE MIGHTY DUCKS", AND "THE BREAKFAST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GGY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TARRED IN "THE JAZZ SINGER" WITH DANNY THOMAS AND "PETE KELLY'S BLUES" WITH JACK WEB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LA LA 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I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PERSONALITY STARRED IN THE FILM    "THE CROCODILE HUN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WRIGHT WROTE THE SCREENPLAYS FOR "THE OUT-OF-TOWNERS", "MURDER BY DEATH", AND "THE GOODBYE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A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43040" y="762120"/>
            <a:ext cx="7657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OR FOR "ROMAN HOLIDAY" AND "THE HEARTBREAK K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 CID" WITH CHARLTON HESTON, "THE MILLIONAIRESS" WITH PETER SELLERS, AND "ARABESQUE" WITH GREGORY PE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00240" y="762120"/>
            <a:ext cx="674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TARRED IN "MAD MAX BEYOND THUNDERDOME" WITH MEL GIB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EV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DAUGHTER ON "THE BIG VALLEY" AND THE WIFE OF AN OIL TYCOON ON "DYNAS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267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LESS  IN  SEATTLE  (THE INITIALS  OF  THE  ANSW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66680" y="762120"/>
            <a:ext cx="7010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HIT FILM IS THE HIDDEN MESSAGE IN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YOUNG GUNS", "STAKEOUT",    "THE MIGHTY DUCKS", AND "THE BREAKFAST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TARRED IN "THE JAZZ SINGER" WITH DANNY THOMAS AND "PETE KELLY'S BLUES" WITH JACK WEB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LA LA 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PERSONALITY STARRED IN THE FILM    "THE CROCODILE HUN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WRIGHT WROTE THE SCREENPLAYS FOR "THE OUT-OF-TOWNERS", "MURDER BY DEATH", AND "THE GOODBYE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OR FOR "ROMAN HOLIDAY" AND "THE HEARTBREAK K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0" y="761760"/>
            <a:ext cx="666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TARRED IN "MAD MAX BEYOND THUNDERDOME" WITH MEL GIB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1-09-21T16:26:12Z</dcterms:modified>
  <cp:revision>356</cp:revision>
  <dc:subject/>
  <dc:title>Slide 1</dc:title>
</cp:coreProperties>
</file>