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56F2-2800-4B9E-A270-032E7808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980B-8190-4DF9-B803-D5B88596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4834-AA3F-482A-BD57-30ED34B72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EBB-46DE-4485-80F7-7BDDE122C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F999-897B-455C-8A3D-28D4A7DEE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A9A4-F522-4107-9F7C-EB2D9DEE4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0015-D898-4E3F-ACA7-6F0C5795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62BD-7D4F-4985-953E-665E59F6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0AC8-34B3-4460-BDAE-F60C6A45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CE7A-3605-4AE8-9B45-A040E62C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6399-F0C9-4EEB-91EF-E9B43172D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B661-72D1-4F55-BC35-27ABACC1F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0996-3C1F-4CBA-9C7B-A8EE0A82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CC53-A989-4168-A657-910DCCA29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A3C-3170-4B5A-9440-DAA21910B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69CE-2EB8-448E-9233-2333893AA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1AA9-75B9-49C2-BF42-8748FD42E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36CD-C579-43D9-887A-F6388DCA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00B-1073-4C78-A3D2-1D869093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A8F6-90AC-4288-8CBE-4173E5438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4A37-C08B-4967-BAE1-93B939E34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094-CBA2-46A4-8DDD-3F4A67D3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85C3-6407-49D2-8760-8576B53C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NA DO MALES HAVE THAT FEMALES DO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WOR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2160" y="762120"/>
            <a:ext cx="716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RAND NAME OF LEVONORGESTREL, AN EMERGENCY CONTRACEPTION DR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–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CELL PHONE, AFTER GALAX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371600" y="4952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M–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FIRST TRADEMARKED THE HULA-HOOP, FRISBEE, AND SUP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28760" y="76212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SAXOPHONIST'S ALBUM "BREATHLESS" IS THE BEST-SELLING INSTRUMENTAL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 "R"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66560" y="762120"/>
            <a:ext cx="8210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COMPANY WITH OVER 800 STORES DECLARED BANKRUPTCY IN 201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–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-1987 TV SERIES STARRED GEORGE PEPPARD AND MR. T AS SOLDIERS OF 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  DI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HER STAGE NAME DID RAPPER SEAN COMBS USE BESIDES "PUFF DAD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RAND NAME OF LEVONORGESTREL, AN EMERGENCY CONTRACEPTION DRU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PARATION 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HEMORRHOID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  CHROMOS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6280" y="762120"/>
            <a:ext cx="819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NA DO MALES HAVE THAT FEMALES DO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2600" y="4419720"/>
            <a:ext cx="803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OGRAPHY  (THE  SINGLE  LETTERS  IN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WOR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CELL PHONE, AFTER GALAX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5480" y="76212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FIRST TRADEMARKED THE HULA-HOOP, FRISBEE, AND SUP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SAXOPHONIST'S ALBUM "BREATHLESS" IS THE BEST-SELLING INSTRUMENTAL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COMPANY WITH OVER 800 STORES DECLARED BANKRUPTCY IN 201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8800" y="761760"/>
            <a:ext cx="728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-1987 TV SERIES STARRED GEORGE PEPPARD AND MR. T AS SOLDIERS OF FORTU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HER STAGE NAME DID RAPPER SEAN COMBS USE BESIDES "PUFF DAD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HEMORRHOID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1-09-19T13:45:35Z</dcterms:modified>
  <cp:revision>344</cp:revision>
  <dc:subject/>
  <dc:title>Slide 1</dc:title>
</cp:coreProperties>
</file>