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8D6-5AB8-4F75-852B-AF38214F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59B-3FCF-4078-ADFE-85ECA997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284E-1B55-4E11-883D-7CA91F52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226F-D0AA-4471-AF98-60C6D7E0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BAC-8000-4DE7-BA5E-C31C8B7A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A35D-A887-4384-B5FB-B1245D5B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35F-C733-4D1D-B194-CC5D2078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6F27-5000-42FC-B200-F5CE0A17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888D-61AB-45C5-BD67-82D19EC2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561-D5CC-45D7-8289-590FAF1D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E57-0179-4260-8A74-7034AB97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1614-9D05-4C6D-B663-BDF885D1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07F-4DE6-4FF4-B641-7A19CABD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F16A-6AFD-4D5D-8D7E-02EB2013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04BC-FA8B-4CD8-B34F-59BC4FDC4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A31A-7990-4716-9646-276068B1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E004-FD6F-471C-800B-30C4EC2C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D20A-DAE1-47BF-9DEF-6A0C1081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3659-7E6F-4147-A057-CC197CE5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2FA-D700-4CEC-9B0C-0EFE2865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693-497B-48FF-913B-C342D75E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03E0-092A-4511-A608-88ABFAA9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849-6A83-4495-8C73-99A96D3C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NA DO MALES HAVE THAT FEMALES DO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WOR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2160" y="762120"/>
            <a:ext cx="716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RAND NAME OF LEVONORGESTREL, AN EMERGENCY CONTRACEPTION DR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–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CELL PHONE, AFTER GALAX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371600" y="4952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M–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FIRST TRADEMARKED THE HULA-HOOP, FRISBEE, AND SUP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76212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SAXOPHONIST'S ALBUM "BREATHLESS" IS THE BEST-SELLING INSTRUMENTAL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 "R"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66560" y="762120"/>
            <a:ext cx="8210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COMPANY WITH OVER 800 STORES DECLARED BANKRUPTCY IN 201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–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-1987 TV SERIES STARRED GEORGE PEPPARD AND MR. T AS SOLDIERS OF 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  DI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HER STAGE NAME DID RAPPER SEAN COMBS USE BESIDES "PUFF DAD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RAND NAME OF LEVONORGESTREL, AN EMERGENCY CONTRACEPTION DRU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PARATION 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HEMORRHOID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  CHROMO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6280" y="762120"/>
            <a:ext cx="819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NA DO MALES HAVE THAT FEMALES DO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2600" y="4419720"/>
            <a:ext cx="803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OGRAPHY  (THE  SINGLE  LETTERS  IN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WOR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CELL PHONE, AFTER GALAX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5480" y="76212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FIRST TRADEMARKED THE HULA-HOOP, FRISBEE, AND SUP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SAXOPHONIST'S ALBUM "BREATHLESS" IS THE BEST-SELLING INSTRUMENTAL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COMPANY WITH OVER 800 STORES DECLARED BANKRUPTCY IN 201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8800" y="761760"/>
            <a:ext cx="728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-1987 TV SERIES STARRED GEORGE PEPPARD AND MR. T AS SOLDIERS OF FORTU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HER STAGE NAME DID RAPPER SEAN COMBS USE BESIDES "PUFF DAD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HEMORRHOID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1-09-19T13:45:35Z</dcterms:modified>
  <cp:revision>344</cp:revision>
  <dc:subject/>
  <dc:title>Slide 1</dc:title>
</cp:coreProperties>
</file>