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00B-9AD9-4B6D-B9F5-F07AB48B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FB5B-2ADA-4645-A4DC-A4FD7D41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033-35BB-48A6-9B5C-00652909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FBE-9452-4E0B-8805-2059D641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6973-CCCB-40F7-A3EC-98AA6257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28A-2382-4DD1-AB94-34B4B1CC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8104-E9CC-4692-815A-59D217CC3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3A1-E595-4132-9A0B-7B90A242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127-9BE7-4C34-83EE-C24BAA64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FF5-F4A3-4C95-8C63-8593BB0D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6BA1-AC7D-4E37-95DA-60891F2F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271-E8BC-417E-8710-11A1C809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9E3F-9840-438E-8C09-1B39E058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8B9-BFAF-413D-AF26-6162DD0C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FBD-BD42-4BA6-A6D9-291CC72A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804-3760-45C2-8D4D-ED20DAFC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A72-3FDB-47AB-912C-E6A7EBDD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F75-79DC-4B9D-92B8-6F518827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4515-DF5F-4572-A979-71430554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DDE9-2FFA-4FF9-99A0-C9005A67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AEDF-A9E5-4558-8E11-552512C2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D27-8921-4A95-B8FA-DAB020C3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31C2-3798-446E-8F68-090A42DD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 WAS SUCCEEDED BY NIKITA KHRUSHCHE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81120" y="762120"/>
            <a:ext cx="598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ME IS HIDDEN INSIDE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87400" y="762120"/>
            <a:ext cx="736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CONDOMS HAS MORE THAN 2/3 OF THE U.S.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73080" y="762120"/>
            <a:ext cx="7196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HITCHCOCK FILM TAKES PLACE ENTIRELY AT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8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SERVES AS A FACADE FOR THE ENTIRE TAJ MAH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R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ASSOCIATED WITH HUNGARIAN FOOD WAS ACTUALLY NOT POPULAR     IN HUNGARY UNTIL THE       LAT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152280" y="838080"/>
            <a:ext cx="6221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HARACTER" DOES THIS ACTOR PORTRAY IN ALLSTATE INSURANCE COMMERC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64780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J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8280" y="762120"/>
            <a:ext cx="786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 DANGEROUS METHOD" DEPICTS SIGMUND FREUD'S COLLABORATION WITH WHAT OTHER PSYCHOLOG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O  AND  JUL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TERM "STAR-CROSSED LOVERS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CONDOMS HAS MORE THAN 2/3 OF THE U.S. MAR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7920" y="762120"/>
            <a:ext cx="6248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LATION OF WYNONNA JUDD TO NAOMI JUD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58760" y="762120"/>
            <a:ext cx="70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 WAS SUCCEEDED BY NIKITA KHRUSHCHE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61960" y="4419720"/>
            <a:ext cx="8020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REVIATIONS  FOR  THE  FIRST  9  MONTHS  OF  THE  Y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542960" y="762120"/>
            <a:ext cx="6058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ME IS HIDDEN INSIDE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HITCHCOCK FILM TAKES PLACE ENTIRELY AT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95400" y="762120"/>
            <a:ext cx="71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SERVES AS A FACADE FOR THE ENTIRE TAJ MAH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ASSOCIATED WITH HUNGARIAN FOOD WAS ACTUALLY NOT POPULAR     IN HUNGARY UNTIL THE       LAT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15228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HARACTER" DOES THIS ACTOR PORTRAY IN ALLSTATE INSURANCE COMMERC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64780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 DANGEROUS METHOD" DEPICTS SIGMUND FREUD'S COLLABORATION WITH WHAT OTHER PSYCHOLOG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TERM "STAR-CROSSED LOVERS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59080" y="762120"/>
            <a:ext cx="622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LATION OF WYNONNA JUDD TO NAOMI JUD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5T12:29:52Z</dcterms:modified>
  <cp:revision>516</cp:revision>
  <dc:subject/>
  <dc:title>Slide 1</dc:title>
</cp:coreProperties>
</file>