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406E-BBF9-4800-86FA-362DAF7AC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3D42-549C-4B1E-8962-2C278F0C8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FDD4-1743-471F-9BE3-2929D99AD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26C4-A5C2-4BD3-A053-0CFBCF06D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D9D5-0D63-4BEB-A429-7ADE3D53C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715E-8384-434D-BBE9-009AE1719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54EF-2B42-4693-95DA-C65E562E9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13D2-5961-4416-A081-E4911C22F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4CF1-D332-406A-B597-D52D89A19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53F0-1B36-4691-A0ED-D234535C5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80CD-C412-4CA6-9F5F-FA1963317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6E2A-D3A6-4DA4-8B5E-C1CF62653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893D-D6FF-4176-A9FD-6DDEEF490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EEDF-18A0-4EBE-BA8D-98817AD19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4E04-3A46-41D4-9B55-C41E1B378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E6E33-E4A2-4F21-A6D0-15E878165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357E-5D4A-4DD1-8322-BC8296FAE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7024-C8CB-4952-8D29-A70812E53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8BD3-1CC3-4F67-941B-F27F7A4EB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19525-30DC-4AA8-99E5-9D20BD08C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B088-652A-4680-9538-2BFBED240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551C-2E3E-4033-8A23-3A3EAFB06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105E-133F-4368-810F-B494379C7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00080" y="761760"/>
            <a:ext cx="7143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LEADER WAS SUCCEEDED BY NIKITA KHRUSHCHE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81120" y="762120"/>
            <a:ext cx="5981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EME IS HIDDEN INSIDE ALL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J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87400" y="762120"/>
            <a:ext cx="7369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CONDOMS HAS MORE THAN 2/3 OF THE U.S. MARK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B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973080" y="762120"/>
            <a:ext cx="7196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4 HITCHCOCK FILM TAKES PLACE ENTIRELY AT S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131840" y="762120"/>
            <a:ext cx="6880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ERIAL SERVES AS A FACADE FOR THE ENTIRE TAJ MAH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RI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 ASSOCIATED WITH HUNGARIAN FOOD WAS ACTUALLY NOT POPULAR     IN HUNGARY UNTIL THE       LAT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-152280" y="838080"/>
            <a:ext cx="622116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CHARACTER" DOES THIS ACTOR PORTRAY IN ALLSTATE INSURANCE COMMERCI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6248520" y="990720"/>
            <a:ext cx="2647800" cy="35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L  J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38280" y="762120"/>
            <a:ext cx="786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A DANGEROUS METHOD" DEPICTS SIGMUND FREUD'S COLLABORATION WITH WHAT OTHER PSYCHOLOG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579680" y="4952880"/>
            <a:ext cx="5984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EO  AND  JULI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63400" y="762120"/>
            <a:ext cx="8015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DOES THE TERM "STAR-CROSSED LOVERS" APP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0800" y="762120"/>
            <a:ext cx="7500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RAND OF CONDOMS HAS MORE THAN 2/3 OF THE U.S. MARK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UGH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447920" y="762120"/>
            <a:ext cx="6248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LATION OF WYNONNA JUDD TO NAOMI JUD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STA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58760" y="762120"/>
            <a:ext cx="70246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USSIAN LEADER WAS SUCCEEDED BY NIKITA KHRUSHCHE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561960" y="4419720"/>
            <a:ext cx="8020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BREVIATIONS  FOR  THE  FIRST  9  MONTHS  OF  THE  YEA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1542960" y="762120"/>
            <a:ext cx="60580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EME IS HIDDEN INSIDE ALL THESE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95400" y="761760"/>
            <a:ext cx="7151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4 HITCHCOCK FILM TAKES PLACE ENTIRELY AT S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95400" y="762120"/>
            <a:ext cx="715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TERIAL SERVES AS A FACADE FOR THE ENTIRE TAJ MAH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1200" y="762120"/>
            <a:ext cx="79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 ASSOCIATED WITH HUNGARIAN FOOD WAS ACTUALLY NOT POPULAR     IN HUNGARY UNTIL THE       LAT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-152280" y="761760"/>
            <a:ext cx="6248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CHARACTER" DOES THIS ACTOR PORTRAY IN ALLSTATE INSURANCE COMMERCI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248520" y="990720"/>
            <a:ext cx="2647800" cy="35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A DANGEROUS METHOD" DEPICTS SIGMUND FREUD'S COLLABORATION WITH WHAT OTHER PSYCHOLOG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92200" y="761760"/>
            <a:ext cx="795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HAKESPEARE PLAY DOES THE TERM "STAR-CROSSED LOVERS" APP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459080" y="762120"/>
            <a:ext cx="6224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LATION OF WYNONNA JUDD TO NAOMI JUD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9-15T12:29:52Z</dcterms:modified>
  <cp:revision>516</cp:revision>
  <dc:subject/>
  <dc:title>Slide 1</dc:title>
</cp:coreProperties>
</file>