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B0A4-D743-49B1-834B-FA409820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9F8-B726-40A0-8A99-7013DD16B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7828-5A03-415F-90F6-26A6EE21F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46DA-A9A0-4502-AE85-EF98625DC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003C-6AF4-48F1-9EE7-41BC3338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7492-A927-4F2C-9BCA-36DE4CC2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2D73-9981-431D-BD1E-105B0194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8F1F-C733-492E-A726-C77D1C37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0145-D216-45CB-A84A-F74FC71A4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C62A-CA7E-4A5B-B185-18F9CFF1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9752-C815-4055-AE2B-B1A8520B9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90F8-A69E-4A3F-B6FA-EBF522A2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C0C9-AFE7-451E-82EF-0DD906688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932A-37A6-4404-811D-52F2BD278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42F4-CCFE-4C65-978E-A0C27A7D2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F080-C0EA-4D4D-A0C5-C098715D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DD74-F54B-428F-A6CF-E499FEC1D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0B53-D5B5-4FA7-947B-3EA264206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A892-47E3-430E-AF0C-383025F93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CFD-D8A3-4364-A331-14FDF82D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12754-52BE-4F2F-B026-7E09E067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5469-7A72-482A-B3D3-7C43D574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7486-A770-4322-BA38-70E7087C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UY FAWKES ATTEMPT TO BLOW UP THE BRITISH PARLIA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CATION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PILLARS OF ISLAM"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WHAT IS THE LARGEST NUMBER WHOSE NAME IS A SINGLE SYLL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04880" y="762120"/>
            <a:ext cx="7734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BLACKJACK, WHAT IS THE DESIRED TOTAL OF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FIRST LINCOLN HEAD PENNIES MIN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OCCER PLAYERS ARE ALLOWED ON THE FIELD AT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57160" y="762120"/>
            <a:ext cx="7429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BODIES IN OUR SOLAR SYSTEM CAN BE SEEN WITH THE NAKED EYE ALMOST EVERY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"PILLARS OF ISLAM"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OMAS JEFFERSON BECOME THE THIRD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GUY FAWKES ATTEMPT TO BLOW UP THE BRITISH PARLIA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USIVE  GRAPE              (LET  1=A,  2=B,  3=C,  ETC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CATION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WHAT IS THE LARGEST NUMBER WHOSE NAME IS A SINGLE SYLL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BLACKJACK, WHAT IS THE DESIRED TOTAL OF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WERE THE FIRST LINCOLN HEAD PENNIES MIN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OCCER PLAYERS ARE ALLOWED ON THE FIELD AT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TONIC SOLID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BODIES IN OUR SOLAR SYSTEM CAN BE SEEN WITH THE NAKED EYE ALMOST EVERY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THOMAS JEFFERSON BECOME THE THIRD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6T15:56:33Z</dcterms:modified>
  <cp:revision>406</cp:revision>
  <dc:subject/>
  <dc:title>Slide 1</dc:title>
</cp:coreProperties>
</file>