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D730-E7CE-41F6-8505-77C64845F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BD52-F131-4A62-A0B5-9AA843F98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FA80-4C1E-48DA-AE86-353B41AD6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9C6E-2093-44E6-825D-A9DBAF1FF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0976-F352-4D6E-9A1F-8BDBA2552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0483-636A-4963-B3CB-FED4D70E1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2346-1F6A-4AA5-95D9-B48E4219B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3EE7-22E1-4484-8819-418CC823B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FC36-81C5-40A7-91D2-25B5F64EB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C2C6-3C2A-4458-A351-62424AE16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BE49-214E-4CE0-A814-D14266FC6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BAA3-93B1-416B-BE93-CAFEAD91C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F421-4F36-49DA-AD18-8B7A05B1C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551B-85CF-4D05-83A0-396E669FE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CE3A-E113-4801-B8C5-16743415A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74AA-39F8-4798-92B3-59140B0D9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72EE-AA6A-4319-80C5-522905DAC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E760-D01D-46BE-870A-F0DE04F88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E9EE-0C9B-4621-B98F-735F42C98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4B2D-179B-4682-BCCF-1E0D9166C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20D1-9C5F-4B84-8917-32613D772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1DF4-E9C7-4E30-BE13-D06E9BF39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0EAB-69E0-4664-A442-88149B8BE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0666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MERICAL          HIDDEN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GUY FAWKES ATTEMPT TO BLOW UP THE BRITISH PARLIA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CATION IS THE HIDDEN MESSAGE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"PILLARS OF ISLAM"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ENGLISH, WHAT IS THE LARGEST NUMBER WHOSE NAME IS A SINGLE SYLL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04880" y="762120"/>
            <a:ext cx="7734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AME OF BLACKJACK, WHAT IS THE DESIRED TOTAL OF C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WERE THE FIRST LINCOLN HEAD PENNIES MINT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OCCER PLAYERS ARE ALLOWED ON THE FIELD AT ON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57160" y="762120"/>
            <a:ext cx="7429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LATONIC SOLIDS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66760" y="762120"/>
            <a:ext cx="8610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FFERENT BODIES IN OUR SOLAR SYSTEM CAN BE SEEN WITH THE NAKED EYE ALMOST EVERY 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"PILLARS OF ISLAM" ARE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8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THOMAS JEFFERSON BECOME THE THIRD U.S.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6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28600" y="762120"/>
            <a:ext cx="8686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GUY FAWKES ATTEMPT TO BLOW UP THE BRITISH PARLIA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57480" y="4343400"/>
            <a:ext cx="6629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USIVE  GRAPE              (LET  1=A,  2=B,  3=C, 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04920" y="762120"/>
            <a:ext cx="8534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CATION IS THE HIDDEN MESSAGE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ENGLISH, WHAT IS THE LARGEST NUMBER WHOSE NAME IS A SINGLE SYLLA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AME OF BLACKJACK, WHAT IS THE DESIRED TOTAL OF C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WERE THE FIRST LINCOLN HEAD PENNIES MIN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OCCER PLAYERS ARE ALLOWED ON THE FIELD AT ONE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LATONIC SOLIDS ARE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76280" y="761760"/>
            <a:ext cx="8191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FFERENT BODIES IN OUR SOLAR SYSTEM CAN BE SEEN WITH THE NAKED EYE ALMOST EVERY 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THOMAS JEFFERSON BECOME THE THIRD U.S.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26T15:56:33Z</dcterms:modified>
  <cp:revision>406</cp:revision>
  <dc:subject/>
  <dc:title>Slide 1</dc:title>
</cp:coreProperties>
</file>