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2996-B2E5-4FEF-A7C6-8BBF170FB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9E37-BA06-4CAF-8398-AB0E47F76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CCB-03AD-4590-AEEF-A062255E0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5F94-C036-4926-B756-33E61448A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2154-512A-4633-8951-869777243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9904-B59D-427D-94AF-EFE0532B7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AF3E-102D-4F44-9AD8-897C7C5D3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6880-24A8-4481-A307-0D6EC56D9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EC74-7F73-4ADC-AF6A-A8F3DA015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BCA7-6E82-495D-A096-52106F693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F3F3-36A3-4EB8-8404-02E7B2CE9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EB61-37D5-4BFA-ACFC-45FCE2798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24FB-E21F-47B1-A7B4-C1DADFBF5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E85A-D62B-4A15-8842-0F795D8A4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74F4-6C5B-4C92-B3CD-5685E0F71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1267-0D62-4CD4-A9A8-8E37B07B5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CD75-A977-4B59-A691-ACF43CA48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CEC7-6A46-4675-BC56-36B6BA3E8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F418-642B-405E-930B-777BD1893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3642-2986-431D-B252-30E99456C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5451-37F6-4A5C-BD46-AA8C77D93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CFC7-2539-4FD4-9405-EA3A5DAEA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F559-B88D-4A57-8E2E-B175618FB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ERICAL 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GUY FAWKES ATTEMPT TO BLOW UP THE BRITISH PARLI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CATION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PILLARS OF ISLAM"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NGLISH, WHAT IS THE LARGEST NUMBER WHOSE NAME IS A SINGLE SYLL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04880" y="762120"/>
            <a:ext cx="7734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BLACKJACK, WHAT IS THE DESIRED TOTAL OF C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ERE THE FIRST LINCOLN HEAD PENNIES MINT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OCCER PLAYERS ARE ALLOWED ON THE FIELD AT ON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57160" y="762120"/>
            <a:ext cx="7429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TONIC SOLID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FFERENT BODIES IN OUR SOLAR SYSTEM CAN BE SEEN WITH THE NAKED EYE ALMOST EVERY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PILLARS OF ISLAM"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OMAS JEFFERSON BECOME THE THIRD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GUY FAWKES ATTEMPT TO BLOW UP THE BRITISH PARLI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57480" y="43434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USIVE  GRAPE              (LET  1=A,  2=B,  3=C, 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CATION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NGLISH, WHAT IS THE LARGEST NUMBER WHOSE NAME IS A SINGLE SYLL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BLACKJACK, WHAT IS THE DESIRED TOTAL OF C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ERE THE FIRST LINCOLN HEAD PENNIES MIN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OCCER PLAYERS ARE ALLOWED ON THE FIELD AT ON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TONIC SOLID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FFERENT BODIES IN OUR SOLAR SYSTEM CAN BE SEEN WITH THE NAKED EYE ALMOST EVERY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OMAS JEFFERSON BECOME THE THIRD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6T15:56:33Z</dcterms:modified>
  <cp:revision>406</cp:revision>
  <dc:subject/>
  <dc:title>Slide 1</dc:title>
</cp:coreProperties>
</file>