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FFE-C55B-41DD-82C3-FD645144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BB5-6059-4494-8E14-DFEBA19C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0CE6-F000-4238-8E84-50C5F27A0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774C-B9EB-4E76-A6CF-7E1094AA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755-FB0B-4789-A1CC-E7EB83669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FF0-E6B1-44FB-AF96-934DBDF85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A5D-6FD7-440C-BB83-C03333C4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857-738D-4E51-BBF4-56804BC66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157-9684-4BCE-BB7E-E81CE20A3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3C0E-2FC0-4741-BEE1-E01A5EA1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1A8C-1D7B-457A-BBEA-FA2BA219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39F-03D2-407F-89B8-2547E54A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E904-1FC3-4639-A7E3-801EB086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C24-3678-4D2B-A212-101FDD83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2191-6D20-44E3-8531-97B53A12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C79-CBDE-4A9A-91FE-70BBB51B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505-F7C3-4E3A-898E-07F7C61A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524-9436-449C-90E8-A2BB2798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861A-B81A-4218-9FAA-7E018FEE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30D6-30FC-4812-B99F-F8819A24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9198-AC6A-4706-8312-A841F8C2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5FA-053F-44BA-93C0-6EA9ED98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8A7A-3608-4E86-A839-054893B5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HARRY STYLES A MEMB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THE MOST VISITED WEBSITE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VISITED WEBSITE, BOUGHT BY GOOGL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7160" y="4952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AVE  A 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1720" y="762120"/>
            <a:ext cx="7539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IN THE SPEECH THAT MARTIN LUTHER KING JR. GAVE IN WASHINGTON ON AUGUST 28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4197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THE  NEWS  THAT'S  FIT  TO 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1680" y="762120"/>
            <a:ext cx="674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OGAN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  ALL  YOU  CAN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LOGAN OF THE U.S. ARMY 1980-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DD  COU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-1975 SITCOM STARRED TONY RANDALL AND JACK KLU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14400" y="49528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TO  THE 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8520" y="762120"/>
            <a:ext cx="834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FEATURED A TIME-TRAVELLING DELOR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STUDIO ALBUM RELEASED BY THE BEATLE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THE MOST VISITED WEBSITE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VISITED WEBSITE, BOUGHT BY GOOGL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 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ELD OF MATHEMATICS STUDIES DIVISIBILITY, PRIME NUMBERS, AND INTEGER-VALUED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33440" y="49528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79400" y="762120"/>
            <a:ext cx="758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HARRY STYLES A MEMB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47920" y="441972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HAVE  TO  BE  ODD  TO  BE  NUMBER 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8760" y="762120"/>
            <a:ext cx="8826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IN THE SPEECH THAT MARTIN LUTHER KING JR. GAVE IN WASHINGTON ON AUGUST 28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OGAN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LOGAN OF THE U.S. ARMY 1980-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-1975 SITCOM STARRED TONY RANDALL AND JACK KLU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FEATURED A TIME-TRAVELLING DELOR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STUDIO ALBUM RELEASED BY THE BEATLE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4600" y="761760"/>
            <a:ext cx="879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ELD OF MATHEMATICS STUDIES DIVISIBILITY, PRIME NUMBERS, AND INTEGER-VALUED FUNC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8-21T18:43:38Z</dcterms:modified>
  <cp:revision>388</cp:revision>
  <dc:subject/>
  <dc:title>Slide 1</dc:title>
</cp:coreProperties>
</file>