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6756-8244-445F-AE46-71E466AD91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E433-FBCB-4A60-A068-F02851FAD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A4EB-B745-4481-91AF-38AAAF35C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37D5-E38C-4F2D-BCB3-87016EF57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959A-06B1-48A0-B115-7144ACDAC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85E5-441B-4EDE-B2BE-1543F5336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A97E-6251-4451-AF76-41F0D56A6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9830-E9D9-40FC-81A7-8F12D6E92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2B20-C3B8-4D7F-9C3B-F53A289FD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2030-FD1D-4B0E-B9BF-74B3D699C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FD9A-4E44-4DE0-8F5F-7157CF1D4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1760-9E7D-4B70-84F1-C480C7157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6E1E-1A0C-41EB-B390-9BBC2D981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E124-C917-499C-834F-8FC0A6ACD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E7BC-A729-454A-8D6E-B75BCD170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FD88-588C-4813-BA07-E4BCB3CE8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C207-9F4B-4EAE-A1BB-A0804A482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918C-9FAB-4C1B-A6E9-178D7EEC9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BE4A-DED9-4026-9838-FDE872A54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3246-62EF-43C4-B2CB-575E624EE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3EB3-691B-49FE-99A3-76C4E23B1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6E15-1260-47E5-873D-E505B3909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9009-7168-4670-9BB6-AFCE9217C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190600" y="1523880"/>
            <a:ext cx="4762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DDEN  QUO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57360" y="761760"/>
            <a:ext cx="7829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Y BAND WAS HARRY STYLES A MEMBER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271440" y="762120"/>
            <a:ext cx="8601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. SEUSS QUOTE CONTAINS 1 WORD FROM EACH OF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  TU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15880" y="762120"/>
            <a:ext cx="8112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OGLE IS THE MOST VISITED WEBSITE.  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VISITED WEBSITE, BOUGHT BY GOOGLE IN 200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27160" y="495288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  HAVE  A  DR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801720" y="762120"/>
            <a:ext cx="75391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LINE IN THE SPEECH THAT MARTIN LUTHER KING JR. GAVE IN WASHINGTON ON AUGUST 28, 196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523880" y="4419720"/>
            <a:ext cx="6096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  THE  NEWS  THAT'S  FIT  TO  PR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201680" y="762120"/>
            <a:ext cx="67406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OGAN OF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NEW YORK TIM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  ALL  YOU  CAN 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519120" y="762120"/>
            <a:ext cx="8105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LOGAN OF THE U.S. ARMY 1980-200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ODD  COU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0-1975 SITCOM STARRED TONY RANDALL AND JACK KLUG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914400" y="4952880"/>
            <a:ext cx="7315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K  TO  THE 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98520" y="762120"/>
            <a:ext cx="8345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FILM FEATURED A TIME-TRAVELLING DELOR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T  IT 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NAL STUDIO ALBUM RELEASED BY THE BEATLES IN 197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49280" y="762120"/>
            <a:ext cx="8245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OGLE IS THE MOST VISITED WEBSITE.  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ST VISITED WEBSITE, BOUGHT BY GOOGLE IN 200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UMBER 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55560" y="762120"/>
            <a:ext cx="7832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ELD OF MATHEMATICS STUDIES DIVISIBILITY, PRIME NUMBERS, AND INTEGER-VALUED FUNC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333440" y="4952880"/>
            <a:ext cx="6477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79400" y="762120"/>
            <a:ext cx="758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Y BAND WAS HARRY STYLES A MEMBER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1447920" y="4419720"/>
            <a:ext cx="6248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U  HAVE  TO  BE  ODD  TO  BE  NUMBER  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58760" y="762120"/>
            <a:ext cx="88264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R. SEUSS QUOTE CONTAINS 1 WORD FROM EACH OF THE PREVIOUS ANS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33040" y="761760"/>
            <a:ext cx="7475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FAMOUS LINE IN THE SPEECH THAT MARTIN LUTHER KING JR. GAVE IN WASHINGTON ON AUGUST 28, 196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OGAN OF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THE NEW YORK TIME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03280" y="762120"/>
            <a:ext cx="8136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SLOGAN OF THE U.S. ARMY 1980-200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65280" y="761760"/>
            <a:ext cx="7813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0-1975 SITCOM STARRED TONY RANDALL AND JACK KLUG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2680" y="761760"/>
            <a:ext cx="8378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85 FILM FEATURED A TIME-TRAVELLING DELORE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08200" y="761760"/>
            <a:ext cx="7527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NAL STUDIO ALBUM RELEASED BY THE BEATLES IN 197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74600" y="761760"/>
            <a:ext cx="8794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ELD OF MATHEMATICS STUDIES DIVISIBILITY, PRIME NUMBERS, AND INTEGER-VALUED FUNC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2-08-21T18:43:38Z</dcterms:modified>
  <cp:revision>388</cp:revision>
  <dc:subject/>
  <dc:title>Slide 1</dc:title>
</cp:coreProperties>
</file>