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FEE3-362F-48F2-A9F9-7F2FFD90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3CD2-1A8F-4DB5-A245-DD51CDE41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577B-7DE6-475B-B3C4-B54F4A150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BAFE-68FA-44AE-B5F7-9AAEBCC2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9F6D-0178-4691-A0E0-90C6D8EC2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F837-AD24-46A6-9F74-604995606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107-C773-47C8-B4A4-62EC2358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E65-C37D-4B71-A936-0C36AF04A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6714-D6F4-4223-AECA-435500DA9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3C67-FB0C-41CE-A032-1EC9E3F62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EF83-06DD-4BB1-9DA0-BCD16A322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272D-90C8-42D1-8AA6-458AA53DB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382E-40AD-4D2D-B252-604284A6B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6FAB-DDAF-447A-981F-243F4DB8D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F8AC-7E73-47A7-8C5B-4ABB5CF9F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AD45-BAAD-4A48-9FEB-468310044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EB4E-9F15-415D-B912-08025A1AC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EB4A-ED29-41CD-AF67-9BB00E4CF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D8E2E-6CB5-4A6F-BC07-F68009C9A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2286-0C4A-4060-8F5F-DBD022EAB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B318-414E-4BBB-85C6-76290BD9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4F15-0820-42A2-983B-7FBF18100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46C0-4299-4492-95EB-CBC61CB87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PHOTOGRAPHED STREET IN THE COUNTRY, ACORN STREET IN BOSTON, IS PAVED WITH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HIDDEN IN ALL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TWO LARGEST EMPLOYERS ARE JOHNS HOPKINS HOSPITAL AND JOHNS HOPKINS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B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9160" y="762120"/>
            <a:ext cx="890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AL SUBJECT DID PIERRE DE FERMAT AND BLAISE PASCAL REVOLUTION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3440" y="762120"/>
            <a:ext cx="8275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 COUNTRIES JUST SOUTH OF FINLAND ARE KNOW AS THE WHA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22360" y="762120"/>
            <a:ext cx="809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PROFESSIONAL WREST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0520" y="762120"/>
            <a:ext cx="802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FOR THE GERMAN WORD FOR "GOBLIN", APPEARS RIGHT BETWEEN IRON AND NICKEL IN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47600" y="762120"/>
            <a:ext cx="7048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CKGAMMON, A SINGLE MAN ON A SPACE IS KNOWN AS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A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71400" y="762120"/>
            <a:ext cx="7801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 90% OF THE VOLCANIC ROCK ON EARTH IS WHAT TYPE OF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0040" y="762120"/>
            <a:ext cx="814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'S TWO LARGEST EMPLOYERS ARE JOHNS HOPKINS HOSPITAL AND JOHNS HOPKINS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SOL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50800" y="762120"/>
            <a:ext cx="8040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VODKA IN THE WORLD, AFTER SMIRNO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BLE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19120" y="762120"/>
            <a:ext cx="810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PHOTOGRAPHED STREET IN THE COUNTRY, ACORN STREET IN BOSTON, IS PAVED WITH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4197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T  (THOSE  LETTERS  APPEAR  IN THAT ORDER  IN  THE  ANSW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76240" y="762120"/>
            <a:ext cx="739152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HIDDEN IN ALL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480" y="761760"/>
            <a:ext cx="896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HEMATICAL SUBJECT DID PIERRE DE FERMAT AND BLAISE PASCAL REVOLUTION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41440" y="762120"/>
            <a:ext cx="8061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SMALL COUNTRIES JUST SOUTH OF FINLAND ARE KNOW AS THE WHAT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42440" y="762120"/>
            <a:ext cx="825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VES AS A TROPHY IN PROFESSIONAL WREST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, NAMED FOR THE GERMAN WORD FOR "GOBLIN", APPEARS RIGHT BETWEEN IRON AND NICKEL IN THE PERIODIC T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0240" y="761760"/>
            <a:ext cx="71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CKGAMMON, A SINGLE MAN ON A SPACE IS KNOWN AS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9440" y="761760"/>
            <a:ext cx="784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 90% OF THE VOLCANIC ROCK ON EARTH IS WHAT TYPE OF R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9560" y="762120"/>
            <a:ext cx="7724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EST-SELLING VODKA IN THE WORLD, AFTER SMIRNO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20T18:22:17Z</dcterms:modified>
  <cp:revision>514</cp:revision>
  <dc:subject/>
  <dc:title>Slide 1</dc:title>
</cp:coreProperties>
</file>