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364D-C57C-4547-92AD-AB557D3CE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CDAE-1B42-418D-9E31-BA124662A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70A9-A699-40D2-BB68-A721F5E0B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F5E9-3C61-47FF-BB96-83E2A7C57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4AA0-1EA1-4E00-A838-FCB94CB6C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85E0-80C7-45E2-B260-70F5D0C70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E7C6-F194-4DE2-9AA7-3EDBC6C30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A3B4-8256-45CC-9A04-823FB7D16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1BD2-4140-44A9-8753-812A07E9A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5EF0-166B-453D-9F8F-F63654915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7431-537E-48E8-BA7B-0B095BB8F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66E3-2DD0-4F11-94B2-4DEC2356E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67D3-41E6-4D1C-8138-0A8702AF4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536A-FBF3-4835-89E1-0470A0240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E96F-0BF7-48BE-B1E6-22AC71E0C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547B-4BBD-4529-A21C-932B16C6E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8C51-409A-443D-9386-17BAF1E37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9A95-8C64-417F-BDD0-3BAE28189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9C6B-E86C-4254-B9BA-FE7B5BE26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D2FB-7472-488F-89AA-D8B1A5C52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E5F1-FA37-40AE-9346-ACF1F13DE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9DB4-CDE3-4859-9495-993646C8D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E52C-58D1-4650-939F-E0262C52B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PHOTOGRAPHED STREET IN THE COUNTRY, ACORN STREET IN BOSTON, IS PAVED WITH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HIDDEN IN ALL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TI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7720" y="762120"/>
            <a:ext cx="8186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'S TWO LARGEST EMPLOYERS ARE JOHNS HOPKINS HOSPITAL AND JOHNS HOPKINS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B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9160" y="762120"/>
            <a:ext cx="890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EMATICAL SUBJECT DID PIERRE DE FERMAT AND BLAISE PASCAL REVOLUTION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33440" y="762120"/>
            <a:ext cx="8275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SMALL COUNTRIES JUST SOUTH OF FINLAND ARE KNOW AS THE WHAT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22360" y="762120"/>
            <a:ext cx="8099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S AS A TROPHY IN PROFESSIONAL WREST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0520" y="762120"/>
            <a:ext cx="802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, NAMED FOR THE GERMAN WORD FOR "GOBLIN", APPEARS RIGHT BETWEEN IRON AND NICKEL IN THE PERIODIC 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47600" y="762120"/>
            <a:ext cx="704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CKGAMMON, A SINGLE MAN ON A SPACE IS KNOWN AS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71400" y="762120"/>
            <a:ext cx="7801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THAN 90% OF THE VOLCANIC ROCK ON EARTH IS WHAT TYPE OF 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'S TWO LARGEST EMPLOYERS ARE JOHNS HOPKINS HOSPITAL AND JOHNS HOPKINS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SOL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50800" y="762120"/>
            <a:ext cx="804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VODKA IN THE WORLD, AFTER SMIRNO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BLE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19120" y="762120"/>
            <a:ext cx="810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PHOTOGRAPHED STREET IN THE COUNTRY, ACORN STREET IN BOSTON, IS PAVED WITH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4197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T  (THOSE  LETTERS  APPEAR  IN THAT ORDER  IN  THE  ANSW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76240" y="762120"/>
            <a:ext cx="739152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HIDDEN IN ALL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480" y="761760"/>
            <a:ext cx="896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EMATICAL SUBJECT DID PIERRE DE FERMAT AND BLAISE PASCAL REVOLUTION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41440" y="762120"/>
            <a:ext cx="8061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SMALL COUNTRIES JUST SOUTH OF FINLAND ARE KNOW AS THE WHAT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42440" y="762120"/>
            <a:ext cx="825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S AS A TROPHY IN PROFESSIONAL WRESTL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, NAMED FOR THE GERMAN WORD FOR "GOBLIN", APPEARS RIGHT BETWEEN IRON AND NICKEL IN THE PERIODIC T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0240" y="761760"/>
            <a:ext cx="71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CKGAMMON, A SINGLE MAN ON A SPACE IS KNOWN AS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THAN 90% OF THE VOLCANIC ROCK ON EARTH IS WHAT TYPE OF R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9560" y="762120"/>
            <a:ext cx="7724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VODKA IN THE WORLD, AFTER SMIRNOF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9-20T18:22:17Z</dcterms:modified>
  <cp:revision>514</cp:revision>
  <dc:subject/>
  <dc:title>Slide 1</dc:title>
</cp:coreProperties>
</file>