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68BA-74F0-4014-80DB-8E290BEAB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38EF-1504-4D7A-BE7B-FA59E4C13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ABAE-8FDB-423E-8278-A264DA711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9FB1-58E5-473E-8F82-8E92765FF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A59C-D4B5-46B1-BC96-D83C3375E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7BBF-77D5-4C05-9B71-50F536C6E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9B5E-7B18-4480-8B50-7252D4C71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9FF0-EEC5-433F-898B-550B91D0B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3920-68D6-4864-B6D3-6147438A3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8D27-BE4C-4E07-A3FA-03D5FB576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F420-DFE9-42E6-9910-C60AA6459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87EA-1CD6-4554-9908-FA132F622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4CEF-8618-4F85-8478-BE5DC84A4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3C25-692D-4BB6-9EEE-BF9BBF9EF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99CC-EE15-428B-AC8E-F145BA9DF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D392-D351-4455-89C2-9CEEBCCA4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BEA5-5BD8-404A-8338-897318888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9619-E3FE-4333-B5F4-3016F0F63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A0BA-08F8-459D-A51E-1A97C0BF7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C7CD-7DCA-4081-89B2-C4508AC47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034D-B4B7-48D4-A79D-76F073719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F1B9-FD0F-4980-8E83-DB75B847F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543C-A0E2-4B5F-B430-312AF0294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76200" y="1066680"/>
            <a:ext cx="6591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CIA EMPLOYEE LEAKED CLASSIFIED NSA INFORMATION IN 2013, AND NOW HAS ASYLUM IN RUS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19320" y="762120"/>
            <a:ext cx="6705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DDEN MESSAGE CAN BE FOUND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K  AA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OKE BABE RUTH'S RECORD FOR CAREER HOME RUNS IN 1974, AND HELD THAT RECORD UNTIL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BLO  PICA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NTER WENT THROUGH A BLUE PERIOD, ROSE PERIOD, AFRICAN PERIOD, ANALYTIC CUBISM, AND SYNTHETIC CUB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UZURU  HANY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PANESE FIGURE SKATER WON OLYMPIC GOLD MEDALS IN MEN'S SINGLES IN 2014 &amp; 2018, AND IS RANKED #1 IN THE WORLD SINCE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TMAR  LIE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GUITARIST HAS 8 PLATINUM ALBUMS, INCLUDING "NOUVEAU FLAMENCO", WHICH SOLD OVER 14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IS  D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FOLK SINGER SANG "OUR TOWN" AND "LET THE MYSTERY B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A  Y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604880" y="762120"/>
            <a:ext cx="5934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OWNED HER 5 YOUNG CHILDREN IN A BATHTUB IN 200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RLEY  MACL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IRMA LA DOUCE", "THE APARTMENT", "SOME CAME RUNNING",   AND "THE TURNING POI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OKE BABE RUTH'S RECORD FOR CAREER HOME RUNS IN 1974, AND HELD THAT RECORD UNTIL 200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TREB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HOSTED "JEOPARDY!" SINCE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WARD  SNOW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CIA EMPLOYEE LEAKED CLASSIFIED NSA INFORMATION IN 2013, AND NOW HAS ASYLUM IN RUS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20680" y="4267080"/>
            <a:ext cx="6902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INITIALS  SPELL  "HAPPY  HOLIDAYS  MATES!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95280" y="757080"/>
            <a:ext cx="6553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DDEN MESSAGE CAN BE FOUND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NTER WENT THROUGH A BLUE PERIOD, ROSE PERIOD, AFRICAN PERIOD, ANALYTIC CUBISM, AND SYNTHETIC CUB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76280" y="762120"/>
            <a:ext cx="819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PANESE FIGURE SKATER WON OLYMPIC GOLD MEDALS IN MEN'S SINGLES IN 2014 &amp; 2018, AND IS RANKED #1 IN THE WORLD SINCE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GUITARIST HAS 8 PLATINUM ALBUMS, INCLUDING "NOUVEAU FLAMENCO", WHICH SOLD OVER 14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FOLK SINGER SANG "OUR TOWN" AND "LET THE MYSTERY B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581120" y="761760"/>
            <a:ext cx="5981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OWNED HER 5 YOUNG CHILDREN IN A BATHTUB IN 200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IRMA LA DOUCE", "THE APARTMENT", "SOME CAME RUNNING",   AND "THE TURNING POI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HOSTED "JEOPARDY!" SINCE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26T15:58:21Z</dcterms:modified>
  <cp:revision>408</cp:revision>
  <dc:subject/>
  <dc:title>Slide 1</dc:title>
</cp:coreProperties>
</file>