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A4AF-E4A0-4646-B134-88FA29156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2268-641F-4056-832A-2C1BE2BE2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89B5-E95A-4618-80F9-4C28173A2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D982-3AD4-4E82-A52D-7700C7F64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94F3-BDF6-4E70-A828-064FB39E1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AF1B-86F1-45A5-B67E-FD285A2CB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FE21-935D-45DF-AF3A-7BA7101FF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C8D3-7CCB-471C-ABA3-E2739BAAE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72E7-9B09-4E76-A31C-85D2B6D76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3D91-844B-4D19-925B-F3497D02F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6A64-157B-4C35-9852-80FEC476F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3DFA-0093-408C-A9A2-5789ADE3B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C94C0-10C4-4EFA-BE25-F969A1F7A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F1AC-1B60-4F8C-853C-E51FB9D03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6451-10F1-430C-90B0-6D39C5AA3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FC68-F953-46AE-A203-E6F23C8FF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F4D6-7FDA-46EC-B9F9-72FC4962D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E115-056D-4121-875A-BECB1C7EA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7C38-EF1A-4656-9407-3637B44EC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DC91-370E-495E-9758-7241E09D0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5F32-C082-4A5A-89BC-0862DF571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B708-A7B6-4B2B-A1A2-7B66FDB96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4E37-DE21-4789-A6F9-E90A2A019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76200" y="1066680"/>
            <a:ext cx="6591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HIDDEN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CIA EMPLOYEE LEAKED CLASSIFIED NSA INFORMATION IN 2013, AND NOW HAS ASYLUM IN RUSS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219320" y="762120"/>
            <a:ext cx="6705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DDEN MESSAGE CAN BE FOUND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K  AA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ROKE BABE RUTH'S RECORD FOR CAREER HOME RUNS IN 1974, AND HELD THAT RECORD UNTIL 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BLO  PICAS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INTER WENT THROUGH A BLUE PERIOD, ROSE PERIOD, AFRICAN PERIOD, ANALYTIC CUBISM, AND SYNTHETIC CUBIS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UZURU  HANY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PANESE FIGURE SKATER WON OLYMPIC GOLD MEDALS IN MEN'S SINGLES IN 2014 &amp; 2018, AND IS RANKED #1 IN THE WORLD SINCE 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TTMAR  LIEB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GUITARIST HAS 8 PLATINUM ALBUMS, INCLUDING "NOUVEAU FLAMENCO", WHICH SOLD OVER 14 MILLION COP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IS  D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FOLK SINGER SANG "OUR TOWN" AND "LET THE MYSTERY B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A  Y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604880" y="762120"/>
            <a:ext cx="5934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ROWNED HER 5 YOUNG CHILDREN IN A BATHTUB IN 200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IRLEY  MACLA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IRMA LA DOUCE", "THE APARTMENT", "SOME CAME RUNNING",   AND "THE TURNING POI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ROKE BABE RUTH'S RECORD FOR CAREER HOME RUNS IN 1974, AND HELD THAT RECORD UNTIL 200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  TREB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HOSTED "JEOPARDY!" SINCE 198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WARD  SNOW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CIA EMPLOYEE LEAKED CLASSIFIED NSA INFORMATION IN 2013, AND NOW HAS ASYLUM IN RUS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20680" y="4267080"/>
            <a:ext cx="6902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INITIALS  SPELL  "HAPPY  HOLIDAYS  MATES!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295280" y="757080"/>
            <a:ext cx="6553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DDEN MESSAGE CAN BE FOUND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INTER WENT THROUGH A BLUE PERIOD, ROSE PERIOD, AFRICAN PERIOD, ANALYTIC CUBISM, AND SYNTHETIC CUBIS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76280" y="762120"/>
            <a:ext cx="8191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PANESE FIGURE SKATER WON OLYMPIC GOLD MEDALS IN MEN'S SINGLES IN 2014 &amp; 2018, AND IS RANKED #1 IN THE WORLD SINCE 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GUITARIST HAS 8 PLATINUM ALBUMS, INCLUDING "NOUVEAU FLAMENCO", WHICH SOLD OVER 14 MILLION COP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FOLK SINGER SANG "OUR TOWN" AND "LET THE MYSTERY B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581120" y="761760"/>
            <a:ext cx="5981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ROWNED HER 5 YOUNG CHILDREN IN A BATHTUB IN 200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IRMA LA DOUCE", "THE APARTMENT", "SOME CAME RUNNING",   AND "THE TURNING POI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HOSTED "JEOPARDY!" SINCE 198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26T15:58:21Z</dcterms:modified>
  <cp:revision>408</cp:revision>
  <dc:subject/>
  <dc:title>Slide 1</dc:title>
</cp:coreProperties>
</file>