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A2C6-C487-44F4-86F7-0FDCA265E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FFBD-D895-417B-8000-FF0DB29A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A035-4ABC-4CFA-8F69-EA22C2A6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06FD-8342-440C-B056-827774082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D5D5-7A29-4382-B4FD-F2D70260A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7F1A-81B0-4A9E-9D4E-F0B53E9A5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84D5-05C4-4D67-BFA1-F3A7AD106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5D0E-8F05-4F52-9C5D-5A63D2C0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A3C3-0076-4FC4-85F3-11C0A25CD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8628-F4E6-4C2D-8A1F-7A82AED4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7A05-37F5-4FDB-8B7F-5BD79A57E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A7EF-6D18-47A0-B96B-D2945535E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9CA-41CB-460A-BFEA-113D82A22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C834-3ABC-4771-A6F4-CCF67015A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8A00-1AC7-45A1-B042-86A2FFAF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4A61-5DD8-48A7-9F61-1584BCC15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2F6C-C4A7-4E90-8293-D60BA7F42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00D3-C0C8-4D32-A2BA-6AE6FE05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9A2A-FD24-4D2D-862B-45D6FC5E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CCD8-3235-457A-A8A8-E9AB5326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75F1-D6C6-446D-A906-EC1ED0263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2EE5-8642-4318-82C2-8D0C17E1A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E53F-D957-44C7-B9E4-442FDD05C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76200" y="1066680"/>
            <a:ext cx="6591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IA EMPLOYEE LEAKED CLASSIFIED NSA INFORMATION IN 2013, AND NOW HAS ASYLUM IN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CAN BE FOUN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AA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RECORD FOR CAREER HOME RUNS IN 1974, AND HELD THAT RECORD UNTIL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WENT THROUGH A BLUE PERIOD, ROSE PERIOD, AFRICAN PERIOD, ANALYTIC CUBISM, AND SYNTHETIC CUB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UZURU  HANY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FIGURE SKATER WON OLYMPIC GOLD MEDALS IN MEN'S SINGLES IN 2014 &amp; 2018, AND IS RANKED #1 IN THE WORLD SINCE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MAR  LIE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GUITARIST HAS 8 PLATINUM ALBUMS, INCLUDING "NOUVEAU FLAMENCO", WHICH SOLD OVER 14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  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OLK SINGER SANG "OUR TOWN" AND "LET THE MYSTERY B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A  Y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4880" y="762120"/>
            <a:ext cx="59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OWNED HER 5 YOUNG CHILDREN IN A BATHTUB IN 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  MACL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IRMA LA DOUCE", "THE APARTMENT", "SOME CAME RUNNING",   AND "THE TURNING PO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RECORD FOR CAREER HOME RUNS IN 1974, AND HELD THAT RECORD UNTIL 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TREB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JEOPARDY!" SINCE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SNOW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IA EMPLOYEE LEAKED CLASSIFIED NSA INFORMATION IN 2013, AND NOW HAS ASYLUM IN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20680" y="4267080"/>
            <a:ext cx="6902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INITIALS  SPELL  "HAPPY  HOLIDAYS  MATES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95280" y="757080"/>
            <a:ext cx="6553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CAN BE FOUN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WENT THROUGH A BLUE PERIOD, ROSE PERIOD, AFRICAN PERIOD, ANALYTIC CUBISM, AND SYNTHETIC CUB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FIGURE SKATER WON OLYMPIC GOLD MEDALS IN MEN'S SINGLES IN 2014 &amp; 2018, AND IS RANKED #1 IN THE WORLD SINCE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GUITARIST HAS 8 PLATINUM ALBUMS, INCLUDING "NOUVEAU FLAMENCO", WHICH SOLD OVER 14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OLK SINGER SANG "OUR TOWN" AND "LET THE MYSTERY B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81120" y="761760"/>
            <a:ext cx="598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OWNED HER 5 YOUNG CHILDREN IN A BATHTUB IN 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IRMA LA DOUCE", "THE APARTMENT", "SOME CAME RUNNING",   AND "THE TURNING POI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JEOPARDY!" SINCE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6T15:58:21Z</dcterms:modified>
  <cp:revision>408</cp:revision>
  <dc:subject/>
  <dc:title>Slide 1</dc:title>
</cp:coreProperties>
</file>