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1AA3-F5B1-4550-9354-89B829A6B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C0F3-F7A0-4617-A3C8-9EEF13C72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2110-46B1-4677-99BD-5E2E19C6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F44D7-7965-433E-B14A-9516FC405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C4C2-9DEB-4AFF-B384-5CD5DF679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D9BD-04EB-4B87-B00F-811AF598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B7D6-A46A-46CE-BC72-56A36E817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1596-EDF5-4E4C-84C2-37FB93B9E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B0F1-F33C-4073-81AC-AC34F7D3D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A23A-8B63-45B1-8F84-324A8D638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B764E-099E-483B-8FFE-8BABF608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026B7-D1D2-4B66-B165-3DAB70ED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2D9-E369-4DA9-8BA0-5F79550A0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7869-5B79-4324-8530-36D929D6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FB02-D613-4D79-AFDC-6F4D2F13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1F31-9922-408B-A45E-ED275E101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2C20-7D75-4090-9456-970FECCE6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93ED-37BA-4204-AE8B-BE9A358B3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DC99-B61D-41DC-8F18-293B8595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AA42-0E4F-4770-86FA-1CDBC9D13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2A85-B066-416D-A797-931032FF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3A4C-9D0C-4C1F-B579-BB0A51EB5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C0EF-599A-4119-B124-D8A04117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 ACTIVIST WAS AMBASSADOR TO THE U.N. 1977-1979 AND MAYOR OF ATLANTA 1982-19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DO I WISH FOR Y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RAM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CHEF HOSTED THE TV SERIES "HELL'S KITCHEN", "MASTER CHEF", AND "KITCHEN NIGHTMA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A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57160" y="762120"/>
            <a:ext cx="7429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TIME OSCAR-NOMINATED ACTOR PLAYED THE MALE LEAD ON "GREEN AC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VILS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    OF IOWA 1999-2007      AND U.S. SECRETARY OF AGRICULTURE 2009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LANSB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LEUTH JESSICA FLETCHER ON "MURDER, SHE WRO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N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3840" y="762120"/>
            <a:ext cx="70963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GOT TOP BILLING IN "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UR", "AMERICAN HISTORY X", AND "THE ILLUSIONIS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IOM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ARY SONGWRITER AND LEAD GUITARIST OF BLACK SABB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A  EPH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WRITER FOR HER FILMS "SLEEPLESS IN SEATTLE", "WHEN HARRY MET SALLY", AND "SILK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CHEF HOSTED THE TV SERIES "HELL'S KITCHEN", "MASTER CHEF", AND "KITCHEN NIGHTMA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RMY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REEN NAME OF THE PORN ACTRESS WHO DONALD TRUMP PAID $130,000 IN HUSH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 ACTIVIST WAS AMBASSADOR TO THE U.N. 1977-1979 AND MAYOR OF ATLANTA 1982-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VALENTINE'S  DAY  (THE INITIALS  OF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DO I WISH FOR YOU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TIME OSCAR-NOMINATED ACTOR PLAYED THE MALE LEAD ON "GREEN AC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    OF IOWA 1999-2007      AND U.S. SECRETARY OF AGRICULTURE 2009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LEUTH JESSICA FLETCHER ON "MURDER, SHE WRO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GOT TOP BILLING IN "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UR", "AMERICAN HISTORY X",  AND "THE ILLUSION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ARY SONGWRITER AND LEAD GUITARIST OF BLACK SABB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WRITER FOR HER FILMS "SLEEPLESS IN SEATTLE", "WHEN HARRY MET SALLY", AND "SILKW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REEN NAME OF THE PORN ACTRESS WHO DONALD TRUMP PAID $130,000 IN HUSH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26T16:00:06Z</dcterms:modified>
  <cp:revision>347</cp:revision>
  <dc:subject/>
  <dc:title>Slide 1</dc:title>
</cp:coreProperties>
</file>