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2378-A9D4-45D8-8CD6-0B53BC22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26E9-C7E2-4BAC-B9AD-A77D4200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E370-4074-4832-A421-83BD40C6D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FF36-92E8-46F3-8BF3-825695F4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2F5-584E-4DA8-9AC7-9DB33AFD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1B8A-428C-47EB-B2CB-07C9DF74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9BE8-28F9-4C3A-B459-6561A17C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7C38-C457-477E-A8B9-E4878B8C6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547C-3870-4C5E-AAEA-49E18681D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93D-AEED-4441-99B2-4CE9D23C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0D7-180B-45B8-BDF7-115E720E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843F-2027-4AC5-9707-849BA8878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2582-E796-472F-BA31-7B6A0A498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FFA3-AC9E-48B7-9DF4-86411977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0C60-5AA2-4B64-A014-36B7C6CA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FDE-C569-49C2-9C21-396F328A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BF9-CA84-45E5-8859-C65CB511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3344-0C2D-4504-9791-3943E121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AE04-9AD3-4B30-B111-C5759F72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C0F-9B61-41B8-A412-3BB09331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B00-2CA0-4B9A-A68B-6D31393B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8DC-C646-47F5-AD24-8FF617E7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5835-BA36-4F14-98D7-EC813D33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 ACTIVIST WAS AMBASSADOR TO THE U.N. 1977-1979 AND MAYOR OF ATLANTA 1982-19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DO I WISH FOR Y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RAM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CHEF HOSTED THE TV SERIES "HELL'S KITCHEN", "MASTER CHEF", AND "KITCHEN NIGHTMA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A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TIME OSCAR-NOMINATED ACTOR PLAYED THE MALE LEAD ON "GREEN AC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VILS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    OF IOWA 1999-2007      AND U.S. SECRETARY OF AGRICULTURE 2009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LANSB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LEUTH JESSICA FLETCHER ON "MURDER, SHE WRO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N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3840" y="762120"/>
            <a:ext cx="70963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GOT TOP BILLING IN "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UR", "AMERICAN HISTORY X", AND "THE ILLUSIONIS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IOM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ARY SONGWRITER AND LEAD GUITARIST OF BLACK SABB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A  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WRITER FOR HER FILMS "SLEEPLESS IN SEATTLE", "WHEN HARRY MET SALLY", AND "SILK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CHEF HOSTED THE TV SERIES "HELL'S KITCHEN", "MASTER CHEF", AND "KITCHEN NIGHTMA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RMY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REEN NAME OF THE PORN ACTRESS WHO DONALD TRUMP PAID $130,000 IN HUSH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 ACTIVIST WAS AMBASSADOR TO THE U.N. 1977-1979 AND MAYOR OF ATLANTA 1982-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VALENTINE'S  DAY  (THE INITIALS  OF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DO I WISH FOR Y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TIME OSCAR-NOMINATED ACTOR PLAYED THE MALE LEAD ON "GREEN AC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    OF IOWA 1999-2007      AND U.S. SECRETARY OF AGRICULTURE 2009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LEUTH JESSICA FLETCHER ON "MURDER, SHE WRO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GOT TOP BILLING IN "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UR", "AMERICAN HISTORY X",  AND "THE ILLUSION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ARY SONGWRITER AND LEAD GUITARIST OF BLACK SABB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WRITER FOR HER FILMS "SLEEPLESS IN SEATTLE", "WHEN HARRY MET SALLY", AND "SILKW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REEN NAME OF THE PORN ACTRESS WHO DONALD TRUMP PAID $130,000 IN HUSH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26T16:00:06Z</dcterms:modified>
  <cp:revision>347</cp:revision>
  <dc:subject/>
  <dc:title>Slide 1</dc:title>
</cp:coreProperties>
</file>