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8B3B-3BDE-45BE-B7C7-8B697516C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65A6-C98A-4854-B327-4D2D4B641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A215-C209-4E93-AA3B-E20963B09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DF14D-6423-4F87-8EA5-F1B419B1D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FA67-DBF1-4A78-BE04-97E068803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FFD9-8156-4798-8EEF-CF7324A47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F9DA-B016-45AC-A01A-0CF6FEA40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34A1-463E-42AC-B25C-E64B4859A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B611-6518-4EAB-B37F-E624CCDA3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BEEE-E68D-4C23-A2C8-4E8DC09AD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F969-1C71-4CC6-B904-D1788726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3F49-D454-4A8A-8A57-A03B89E50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6EA-B42B-4141-ADE6-6931FBFA1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0DE4-60B9-42E8-9168-7A16AFFFE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1B1E-E135-4D27-94B9-52E4EA027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FCEE-AA09-4DCD-9150-027D79424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554B-EAA6-49D4-98D3-8105BBEC4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7055-F7B1-41AB-A868-736B5C90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842A-DA9C-4105-9255-CEEC6D567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5835-99A9-4690-AEC3-08858209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3432-06D3-4061-96FD-217D46A2E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B8C5-C737-46FC-B0FA-204F377C9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CF1B-E608-44F1-9709-368AB0E46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09760" y="1066680"/>
            <a:ext cx="6324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S          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  NON  BLO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57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  &amp;  O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7360" y="762120"/>
            <a:ext cx="8381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EETWOOD 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47680" y="762120"/>
            <a:ext cx="864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ARLY 90’S ALL-FEMALE ROCK BAND’S ONLY HIT WAS CALLED "WHAT’S UP?", DESPITE THE FACT THAT THE CHORUS WAS "WHAT’S GOING ON?"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OWNER OF A LONELY HEART" AND "ROUNDABOU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TH  OF  JULY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DDEN MESSAGE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KILLED IN A DRIVE-BY SHOOTING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MUSIC DUO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09520" y="762120"/>
            <a:ext cx="872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DANCE WITH ME" AND "STILL TH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THE CHAIN" AND "RHIANN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WAS USED IN THE FINAL SCENE OF "THE SOPRANO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2009-2011 "36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 TOUR GROSSED A RECORD $736 MILLION IN TICKET SA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ROCK GROUP HAS SOLD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ALBUMS EVER, AFTER THE BEATLES AND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23:03:33Z</dcterms:created>
  <dc:creator>Jennifer Budzinski</dc:creator>
  <dc:description/>
  <dc:language>en-US</dc:language>
  <cp:lastModifiedBy>Erich Friedman</cp:lastModifiedBy>
  <dcterms:modified xsi:type="dcterms:W3CDTF">2020-08-26T16:01:45Z</dcterms:modified>
  <cp:revision>384</cp:revision>
  <dc:subject/>
  <dc:title>Slide 1</dc:title>
</cp:coreProperties>
</file>