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5C79-3D8A-4D59-8BC7-7455FEAF2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3DE0-90E8-49EE-8440-4E931DFA4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8B1C-55E1-4679-A142-3438E46D3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E834-4F44-4669-BD51-0EAE19DC8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4892-327D-434A-A636-C830F692A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1EEF-195D-4611-90B9-F560A2DA5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7CFF-5919-48DD-9A0D-5E613065B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A9C4-0F11-4977-B601-118FEB864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B8F1-1240-4768-BECB-E90D32BC7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1D23-ADE4-4CCA-98FE-B67C607CA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6B59-633F-4068-9895-3CE3437F9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C3AA-E398-4ABF-B192-1AB7D8161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7942-C196-4ACD-842C-D3F7089D5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CA8D-5F5A-4459-8BF5-84C17D557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E459-F471-4308-A29A-33D82BE92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B8B2-361D-475D-B6CC-F0FEA631D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5741-C46B-4D30-B1F9-54C7EF04D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9F5A-33D4-4E85-93E7-671ACCC75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BF42-6970-46F0-AC23-22A2F9877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C8E5-1249-4593-8C04-CEB25B218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F695-8389-4698-8A1C-ABF550FD1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6C49-D1FC-4211-A6B9-030A2A214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4153-96C3-4BB6-9EDC-15B30F7A1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09760" y="106668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GROUPS          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OWNER OF A LONELY HEART" AND "ROUNDABOU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  NON  BLON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ARLY 90’S ALL-FEMALE ROCK BAND’S ONLY HIT WAS CALLED "WHAT’S UP?", DESPITE THE FACT THAT THE CHORUS WAS "WHAT’S GOING ON?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57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PAC  SHAK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LUENTIAL RAPPER WAS KILLED IN A DRIVE-BY SHOOTING IN 199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  &amp;  O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7360" y="762120"/>
            <a:ext cx="838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EST-SELLING MUSIC DUO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DANCE WITH ME" AND "STILL THE 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EETWOOD  M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THE CHAIN" AND "RHIANN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UR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ONG WAS USED IN THE FINAL SCENE OF "THE SOPRANO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47680" y="762120"/>
            <a:ext cx="864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'S 2009-2011 "36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 TOUR GROSSED A RECORD $736 MILLION IN TICKET S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ARLY 90’S ALL-FEMALE ROCK BAND’S ONLY HIT WAS CALLED "WHAT’S UP?", DESPITE THE FACT THAT THE CHORUS WAS "WHAT’S GOING ON?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D  ZEPP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ROCK GROUP HAS SOLD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ALBUMS EVER, AFTER THE BEATLES AND THE 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9000" y="762120"/>
            <a:ext cx="75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OWNER OF A LONELY HEART" AND "ROUNDABOU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TH  OF  JULY                                  (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LETTER  OF  EACH  ANSW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04840" y="7621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LUENTIAL RAPPER WAS KILLED IN A DRIVE-BY SHOOTING IN 199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EST-SELLING MUSIC DUO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DANCE WITH ME" AND "STILL THE 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THE CHAIN" AND "RHIANN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ONG WAS USED IN THE FINAL SCENE OF "THE SOPRANO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'S 2009-2011 "36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 TOUR GROSSED A RECORD $736 MILLION IN TICKET S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ROCK GROUP HAS SOLD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ALBUMS EVER, AFTER THE BEATLES AND THE EAG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23:03:33Z</dcterms:created>
  <dc:creator>Jennifer Budzinski</dc:creator>
  <dc:description/>
  <dc:language>en-US</dc:language>
  <cp:lastModifiedBy>Erich Friedman</cp:lastModifiedBy>
  <dcterms:modified xsi:type="dcterms:W3CDTF">2020-08-26T16:01:45Z</dcterms:modified>
  <cp:revision>384</cp:revision>
  <dc:subject/>
  <dc:title>Slide 1</dc:title>
</cp:coreProperties>
</file>