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5F14-DFCF-48E3-9436-B66D791BC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3CDC-964C-46D8-9E18-1C5E12996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BA29-A1D0-45DF-B438-5B0BAF9A0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BCE9-B2B3-4867-B26A-E1DF904B7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3CF5-4CB7-446D-9D79-98ABE0102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71F7-685E-4252-8B17-9FBEA8F92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1F69-9293-4B41-8284-69D49FC5A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3E3B-45F8-498B-B265-63A740BA5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6BE5-69DC-459C-8DD5-C60B998CB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5ECF-90D0-46AA-9DC6-4360A3BE4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ED8E-3E44-4D44-9E07-B0C776C52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35A5-FEA1-4EAB-BD78-B8767B89B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C675-9BAD-4CF4-85C1-08E799E8E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520F-19B2-445F-A20D-64455954A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D807-1B57-4388-9D44-3D95C9C1D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ED32-16C3-452E-B8AA-69CFE77F4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2033-483E-4E7E-8E58-A21259FB7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B0DA-6E34-4404-B80B-E50485EC8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DAC3-C780-4D75-B6AD-DD7D6F76E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66AE-4D91-4855-9214-68DE5C8D3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0449-5A1E-4CF7-BEA0-291FE1F23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CD30-8B3C-48AD-BB05-A86F64A56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37A3-005B-4E27-8409-5C9F853A1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09760" y="1066680"/>
            <a:ext cx="6324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AL GROUPS           HIDDEN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OWNER OF A LONELY HEART" AND "ROUNDABOU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DDEN MESSAGE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  NON  BLON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EARLY 90’S ALL-FEMALE ROCK BAND’S ONLY HIT WAS CALLED "WHAT’S UP?", DESPITE THE FACT THAT THE CHORUS WAS "WHAT’S GOING ON?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57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PAC  SHAK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FLUENTIAL RAPPER WAS KILLED IN A DRIVE-BY SHOOTING IN 199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L  &amp;  O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87360" y="762120"/>
            <a:ext cx="8381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BEST-SELLING MUSIC DUO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L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228600" y="7621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DANCE WITH ME" AND "STILL THE O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EETWOOD  M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THE CHAIN" AND "RHIANN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UR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43000" y="762120"/>
            <a:ext cx="6858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SONG WAS USED IN THE FINAL SCENE OF "THE SOPRANOS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47680" y="762120"/>
            <a:ext cx="8648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'S 2009-2011 "36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 TOUR GROSSED A RECORD $736 MILLION IN TICKET SA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EARLY 90’S ALL-FEMALE ROCK BAND’S ONLY HIT WAS CALLED "WHAT’S UP?", DESPITE THE FACT THAT THE CHORUS WAS "WHAT’S GOING ON?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D  ZEPPE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D ROCK GROUP HAS SOLD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ALBUMS EVER, AFTER THE BEATLES AND THE EAG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19000" y="762120"/>
            <a:ext cx="7506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OWNER OF A LONELY HEART" AND "ROUNDABOU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3434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TH  OF  JULY                                  (1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LETTER  OF  EACH  ANSW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04840" y="762120"/>
            <a:ext cx="6934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DDEN MESSAGE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FLUENTIAL RAPPER WAS KILLED IN A DRIVE-BY SHOOTING IN 199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43080" y="762120"/>
            <a:ext cx="8458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BEST-SELLING MUSIC DUO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09520" y="762120"/>
            <a:ext cx="872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DANCE WITH ME" AND "STILL THE O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THE CHAIN" AND "RHIANN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SONG WAS USED IN THE FINAL SCENE OF "THE SOPRANOS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'S 2009-2011 "36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 TOUR GROSSED A RECORD $736 MILLION IN TICKET SA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D ROCK GROUP HAS SOLD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ALBUMS EVER, AFTER THE BEATLES AND THE EAG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2T23:03:33Z</dcterms:created>
  <dc:creator>Jennifer Budzinski</dc:creator>
  <dc:description/>
  <dc:language>en-US</dc:language>
  <cp:lastModifiedBy>Erich Friedman</cp:lastModifiedBy>
  <dcterms:modified xsi:type="dcterms:W3CDTF">2020-08-26T16:01:45Z</dcterms:modified>
  <cp:revision>384</cp:revision>
  <dc:subject/>
  <dc:title>Slide 1</dc:title>
</cp:coreProperties>
</file>