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7D90-5F2C-41DA-947C-38979D778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1A53-0E50-4768-8B3E-9C6EBDB33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AB4A-5DFA-4374-B08F-2FDC32608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277A-F0DB-4E52-90E7-1843658E6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24DA-65CC-4BF1-BB0D-AC838B1FB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60E4-06DD-4B2E-BE94-301766BF2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66FB-5069-4297-A744-C5185196E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C3E6-147D-44AD-B7CD-C14024C11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8DFC-47A6-49D7-B1AD-DA74E2CB5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2E3B-FF0F-46F0-8BA0-529F8F4DF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4C69-9D52-47C9-A63B-6403E6BBA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0F68-3F22-4761-A386-D89F55010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1909-3013-42FC-9000-5EDC7131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226F-CE0D-4413-8A08-7AEC54AB1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C373-3BFB-42F6-9C9C-3D2846687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5F4D-255C-4145-83AB-F01177B02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6430-54F3-4681-9729-9AA06614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9378-D46A-4AF3-91CD-40AE05A1C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5BEE-38BC-4B58-9F1D-D0E1FC7CF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F510-24D8-4703-B021-1C7A9F683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CD3B-4E57-4CAF-AEF0-C554DCBB2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6AA2-50D6-4392-AA3B-D2E934AB1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EF9E-827E-4945-A99B-976E102A7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HIO STATE MOTTO, THE ONLY STATE MOTTO TAKEN DIRECTLY FROM THE BI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DREY HEPBURN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CH  ADO  ABOUT  NO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8040" y="762120"/>
            <a:ext cx="738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ARE BENEDICK AND BEATRICE TRICKED INTO CONFESSING THEIR LOVE FOR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YOU  SEE  IS  WHAT  YOU 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5400" y="762120"/>
            <a:ext cx="7151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"WYSIWYG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ON:  IMPOS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6-FILM FRANCHISE DOES TOM CRUISE PLAY AGENT ETHAN H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WITH  THE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19120" y="762120"/>
            <a:ext cx="810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JUSTING FOR INFLATION, WHAT IS THE HIGHEST GROSSING FIL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ROSOFT 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PROCESSOR RUNS ON 80% OF THE WORLD'S COMPU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14400" y="43434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THING  WE  HAVE  TO  FEAR  IS  FEAR 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4800" y="762120"/>
            <a:ext cx="739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FROM FDR'S 1933 INAUGURAL ADD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VEY  SAY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2440" y="762120"/>
            <a:ext cx="6637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ALLITERATIVE PHRASE IS SAID MOST OFTEN ON TV'S "FAMILY FE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ARE BENEDICK AND BEATRICE TRICKED INTO CONFESSING THEIR LOVE FOR EACH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M  SPARTA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5560" y="762120"/>
            <a:ext cx="78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60 FILM STARRING KIRK DOUGLAS ABOUT A SLAVE UPRISING, WHAT TWO-WORD LINE IS SAID BY HUNDREDS OF CHARAC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333440" y="4343400"/>
            <a:ext cx="64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H  GOD,  ALL  THINGS  ARE  POS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47880" y="762120"/>
            <a:ext cx="7248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HIO STATE MOTTO, THE ONLY STATE MOTTO TAKEN DIRECTLY FROM THE B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47920" y="3809880"/>
            <a:ext cx="6248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HING  IS  IMPOSSIBLE.  THE  WORD  ITSELF  SAYS  "I'M  POSSIBLE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58760" y="762120"/>
            <a:ext cx="882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DREY HEPBURN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"WYSIWYG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30120" y="762120"/>
            <a:ext cx="848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6-FILM FRANCHISE DOES TOM CRUISE PLAY AGENT ETHAN H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JUSTING FOR INFLATION, WHAT IS THE HIGHEST GROSSING FIL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3000" y="761760"/>
            <a:ext cx="739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PROCESSOR RUNS ON 80% OF THE WORLD'S COMPU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FROM FDR'S 1933 INAUGURAL ADD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35160" y="761760"/>
            <a:ext cx="667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ALLITERATIVE PHRASE IS SAID MOST OFTEN ON TV'S "FAMILY FE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20640" y="761760"/>
            <a:ext cx="790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60 FILM STARRING KIRK DOUGLAS ABOUT A SLAVE UPRISING, WHAT TWO-WORD LINE IS SAID BY HUNDREDS OF CHARAC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6:03:16Z</dcterms:modified>
  <cp:revision>380</cp:revision>
  <dc:subject/>
  <dc:title>Slide 1</dc:title>
</cp:coreProperties>
</file>