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2161-8937-4604-B414-3A64C23CC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521E-E693-41A3-93DD-8EB83693E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E803-E6FE-46A3-981C-239EB9A4C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4AB6-BCE7-484E-861B-2337EE88E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BADA-3C5F-42F9-920A-3C89DBA2E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651E-A32C-4A90-BECB-D1D1DFCCB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2631-315A-480A-BB91-59994C5FF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F48F-36F0-4DE1-B4D1-6669E08EE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ADC2-0425-4700-BDB5-B7DDD254F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7AC2-60AE-41FA-B365-4C5CE6CC1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6BEB-A1BC-4F5D-9837-4B390A263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DADA-ADAB-4FE6-ABEC-E9D6C6349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2378-D32A-476D-A098-F79A4E265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0543-6593-4DDB-B568-A93ECEE2A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347A-E5A3-44C0-8ED3-D20392B6B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72F0-E623-43C6-922E-B2E1BA322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15F7-61C1-4392-BFD0-9EBB9FC8D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28CB-6A8F-4B98-980B-87F86E6B8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1D8E-B5E7-47B8-98FF-9340A2617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E913-0D13-4A09-9025-359215070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CA96-4E88-46F3-BC45-3511F64E7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A9B3-5FAB-4D9E-A009-5E5D11E1B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2B40-E1E4-422E-AF8D-F5953DE09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2190600" y="1523880"/>
            <a:ext cx="4762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DDEN  QUO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HIO STATE MOTTO, THE ONLY STATE MOTTO TAKEN DIRECTLY FROM THE BI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71440" y="762120"/>
            <a:ext cx="8601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DREY HEPBURN QUOTE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CH  ADO  ABOUT  NO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8040" y="762120"/>
            <a:ext cx="7387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HAKESPEARE PLAY ARE BENEDICK AND BEATRICE TRICKED INTO CONFESSING THEIR LOVE FOR EACH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228600" y="48769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 YOU  SEE  IS  WHAT  YOU  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5400" y="762120"/>
            <a:ext cx="7151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ACRONYM "WYSIWYG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SION:  IMPOS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31920" y="762120"/>
            <a:ext cx="8480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6-FILM FRANCHISE DOES TOM CRUISE PLAY AGENT ETHAN HU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27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NE  WITH  THE  W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19120" y="762120"/>
            <a:ext cx="8105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JUSTING FOR INFLATION, WHAT IS THE HIGHEST GROSSING FILM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ROSOFT  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PROCESSOR RUNS ON 80% OF THE WORLD'S COMPU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914400" y="4343400"/>
            <a:ext cx="7315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NLY  THING  WE  HAVE  TO  FEAR  IS  FEAR  IT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4800" y="762120"/>
            <a:ext cx="7392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QUOTE FROM FDR'S 1933 INAUGURAL ADD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RVEY  SAYS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52440" y="762120"/>
            <a:ext cx="6637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-WORD ALLITERATIVE PHRASE IS SAID MOST OFTEN ON TV'S "FAMILY FEU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44120" y="762120"/>
            <a:ext cx="7653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HAKESPEARE PLAY ARE BENEDICK AND BEATRICE TRICKED INTO CONFESSING THEIR LOVE FOR EACH 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9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'M  SPARTA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55560" y="762120"/>
            <a:ext cx="7832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1960 FILM STARRING KIRK DOUGLAS ABOUT A SLAVE UPRISING, WHAT TWO-WORD LINE IS SAID BY HUNDREDS OF CHARAC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333440" y="4343400"/>
            <a:ext cx="6477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TH  GOD,  ALL  THINGS  ARE  POS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47880" y="762120"/>
            <a:ext cx="7248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HIO STATE MOTTO, THE ONLY STATE MOTTO TAKEN DIRECTLY FROM THE BI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47920" y="3809880"/>
            <a:ext cx="62481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THING  IS  IMPOSSIBLE.  THE  WORD  ITSELF  SAYS  "I'M  POSSIBLE.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58760" y="762120"/>
            <a:ext cx="8826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DREY HEPBURN QUOTE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3040" y="761760"/>
            <a:ext cx="747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ACRONYM "WYSIWYG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30120" y="762120"/>
            <a:ext cx="848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6-FILM FRANCHISE DOES TOM CRUISE PLAY AGENT ETHAN HU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03280" y="762120"/>
            <a:ext cx="8136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JUSTING FOR INFLATION, WHAT IS THE HIGHEST GROSSING FILM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3000" y="761760"/>
            <a:ext cx="7398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PROCESSOR RUNS ON 80% OF THE WORLD'S COMPU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3560" y="761760"/>
            <a:ext cx="7615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QUOTE FROM FDR'S 1933 INAUGURAL ADD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35160" y="761760"/>
            <a:ext cx="6673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-WORD ALLITERATIVE PHRASE IS SAID MOST OFTEN ON TV'S "FAMILY FEU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20640" y="761760"/>
            <a:ext cx="7902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1960 FILM STARRING KIRK DOUGLAS ABOUT A SLAVE UPRISING, WHAT TWO-WORD LINE IS SAID BY HUNDREDS OF CHARAC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6T16:03:16Z</dcterms:modified>
  <cp:revision>380</cp:revision>
  <dc:subject/>
  <dc:title>Slide 1</dc:title>
</cp:coreProperties>
</file>