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5FBCB-E745-4B4B-8CA4-4E50AABBB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8416D-2B05-4B69-8939-43DAD2D24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27D0C-DB45-4339-881D-3EF255727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51EDB-6774-4083-AD41-059B59614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FF154-B6F3-4E76-BD38-26A69C9DE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6BEA2-1444-44D7-A02A-DDA4F5C4B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5F246-8C69-4C64-AAC3-F08CF5675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F0E4C-70AF-4A1E-A006-014C97A18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22F92-0CB3-4BFC-9CAD-4ECABB5D9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1B36C-8BEE-4E3E-9A52-3E4FCFD1E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AF56-2205-4DBF-B5B3-5F3C760F6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E3D11-1324-4E63-9D38-37B1FB3C2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6BB54-CF7D-46E3-81B3-B808BD0CB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6A113-96B2-4E3D-8708-591CF075D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29F50-AEC7-49AE-BAFC-60F42F6EA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FBA0F-5C26-46B4-AAD3-725E6EF0D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12B25-327A-49A4-A906-93EC023D9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D9D10-9091-4A1B-90AA-D2733429E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06DC0-91EA-4A15-BF20-E4C6E21C6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42589-C289-4FEC-B244-08FD8E240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7EBFC-6E34-451C-BD70-B086A5AF0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0CF31-5D48-4A2E-8FFC-9873395D4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7989-994D-4E73-8AA6-68945937F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2190600" y="1523880"/>
            <a:ext cx="4762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DDEN  QUO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HIO STATE MOTTO, THE ONLY STATE MOTTO TAKEN DIRECTLY FROM THE BIB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271440" y="762120"/>
            <a:ext cx="8601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UDREY HEPBURN QUOTE CONTAINS 1 WORD FROM EACH OF THE PREVIOUS ANS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UCH  ADO  ABOUT  NOT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78040" y="762120"/>
            <a:ext cx="7387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HAKESPEARE PLAY ARE BENEDICK AND BEATRICE TRICKED INTO CONFESSING THEIR LOVE FOR EACH OT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228600" y="4876920"/>
            <a:ext cx="868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AT  YOU  SEE  IS  WHAT  YOU  G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95400" y="762120"/>
            <a:ext cx="71517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ACRONYM "WYSIWYG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SSION:  IMPOSSI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31920" y="762120"/>
            <a:ext cx="8480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6-FILM FRANCHISE DOES TOM CRUISE PLAY AGENT ETHAN HU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9276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NE  WITH  THE  W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19120" y="762120"/>
            <a:ext cx="8105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DJUSTING FOR INFLATION, WHAT IS THE HIGHEST GROSSING FILM OF ALL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ROSOFT  W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PROCESSOR RUNS ON 80% OF THE WORLD'S COMPUT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914400" y="4343400"/>
            <a:ext cx="7315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ONLY  THING  WE  HAVE  TO  FEAR  IS  FEAR  ITSEL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74800" y="762120"/>
            <a:ext cx="7392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FAMOUS QUOTE FROM FDR'S 1933 INAUGURAL ADDRE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RVEY  SAYS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252440" y="762120"/>
            <a:ext cx="66373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-WORD ALLITERATIVE PHRASE IS SAID MOST OFTEN ON TV'S "FAMILY FEU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44120" y="762120"/>
            <a:ext cx="7653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HAKESPEARE PLAY ARE BENEDICK AND BEATRICE TRICKED INTO CONFESSING THEIR LOVE FOR EACH OTH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98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'M  SPARTAC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55560" y="762120"/>
            <a:ext cx="78328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 1960 FILM STARRING KIRK DOUGLAS ABOUT A SLAVE UPRISING, WHAT TWO-WORD LINE IS SAID BY HUNDREDS OF CHARACT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333440" y="4343400"/>
            <a:ext cx="6477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TH  GOD,  ALL  THINGS  ARE  POSSI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47880" y="762120"/>
            <a:ext cx="72482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HIO STATE MOTTO, THE ONLY STATE MOTTO TAKEN DIRECTLY FROM THE BIB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447920" y="3809880"/>
            <a:ext cx="62481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THING  IS  IMPOSSIBLE.  THE  WORD  ITSELF  SAYS  "I'M  POSSIBLE.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58760" y="762120"/>
            <a:ext cx="88264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UDREY HEPBURN QUOTE CONTAINS 1 WORD FROM EACH OF THE PREVIOUS ANS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3040" y="761760"/>
            <a:ext cx="7475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ACRONYM "WYSIWYG"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30120" y="762120"/>
            <a:ext cx="8483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6-FILM FRANCHISE DOES TOM CRUISE PLAY AGENT ETHAN HU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03280" y="762120"/>
            <a:ext cx="8136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DJUSTING FOR INFLATION, WHAT IS THE HIGHEST GROSSING FILM OF ALL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73000" y="761760"/>
            <a:ext cx="7398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PROCESSOR RUNS ON 80% OF THE WORLD'S COMPUT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63560" y="761760"/>
            <a:ext cx="7615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FAMOUS QUOTE FROM FDR'S 1933 INAUGURAL ADDRES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235160" y="761760"/>
            <a:ext cx="6673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-WORD ALLITERATIVE PHRASE IS SAID MOST OFTEN ON TV'S "FAMILY FEU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20640" y="761760"/>
            <a:ext cx="7902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 1960 FILM STARRING KIRK DOUGLAS ABOUT A SLAVE UPRISING, WHAT TWO-WORD LINE IS SAID BY HUNDREDS OF CHARACT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0-08-26T16:03:16Z</dcterms:modified>
  <cp:revision>380</cp:revision>
  <dc:subject/>
  <dc:title>Slide 1</dc:title>
</cp:coreProperties>
</file>