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821-67A0-4FEB-9989-82D6050B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0981-84F9-4943-B244-FD2761CE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C47-3D4F-45D0-A63D-1C588D34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67DF-3EF9-4408-9520-67A31B09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EF89-8167-4BE0-8E6B-284A9129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46B-7360-4E1A-BCF6-D7E45157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C31D-A8AE-4887-847C-EE8FDAEF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F7C-A0C0-4306-9C0C-455BB9EB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DCD-417C-470C-B145-A2178350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BC0-29EF-4CB0-908E-90D49EFD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4CA-BD7E-449F-B42D-F278DF87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98D-1644-4448-B754-04310CB1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50D7-2EFB-48E1-A472-96D77957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225-541C-4925-B4F6-E6EFD439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DB5-13E3-4A0A-B5A4-5A77766C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068-CC6C-4B21-A977-91CC3A75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0707-C029-4B4F-AC36-711557CB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A56-9F9D-4A3F-B58B-F11D79BC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A4E5-3EA9-4864-9B8E-19A69F30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B7A-17DC-4289-91A9-B142F580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4C3-3551-41A9-A385-011330446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2DF-80B7-4A8D-8E4F-52BD60C8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74D-1F49-4DE0-A4E0-EF101C4D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62040" y="8380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: BEATLES ALBUMS AND SONG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EY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5888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82880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PUS'S  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129528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DAYS  A 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RI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EGIAN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 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000" y="110484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22:06:25Z</dcterms:created>
  <dc:creator>Jennifer Budzinski</dc:creator>
  <dc:description/>
  <dc:language>en-US</dc:language>
  <cp:lastModifiedBy>Erich Friedman</cp:lastModifiedBy>
  <dcterms:modified xsi:type="dcterms:W3CDTF">2020-08-26T16:04:13Z</dcterms:modified>
  <cp:revision>328</cp:revision>
  <dc:subject/>
  <dc:title>Slide 1</dc:title>
</cp:coreProperties>
</file>