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F92-CE2F-400F-B9FB-337E8726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75C-AC1C-46BB-AB3C-5C9A2343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32E-1969-4E2A-8A54-22FD9211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383F-7B79-4979-9F9F-87D99D71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D3C-2844-4210-A0C7-B58C1CFE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480-0FDB-4F59-9612-60BBED40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0FF7-144A-4521-83C5-02F4E5F1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9E79-C8BE-4C9B-AED7-5DA8C31A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FEEA-8AAC-48E3-8729-E632EF8C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A8A-0D3D-435E-B5A4-D3E22B53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1D8-DC5C-4C60-AFF4-DBFB452E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E8B0-48C6-4FD6-8A46-4460B970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89A2-05FD-406D-9CCF-7D2D2646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5C2B-FE1F-40A6-A8A4-DEC689A9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307-6DC1-4559-9A29-B380AFA2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186-A1DD-4337-98A4-12718E65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1A32-914C-417B-B9E8-81DBF01F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5C8A-FA95-4EF3-BC95-814F9E08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FE6-38A9-4E45-A2FF-2DD94191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BA32-7971-4E9B-AA4B-8A2BF733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28EB-9500-4973-8979-FF2371A3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4444-DF71-4AFF-B137-36CF6E96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CBA-98BA-4F67-AFB7-899DACBE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62040" y="8380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: BEATLES ALBUMS AND SONG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EY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5888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82880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PUS'S  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129528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DAYS  A 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RI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EGIAN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 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000" y="110484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22:06:25Z</dcterms:created>
  <dc:creator>Jennifer Budzinski</dc:creator>
  <dc:description/>
  <dc:language>en-US</dc:language>
  <cp:lastModifiedBy>Erich Friedman</cp:lastModifiedBy>
  <dcterms:modified xsi:type="dcterms:W3CDTF">2020-08-26T16:04:13Z</dcterms:modified>
  <cp:revision>328</cp:revision>
  <dc:subject/>
  <dc:title>Slide 1</dc:title>
</cp:coreProperties>
</file>