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4AAD-7F7C-400A-8635-D2485E288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D2C2-584E-4DDD-8561-A3309C549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C88A-4179-4AEB-BD13-1847B2191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4574-02A1-4EA1-BC52-656396C9E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F737-94FD-4704-AF94-95B14484A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99F4-6AA1-4A94-92DA-9D0869928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5FB4-8F36-4897-94AF-DD83A711D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B90F-A2F0-4B15-9C41-3890288E6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D85B-86B4-4577-A577-6FC6424D1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C957-2589-41B1-BF35-BA5E490D1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C1CE-2B1E-4561-ADBD-855C3A098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1B21-C43C-4764-B45E-FD40E8879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E0D1-5D3C-4506-860E-DCA8DF064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86F1-36D5-4C0B-ACEF-76ACEE609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BD5C-7D27-44F5-99D5-63BA190C9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564C-AE45-4BE9-8A26-902B6D041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6AA7-2726-4D2A-A909-932BC3601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058A-BBDE-42D7-A726-E8EB90F7E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87A2-12E6-4824-B7F8-2CB7A9BC0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4768-726B-406E-855D-12F7CDA85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0565-3F29-45D9-8DA7-8268CC36F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1929-7BEB-4AC3-9EEE-4B8ACE78A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4DEA-9FA9-487B-B543-09A3E67B4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62040" y="838080"/>
            <a:ext cx="6019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DDEN MESSAGE: BEATLES ALBUMS AND SONG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HAS SUBTITLE "THIS BIRD HAS FL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SSAGE IS HIDDEN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P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533520" y="762120"/>
            <a:ext cx="8076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COVER SUPPOSEDLY SPELLS OUT THE ALBUM TITLE IN SEMAPHORE, BUT ACTUALLY SPELLS OUT "NUJV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BEY  RO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1066680" y="75888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COVER PICTURES THE BAND WITH ONLY PAUL MCCARTNEY BAREFO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  MADO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MENTIONS EVERY DAY OF THE WEEK EXCEPT SATUR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T  IT 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EATLES' FINAL STUDIO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828800" y="487692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CTOPUS'S  GA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DID RINGO STARR WRITE AFTER GETTING THE IDEA ON THE BOAT OF PETER SELL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TH  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304920" y="1295280"/>
            <a:ext cx="40384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HAD THIS CO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2" descr=""/>
          <p:cNvPicPr/>
          <p:nvPr/>
        </p:nvPicPr>
        <p:blipFill>
          <a:blip r:embed="rId1"/>
          <a:stretch/>
        </p:blipFill>
        <p:spPr>
          <a:xfrm>
            <a:off x="4656240" y="609480"/>
            <a:ext cx="4038480" cy="35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IGHT  DAYS  A  WE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IS NAMED FOR SOMETHING ONE OF THEIR CHAUFFEURS SAID WHILE SAYING HOW HARD HE'D BEEN WOR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COVER SUPPOSEDLY SPELLS OUT THE ALBUM TITLE IN SEMAPHORE, BUT ACTUALLY SPELLS OUT "NUJV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ANOR  RIG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04880" y="762120"/>
            <a:ext cx="7734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MERICA SONG "LONELY PEOPLE" WAS WRITTEN AS AN OPTIMISTIC RESPONSE TO WHAT BEATLES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WEGIAN  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333440" y="762120"/>
            <a:ext cx="6477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HAS SUBTITLE "THIS BIRD HAS FL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3434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LOWEEN                                   (1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LETTER  OF  EACH  ANSW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819000" y="762120"/>
            <a:ext cx="7506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SSAGE IS HIDDEN IN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COVER PICTURES THE BAND WITH ONLY PAUL MCCARTNEY BAREFO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MENTIONS EVERY DAY OF THE WEEK EXCEPT SATUR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EATLES' FINAL STUDIO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DID RINGO STARR WRITE AFTER GETTING THE IDEA ON THE BOAT OF PETER SELL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44000" y="1104840"/>
            <a:ext cx="4343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ALBUM HAD THIS CO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4656240" y="609480"/>
            <a:ext cx="403848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IS NAMED FOR SOMETHING ONE OF THEIR CHAUFFEURS SAID WHILE SAYING HOW HARD HE'D BEEN WORK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MERICA SONG "LONELY PEOPLE" WAS WRITTEN AS AN OPTIMISTIC RESPONSE TO WHAT BEATLES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7T22:06:25Z</dcterms:created>
  <dc:creator>Jennifer Budzinski</dc:creator>
  <dc:description/>
  <dc:language>en-US</dc:language>
  <cp:lastModifiedBy>Erich Friedman</cp:lastModifiedBy>
  <dcterms:modified xsi:type="dcterms:W3CDTF">2020-08-26T16:04:13Z</dcterms:modified>
  <cp:revision>328</cp:revision>
  <dc:subject/>
  <dc:title>Slide 1</dc:title>
</cp:coreProperties>
</file>