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CF1E-B171-4ED0-BF22-72AD7702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BC2C-D74D-4871-9531-087A6780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057B-25C6-404D-9625-07C49DD0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C4C6-5C65-4C46-924B-07443E27D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A495-C557-4ADC-A763-E67DB8B48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69A-287C-4756-AF78-F359EFD26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2552-B70D-4B4D-9B28-558D2F034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E052-0759-466B-B456-2CF37D05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46E9-5259-4E83-921E-165BE6E9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C69A-4044-4662-8D7A-3238FF2B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BA0-B04C-4A0E-ACFA-5F4D9A8C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6B90-B25D-4BB4-8EF3-1C18D4557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7E9-41AD-4245-8047-C1844731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BF10-5C7E-49E3-94FA-894BD90C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96D7-6D5A-404B-97D6-7806B363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E4FF-5FDD-4C23-B841-EA643288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6706-1E9A-4726-B4C5-8650D172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25D6-86D1-484E-8F16-8D9FBA8E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45F-4E7D-484F-980F-E21EC1AE9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6010-0F65-4E8D-84BD-69E84F4F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E10-3ED0-45B7-9504-D723B4A21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96D7-4912-4224-8975-21A44C11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352D-FF77-4837-A54C-BD770693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OAP OPERA BEGAN NOV 8, 1965, AND IS STILL ON TV AFTER OVER 13,000 EPIS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 FRANKLI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  GU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8040" y="762120"/>
            <a:ext cx="738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CONTESTANTS ON THE REALITY GAME SHOW "BIG BROTHER"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LIKE  IT 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5400" y="762120"/>
            <a:ext cx="7149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RED TONY CURTIS AND JACK LEMMON IN DRAG, AND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096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ISH  CALLED  W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04920" y="1219320"/>
            <a:ext cx="3173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3886200" y="498600"/>
            <a:ext cx="4800600" cy="42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ACHEM 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ISRAEL 1977-1983, AND SHARED THE NOBEL PEACE PRIZE WITH ANWAR SAD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INFINITY  AND  BEY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UZZ LIGHT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23760" y="4876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SMELL  OF 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4800" y="762120"/>
            <a:ext cx="73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ED BURT LANCASTER TRYING TO BREAK UP THE ROMANCE BETWEEN HIS SISTER AND TONY CUR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YNDI LAUP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CONTESTANTS ON THE REALITY GAME SHOW "BIG BROTHER"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MIL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LARGEST ACCIDENT IN THE HISTORY OF U.S. NUCLEAR POWER PLANT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  OF  OUR 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47880" y="762120"/>
            <a:ext cx="724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OAP OPERA BEGAN NOV 8, 1965, AND IS STILL ON TV AFTER OVER 13,000 EPIS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STS,  LIKE  FISH,  BEGIN  TO SMELL  AFTER  THREE 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58760" y="762120"/>
            <a:ext cx="8826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 FRANKLI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RED TONY CURTIS AND JACK LEMMON IN DRAG, AND MARILYN MO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2193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886200" y="498600"/>
            <a:ext cx="480060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ISRAEL 1977-1983, AND SHARED THE NOBEL PEACE PRIZE WITH ANWAR SAD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UZZ LIGHT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ED BURT LANCASTER TRYING TO BREAK UP THE ROMANCE BETWEEN HIS SISTER AND TONY CURT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08200" y="761760"/>
            <a:ext cx="752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YNDI LAUPER'S FIRST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LARGEST ACCIDENT IN THE HISTORY OF U.S. NUCLEAR POWER PLANTS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5:47Z</dcterms:modified>
  <cp:revision>385</cp:revision>
  <dc:subject/>
  <dc:title>Slide 1</dc:title>
</cp:coreProperties>
</file>