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B6B-B949-45B9-AD86-68DC15FF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48F-EF75-44E3-9CC1-5EF54E3B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CD09-4E62-4401-BFDF-74E6762D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C64E-2A19-451B-8EAD-DA52B515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287-8C14-4B9F-AEA5-8178DC36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801-24CE-400B-86CE-55B0BA2E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C4BC-E2D1-44D6-9002-D363DDAE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A844-C492-4249-9A7B-F7200103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6AA-4368-4B8D-A96B-29B12254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155-DFDD-4302-9A8F-6D0AAC0D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1FAE-CA37-4014-8BAE-A6AD622F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4596-6EBC-485C-9454-02EAA9D5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1749-E796-4FF2-B31F-FC9EB969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6C91-1988-4AA0-BC48-6A017A59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6965-4B96-4BA7-BDC4-9F576B348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8E7-A5BA-4B78-81B6-647812A6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129-DDEE-47A9-A661-E59BB6C2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E1C-F22F-44B6-81A0-01B32273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699C-F82B-461C-831E-07011F23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6887-23A7-401E-97EB-33B66F21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3CD-A510-4F9B-8ED4-8E57BB78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4E8-B785-4F91-841B-1211E998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698-98E8-4488-A558-965A2E31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GU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5400" y="762120"/>
            <a:ext cx="7149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04920" y="1219320"/>
            <a:ext cx="317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ACHEM 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INFINITY  AND 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2376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MELL  OF 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IL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47880" y="762120"/>
            <a:ext cx="724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STS,  LIKE  FISH,  BEGIN  TO SMELL  AFTER  THREE 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58760" y="762120"/>
            <a:ext cx="8826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2193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5:47Z</dcterms:modified>
  <cp:revision>385</cp:revision>
  <dc:subject/>
  <dc:title>Slide 1</dc:title>
</cp:coreProperties>
</file>