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2361-BA5C-449D-9A74-F015D4F8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B8C6-C564-4773-A06C-B684AD11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A095-D779-45E5-9D25-BFFF03A9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4304-2772-4F84-A884-D427D79DA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0E6E-021B-4F5A-A4D6-338102137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3D11-3C41-4FF3-A78D-3B1B49628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0352-E619-4F2D-80F9-ED1FB2D5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50F8-8F94-4004-AA32-4E4EE95B1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131A-304A-4878-AF18-570E3A70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CCFB-1388-4480-9788-6A9A09DD5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7864-1C11-406E-B21D-B1F28FAA5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8DF-7ACD-4231-ADE5-B93A4AB1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398-400C-4038-8760-786547DA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51CC-3F5F-4BDD-A9B9-BC1ECFAC6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6795-E121-4A03-A7EF-40EA29C8C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0C7F-07A0-4DC8-8752-E54B2FFE5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C163-EDC6-4378-9334-AAD1FD5DB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6405-F62C-4E79-99EC-91312DF5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B7E8-6809-47B5-AF69-2D8178676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EA1B-B866-41CE-99A1-D7AB68CD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216B-FAD4-4B32-8348-507FF2A8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B5D8-F4C6-4C76-9556-D2EDAB02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2305-0C76-43C3-A31D-9AE52F645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  GU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8040" y="762120"/>
            <a:ext cx="738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5400" y="762120"/>
            <a:ext cx="7149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ISH  CALLED  W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04920" y="1219320"/>
            <a:ext cx="3173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ACHEM 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INFINITY  AND  BEY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2376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SMELL  OF 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4800" y="762120"/>
            <a:ext cx="7392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CONTESTANTS ON THE REALITY GAME SHOW "BIG BROTHER"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ILE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  OF  OUR  L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47880" y="762120"/>
            <a:ext cx="724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OAP OPERA BEGAN NOV 8, 1965, AND IS STILL ON TV AFTER OVER 13,000 EPIS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STS,  LIKE  FISH,  BEGIN  TO SMELL  AFTER  THREE 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58760" y="762120"/>
            <a:ext cx="8826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 FRANKLIN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RED TONY CURTIS AND JACK LEMMON IN DRAG, AND MARILYN MO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2193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886200" y="498600"/>
            <a:ext cx="480060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  OF ISRAEL 1977-1983, AND SHARED THE NOBEL PEACE PRIZE WITH ANWAR SAD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TCHPHRASE OF BUZZ LIGHT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ED BURT LANCASTER TRYING TO BREAK UP THE ROMANCE BETWEEN HIS SISTER AND TONY CURT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YNDI LAUPER'S FIRST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LARGEST ACCIDENT IN THE HISTORY OF U.S. NUCLEAR POWER PLAN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5:47Z</dcterms:modified>
  <cp:revision>385</cp:revision>
  <dc:subject/>
  <dc:title>Slide 1</dc:title>
</cp:coreProperties>
</file>