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FF8E-F38A-4390-A0D0-26D70D3B9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9CD7-8362-4853-BBEB-8D48CF6DE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4A06-925A-4382-A8A3-56F043961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40C0-E077-43C9-A8F3-58FE39BA3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1592-628C-4BB0-9A1F-758AFB342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DAD9-BD76-4192-94E2-4B0A4AD07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4780-E33A-4631-A35D-F1CB4F068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1949-0228-4640-A99D-34AC3D825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E466-126D-46A7-AE63-5681E0749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9254-51B3-4832-A71B-C90001B5F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A552-5AFA-482B-AB21-191D8E5A1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E8DA-770A-4EC9-A4D5-91BDA767B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3B9A-931D-4DB9-8F37-8F8E1F32D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10D7-F83D-4D46-8B92-63CC1397A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80C1-DF67-4E01-BEFB-EBEE867E8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8D4E-21EF-4CAA-B73E-3FF2EFD85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324C-1622-4C0A-8A01-D5260E957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BD28-CF5B-4889-BE9B-7A083D320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8D93-C79E-450D-998A-82A8E21B4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FBB1-3451-40D4-99FC-07B1A8A57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A737-8413-4D9F-949B-B85F1670B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25A3-B6A0-41F4-B33B-FBC57F122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71A5-0AD6-41ED-A7C0-D77BE0C75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09760" y="1066680"/>
            <a:ext cx="6324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MICAL         HIDDEN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ELLOW ELEMENT IS KNOWN IN THE BIBLE AS BRIMST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 OF THE BODY IS THE HIDDEN MESSAGE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D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57480" y="7621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UBSTANCE IN THE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TTERB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42840" y="762120"/>
            <a:ext cx="7258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USED IN LED'S AND RED TV CRT'S,  IS NAMED AFTER THE TOWN IN SWEDEN WHERE IT WAS FIRST F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672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SP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ATOMIC NUMBER 15, AND WAS FIRST USED IN TH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TO MAKE MATC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98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ELEMENT CONTAINED IN OZ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R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LIGHTLY RADIOACTIVE ELEMENT IS NAMED AFTER THE NORSE GOD OF THUN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UMI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LVERY-WHITE SOFT METAL IS PRONOUNCED DIFFERENTLY BY BRI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85840" y="762120"/>
            <a:ext cx="8572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WITH ATOMIC NUMBER 95 WAS NAMED AFTER THE COUNTRY IN WHICH IT WAS FIRST PRODUCED IN 194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UBSTANCE IN THE UNI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RAN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71640" y="762120"/>
            <a:ext cx="7200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, NAMED AFTER THE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NET,    IS THE ONLY NATURALLY OCCURRING FISSIONABLE MATERIAL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LF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33440" y="762120"/>
            <a:ext cx="6477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ELLOW ELEMENT IS KNOWN IN THE BIBLE AS BRIM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343400"/>
            <a:ext cx="7467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 Y P O Th Al Am U S          (THEIR  CHEMICAL  SYMBOL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04840" y="762120"/>
            <a:ext cx="6934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 OF THE BODY IS THE HIDDEN MESSAGE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USED IN LED'S AND RED TV CRT'S,  IS NAMED AFTER THE TOWN IN SWEDEN WHERE IT WAS FIRST F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ATOMIC NUMBER 15, AND WAS FIRST USED IN TH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TO MAKE MATC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ELEMENT CONTAINED IN OZ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LIGHTLY RADIOACTIVE ELEMENT IS NAMED AFTER THE NORSE GOD OF THUN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LVERY-WHITE SOFT METAL IS PRONOUNCED DIFFERENTLY BY BRIT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WITH ATOMIC NUMBER 95 WAS NAMED AFTER THE COUNTRY IN WHICH IT WAS FIRST PRODUCED IN 194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, NAMED AFTER THE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NET,        IS THE ONLY NATURALLY OCCURRING FISSIONABLE MATERIAL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0T23:07:32Z</dcterms:created>
  <dc:creator>Jennifer Budzinski</dc:creator>
  <dc:description/>
  <dc:language>en-US</dc:language>
  <cp:lastModifiedBy>Erich Friedman</cp:lastModifiedBy>
  <dcterms:modified xsi:type="dcterms:W3CDTF">2020-08-26T16:07:31Z</dcterms:modified>
  <cp:revision>381</cp:revision>
  <dc:subject/>
  <dc:title>Slide 1</dc:title>
</cp:coreProperties>
</file>