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1B45-F9AD-43BE-BB70-5BECCAC22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14C3-6265-4809-BD34-BCFCF0604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026D-2E32-4F03-844D-DAD3FD531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05BD-EE7F-4A8D-8784-47FCD27CC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DEB5-0EB5-434F-83DC-4E8993B33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B2F3-7FBF-4513-AD59-6FFFA8498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CF59-E744-448A-9905-183D84B43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A938-FA5F-4A08-8254-C28AB0E6F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2AEF-24E6-46B7-B5FA-1DFA4784A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DCC5-A05A-4537-B9F1-79E7A3E8A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FBF5-0309-43B7-9525-990B8353C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9A7B-865F-4DFC-8FF1-F47EAFFDE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3E20-2BB2-4E97-8BDE-4EF3E8F71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F616-9C77-4B98-A9BF-44FD5A24E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F038-3A5F-4458-BB0C-19C53BB3E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3912-D22A-4254-AD2E-11EB2827D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C335-DF7B-4554-B0CC-09FE75A90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0B60-39AA-4275-8421-4ED303C37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A899-F12A-4143-85D6-D5B46C7EE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5753-AACD-42AA-BA60-4B60FE324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6DCA-F324-4D3E-862F-EE972721F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00F8-400C-4EEA-99D8-CD180EDAB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DC00-4E8A-493F-984B-FD5012702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09760" y="106668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MICAL        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ELLOW ELEMENT IS KNOWN IN THE BIBLE AS BRIM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THE BODY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UBSTANCE IN THE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TTERB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42840" y="762120"/>
            <a:ext cx="7258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USED IN LED'S AND RED TV CRT'S,  IS NAMED AFTER THE TOWN IN SWEDEN WHERE IT WAS FIRST F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672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SP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ATOMIC NUMBER 15, AND WAS FIRST USED 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TO MAKE MA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ELEMENT CONTAINED IN OZ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R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LIGHTLY RADIOACTIVE ELEMENT IS NAMED AFTER THE NORSE GOD OF THU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UM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VERY-WHITE SOFT METAL IS PRONOUNCED DIFFERENTLY BY BRI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85840" y="762120"/>
            <a:ext cx="8572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WITH ATOMIC NUMBER 95 WAS NAMED AFTER THE COUNTRY IN WHICH IT WAS FIRST PRODUCED IN 194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UBSTANCE IN THE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AN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, NAMED AFTER THE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NET,    IS THE ONLY NATURALLY OCCURRING FISSIONABLE MATERIAL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LF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ELLOW ELEMENT IS KNOWN IN THE BIBLE AS BRIM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 Y P O Th Al Am U S          (THEIR  CHEMICAL  SYMBOL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04840" y="7621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THE BODY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USED IN LED'S AND RED TV CRT'S,  IS NAMED AFTER THE TOWN IN SWEDEN WHERE IT WAS FIRST F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ATOMIC NUMBER 15, AND WAS FIRST USED 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TO MAKE MA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ELEMENT CONTAINED IN OZ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LIGHTLY RADIOACTIVE ELEMENT IS NAMED AFTER THE NORSE GOD OF THU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VERY-WHITE SOFT METAL IS PRONOUNCED DIFFERENTLY BY BRIT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WITH ATOMIC NUMBER 95 WAS NAMED AFTER THE COUNTRY IN WHICH IT WAS FIRST PRODUCED IN 194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, NAMED AFTER THE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NET,        IS THE ONLY NATURALLY OCCURRING FISSIONABLE MATERIAL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0T23:07:32Z</dcterms:created>
  <dc:creator>Jennifer Budzinski</dc:creator>
  <dc:description/>
  <dc:language>en-US</dc:language>
  <cp:lastModifiedBy>Erich Friedman</cp:lastModifiedBy>
  <dcterms:modified xsi:type="dcterms:W3CDTF">2020-08-26T16:07:31Z</dcterms:modified>
  <cp:revision>381</cp:revision>
  <dc:subject/>
  <dc:title>Slide 1</dc:title>
</cp:coreProperties>
</file>