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C47C-6B98-449B-9999-6654046EA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E9BD-309A-40EB-8CEF-568B62B29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9333-A015-4D57-B2F7-E688D9219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0E63-FDC5-47FE-9D17-A2E330D65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8825-0204-429D-9DC6-39E6528ED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298B-08A9-4B48-8A58-B57DAF73A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BCB6-422C-4F5F-93CE-6C22CFD6F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9445-831E-4ED3-9874-AAEDF76A1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44DE-38B6-4533-A964-3B7ED3EBD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E030-CCCD-4190-8C80-8228F44A4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782A-D57C-4DB4-8B92-977D99627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E175-FEFF-4B59-9443-DCE7AD581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74DE-AE67-47BE-A2EF-3EE40E6AA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245C-A705-41F0-9538-86FE7380E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E75A-6112-47A5-BC19-93CD45397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4A7A-0778-41D3-AA1F-200FA94E2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4F17-539C-46D7-9B17-3407D292C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2F8D-0B9B-4894-BD73-A88C87F47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5F9C-50CB-495F-A7BA-9D90EE989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7576-EEDA-4621-88CF-EAE72E409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F8B1-AE0E-43D7-A3D1-63122A97D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2E2E-5BF0-4232-9B4E-233769ECA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6A5A-2B5C-43A2-8A14-53BF23206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09760" y="106668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MICAL        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ELLOW ELEMENT IS KNOWN IN THE BIBLE AS BRIM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THE BODY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574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UBSTANCE IN THE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TTERB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42840" y="762120"/>
            <a:ext cx="7258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USED IN LED'S AND RED TV CRT'S,  IS NAMED AFTER THE TOWN IN SWEDEN WHERE IT WAS FIRST F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672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SP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ATOMIC NUMBER 15, AND WAS FIRST USED 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TO MAKE MAT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98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ELEMENT CONTAINED IN OZ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R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LIGHTLY RADIOACTIVE ELEMENT IS NAMED AFTER THE NORSE GOD OF THU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UMI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VERY-WHITE SOFT METAL IS PRONOUNCED DIFFERENTLY BY BRI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85840" y="762120"/>
            <a:ext cx="8572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WITH ATOMIC NUMBER 95 WAS NAMED AFTER THE COUNTRY IN WHICH IT WAS FIRST PRODUCED IN 194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UBSTANCE IN THE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RAN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1640" y="762120"/>
            <a:ext cx="7200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, NAMED AFTER THE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NET,    IS THE ONLY NATURALLY OCCURRING FISSIONABLE MATERIAL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LF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ELLOW ELEMENT IS KNOWN IN THE BIBLE AS BRIM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467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 Y P O Th Al Am U S          (THEIR  CHEMICAL  SYMBOL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04840" y="76212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THE BODY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USED IN LED'S AND RED TV CRT'S,  IS NAMED AFTER THE TOWN IN SWEDEN WHERE IT WAS FIRST F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ATOMIC NUMBER 15, AND WAS FIRST USED 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TO MAKE MAT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ELEMENT CONTAINED IN OZ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LIGHTLY RADIOACTIVE ELEMENT IS NAMED AFTER THE NORSE GOD OF THUN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VERY-WHITE SOFT METAL IS PRONOUNCED DIFFERENTLY BY BRIT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WITH ATOMIC NUMBER 95 WAS NAMED AFTER THE COUNTRY IN WHICH IT WAS FIRST PRODUCED IN 194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, NAMED AFTER THE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NET,        IS THE ONLY NATURALLY OCCURRING FISSIONABLE MATERIAL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0T23:07:32Z</dcterms:created>
  <dc:creator>Jennifer Budzinski</dc:creator>
  <dc:description/>
  <dc:language>en-US</dc:language>
  <cp:lastModifiedBy>Erich Friedman</cp:lastModifiedBy>
  <dcterms:modified xsi:type="dcterms:W3CDTF">2020-08-26T16:07:31Z</dcterms:modified>
  <cp:revision>381</cp:revision>
  <dc:subject/>
  <dc:title>Slide 1</dc:title>
</cp:coreProperties>
</file>