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765D-FA2A-46C4-84E2-E639BE40E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0A1B-2159-4FF7-BE6C-2EEA7B40C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2E27-5136-4F86-A2EA-3D00B8AF1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3BF1-7842-4864-BEE2-9EF9A668F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6551-94E5-4C93-9EF5-DFEAC9C05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A3D9-1A8C-4887-B35D-E0AEB6339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F059-FDA2-4BDF-8808-C0B32AC7B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C142-370E-4C9D-A627-BD6C3B9BA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67DC-7D60-4DD4-8862-A0974DE11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88A8-D100-4AF1-8E68-2D23DDF8A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F73E-A143-4EA5-8344-32E4AF750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26AE-B9C6-4C00-A8D2-4300FAEDE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DF27-348A-487E-BE27-D41FC8B19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B126-BF28-401D-9E32-33DA3B08E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88AF-AB4B-45C7-9254-CC3CD7025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6618-4971-4630-996E-2D628AF28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0FFF-8050-426D-88A2-DCCA7B8AD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5CE7-934D-4489-A4D5-E99163088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9588-F73E-4C89-9ED7-73D04C84B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0EF0-BAA5-43B4-9E80-AFD949CB6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F7FA-3EC2-4207-91A2-50DFA2CFA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12C4-FBAB-42B6-A1C2-933A74962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6924-A004-4A30-8440-957DB7C4C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 TO "ROCKY" AND FOUR OF ITS SEQU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ORTS COMMENTATOR WAS THE PRIME-TIME HOST FOR 11 OLYMPIC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CRYS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RRY IN "WHEN HARRY MET SAL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AND STARRED IN THE #1 TV SHOW FROM 1984 TO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EDICT  CUMBERB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SHERLOCK IN TV'S "SHER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LEY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IN 2012, BEST SUPPORTING ACTOR IN 2013, AND BEST ACTOR IN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YAN  CRAN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001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ALTER WHITE ON "BREAKING B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C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U.S. SECRETARY OF HOUSING AND URBAN DEVELOPMENT DIED OF COVID-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NG  CR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-SELLING SINGER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RRY IN "WHEN HARRY MET SAL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CH  CASSI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ROBERT LEROY PARKER, A NOTORIOUS BANK AND TRAIN ROBBER IN THE OLD W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O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 TO "ROCKY" AND FOUR OF ITS SEQU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C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ORTS COMMENTATOR WAS THE PRIME-TIME HOST FOR 11 OLYMPIC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AND STARRED IN THE #1 TV SHOW FROM 1984 TO 19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SHERLOCK IN TV'S "SHER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IN 2012, BEST SUPPORTING ACTOR IN 2013, AND BEST ACTOR IN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ALTER WHITE ON "BREAKING B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2396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U.S. SECRETARY OF HOUSING AND URBAN DEVELOPMENT DIED OF COVID-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-SELLING SINGER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ROBERT LEROY PARKER, A NOTORIOUS BANK AND TRAIN ROBBER IN THE OLD W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19:46:18Z</dcterms:created>
  <dc:creator>Jennifer Budzinski</dc:creator>
  <dc:description/>
  <dc:language>en-US</dc:language>
  <cp:lastModifiedBy>Erich Friedman</cp:lastModifiedBy>
  <dcterms:modified xsi:type="dcterms:W3CDTF">2020-08-23T20:40:20Z</dcterms:modified>
  <cp:revision>271</cp:revision>
  <dc:subject/>
  <dc:title>Slide 1</dc:title>
</cp:coreProperties>
</file>