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808BF-AD78-4D89-BEF7-D2F55D1AA8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91874-0987-4E56-B79A-21C642151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20C35-E38E-4826-B7C7-8902F8608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7D2B4-EE7B-4355-88E1-EBDE79F1EE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88786-1E10-4B68-A529-5C658E836B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AB75E-A12E-4091-8E4C-6BB748D52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7372C-2226-4E0A-A361-89AB2C83B7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A1FE2-02CF-4ED0-9770-59C2F09570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DB43C-AC5F-40A4-AB48-52BEDD767F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403AA-DF55-4C76-AE88-0DA4C5E461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EE288-596A-4FC1-81F4-0688FE22C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A11CE-0068-4B87-8CE1-A0071EEDB0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F9829-BB35-45DB-B00E-183D7D8BF2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F86D6-67A7-4E7F-96B7-73E38FCBB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20217-3D71-4F1B-B6BB-5DACC894B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431CC-E003-495D-9195-8C6E6D860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3F69E-269D-4AF4-B48D-C6AEA6868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8CB65-C817-4206-819D-CEDEFC994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1FB31-7C86-43AA-846D-52FB324EE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CBD80-4BD3-4DBD-A88D-4E523D966C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6877B-C1EC-4F63-B3C0-16609E94E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80688-D5C6-405C-93A4-1F4F7CD05D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06D18-3C61-4B48-B838-7B1D441DE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FILM SCORE TO "ROCKY" AND FOUR OF ITS SEQUE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SPORTS COMMENTATOR WAS THE PRIME-TIME HOST FOR 11 OLYMPIC GAM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Y  CRYS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HARRY IN "WHEN HARRY MET SALL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  COS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62120"/>
            <a:ext cx="77724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RODUCED AND STARRED IN THE #1 TV SHOW FROM 1984 TO 198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NEDICT  CUMBERBA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295280" y="762120"/>
            <a:ext cx="6553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S SHERLOCK IN TV'S "SHERLOC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ADLEY  COO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ACTOR IN 2012, BEST SUPPORTING ACTOR IN 2013, AND BEST ACTOR IN 201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YAN  CRANS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57200" y="762120"/>
            <a:ext cx="80010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WALTER WHITE ON "BREAKING BA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N  CAR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66800" y="762120"/>
            <a:ext cx="7610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RMER U.S. SECRETARY OF HOUSING AND URBAN DEVELOPMENT DIED OF COVID-1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NG  CROS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57200" y="762120"/>
            <a:ext cx="8229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BEST-SELLING SINGER OF THE 2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HARRY IN "WHEN HARRY MET SALL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TCH  CASSI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ICKNAME OF ROBERT LEROY PARKER, A NOTORIOUS BANK AND TRAIN ROBBER IN THE OLD WE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  CON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52560" y="762120"/>
            <a:ext cx="72388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FILM SCORE TO "ROCKY" AND FOUR OF ITS SEQUE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B  COS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57200" y="762120"/>
            <a:ext cx="8229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SPORTS COMMENTATOR WAS THE PRIME-TIME HOST FOR 11 OLYMPIC GAM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RODUCED AND STARRED IN THE #1 TV SHOW FROM 1984 TO 1989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295280" y="762120"/>
            <a:ext cx="6553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S SHERLOCK IN TV'S "SHERLOC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ACTOR IN 2012, BEST SUPPORTING ACTOR IN 2013, AND BEST ACTOR IN 2014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2396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WALTER WHITE ON "BREAKING BA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23960" y="72396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RMER U.S. SECRETARY OF HOUSING AND URBAN DEVELOPMENT DIED OF COVID-19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BEST-SELLING SINGER OF THE 2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7200" y="72396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ICKNAME OF ROBERT LEROY PARKER, A NOTORIOUS BANK AND TRAIN ROBBER IN THE OLD WE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9T19:46:18Z</dcterms:created>
  <dc:creator>Jennifer Budzinski</dc:creator>
  <dc:description/>
  <dc:language>en-US</dc:language>
  <cp:lastModifiedBy>Erich Friedman</cp:lastModifiedBy>
  <dcterms:modified xsi:type="dcterms:W3CDTF">2020-08-23T20:40:20Z</dcterms:modified>
  <cp:revision>271</cp:revision>
  <dc:subject/>
  <dc:title>Slide 1</dc:title>
</cp:coreProperties>
</file>