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9526-C771-4745-A6B4-35208E5EF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A926-7E7C-4F90-AD76-E3F46F7E7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429F-7F35-4E8B-B59D-EC91F918F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979B-06BF-4189-AE44-41A0BE06E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0A6C-7FF7-4EA8-9244-55425DA51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4C31-42C3-4346-BF0D-75031B910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A505-7EE4-4218-9306-E9557AE2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34FB-F386-4542-A61C-64A0427B3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D1F4-300C-4168-853F-AD6D746FA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0673-177A-4ADA-8D26-376410D6E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C8BF-C398-4B01-94B2-5035720C2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6C19-6A55-4368-B265-DFE0DAAB0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07A4-F2C2-4EDF-981B-80A79D366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4FE8-78C1-41D3-8356-0166D096C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AD59-F975-464F-B1A0-92B8D3FE6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0F97-2BF0-4176-B85E-75A304E3E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775B-D6DA-499B-A3C9-09AD163B8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A29D-A396-4E69-9578-9AC7F7F4D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DA5E-935A-49FC-8E8C-6F1BD1670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077C-A8B9-4B7F-BCBB-25FC1E3E7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4031-8937-4389-816F-D3719BBC9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FDC6-E265-4EC7-8B03-793811779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CF41-5C27-4D95-82B3-507C9D07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 TO "ROCKY" AND FOUR OF ITS SEQU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ORTS COMMENTATOR WAS THE PRIME-TIME HOST FOR 11 OLYMPIC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CRYS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RRY IN "WHEN HARRY MET SAL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AND STARRED IN THE #1 TV SHOW FROM 1984 TO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EDICT  CUMBERB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SHERLOCK IN TV'S "SHER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LEY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IN 2012, BEST SUPPORTING ACTOR IN 2013, AND BEST ACTOR IN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YAN  CRAN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001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ALTER WHITE ON "BREAKING B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C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U.S. SECRETARY OF HOUSING AND URBAN DEVELOPMENT DIED OF COVID-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NG  CR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-SELLING SINGER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RRY IN "WHEN HARRY MET SAL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CH  CASSI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ROBERT LEROY PARKER, A NOTORIOUS BANK AND TRAIN ROBBER IN THE OLD W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O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 TO "ROCKY" AND FOUR OF ITS SEQU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C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ORTS COMMENTATOR WAS THE PRIME-TIME HOST FOR 11 OLYMPIC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AND STARRED IN THE #1 TV SHOW FROM 1984 TO 19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SHERLOCK IN TV'S "SHER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IN 2012, BEST SUPPORTING ACTOR IN 2013, AND BEST ACTOR IN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ALTER WHITE ON "BREAKING B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2396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U.S. SECRETARY OF HOUSING AND URBAN DEVELOPMENT DIED OF COVID-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-SELLING SINGER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ROBERT LEROY PARKER, A NOTORIOUS BANK AND TRAIN ROBBER IN THE OLD W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19:46:18Z</dcterms:created>
  <dc:creator>Jennifer Budzinski</dc:creator>
  <dc:description/>
  <dc:language>en-US</dc:language>
  <cp:lastModifiedBy>Erich Friedman</cp:lastModifiedBy>
  <dcterms:modified xsi:type="dcterms:W3CDTF">2020-08-23T20:40:20Z</dcterms:modified>
  <cp:revision>271</cp:revision>
  <dc:subject/>
  <dc:title>Slide 1</dc:title>
</cp:coreProperties>
</file>