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F5FD-CCE7-43CC-929A-33C99F19E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7B93-2E59-4E45-BE5A-FC1867C62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56E3-4C32-4EA0-A0FC-4F71C031E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CE42-1CAA-4F62-901B-9249C6DD8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7BF4-1A65-4F30-B3B6-28EBA80A5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5BC6-F6D8-48A2-A159-A16621ECA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E6CE-CD12-4DD9-AE78-126D1215E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747D-30CF-4672-88E0-9FD8D108B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3AF7-8E26-4EA8-87F8-04E718448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2196-FE6F-4017-9DEC-9B9701427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7DBE-5C5B-467F-97F8-7CF68F227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3905-B663-4E21-B50E-7BD5DED03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0A3F-CF54-4991-8A6E-F29F7D26D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24A1-6953-44B8-80DF-FC53FB8E7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3D8A-9CB0-41AC-A3E0-AE9C7B10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34F9-4EC4-44E3-B914-28593121E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38A5-3DD4-415D-AFA0-1F69A887D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6541-A68E-46D1-9D2E-94D11533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93D1-9390-4567-B0A1-CFC1B0B18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9805-BD3C-4C7A-A53D-8A14A41FE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5637-ED1A-4A4A-A0D9-F1141CDC1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78D2-2746-4E40-A302-0B1604A5F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782C-70F3-47B6-B873-AD5F3BEDB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IGNATURE ON THE DECLARATION OF INDEPENDENCE IS THE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EAD COACH OF THE BALTIMORE RAV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I  HEND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URPLE HAZ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D  HIRS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NUMB3RS" AND "TAX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INC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RONALD RE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H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CATCH-22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HOFF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00160" y="762120"/>
            <a:ext cx="87436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BOSS DISAPPEARED WITHOUT A TRACE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HE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WAS NORTH CAROLINA'S LONGEST SERVING SENATOR, FROM 1973 TO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HE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MUPP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URPLE HAZ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S  HOP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TREPRENEUR AND PHILANTHROPIST WHO DIED IN 1873 FOUNDED A FAMOUS HOSPITAL AND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AN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IGNATURE ON THE DECLARATION OF INDEPENDENCE IS THE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HARBA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EAD COACH OF THE BALTIMORE RAV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NUMB3RS" AND "TAX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RONALD REA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CATCH-22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90440" y="72396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BOSS DISAPPEARED WITHOUT A TRACE IN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WAS NORTH CAROLINA'S LONGEST SERVING SENATOR, FROM 1973 TO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MUPPE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TREPRENEUR AND PHILANTHROPIST WHO DIED IN 1873 FOUNDED A FAMOUS HOSPITAL AND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2T14:10:23Z</dcterms:created>
  <dc:creator>Jennifer Budzinski</dc:creator>
  <dc:description/>
  <dc:language>en-US</dc:language>
  <cp:lastModifiedBy>Erich Friedman</cp:lastModifiedBy>
  <dcterms:modified xsi:type="dcterms:W3CDTF">2020-08-23T22:51:57Z</dcterms:modified>
  <cp:revision>327</cp:revision>
  <dc:subject/>
  <dc:title>Slide 1</dc:title>
</cp:coreProperties>
</file>