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680E-5F91-4C48-B859-50240EE8C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77AA-872D-4D1B-8A71-6A8698610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487C-964A-4AE0-935F-2820E96F5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F811-9C27-4185-B1A2-FFA3D8E28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1577-A5E7-4D32-AF2E-0D5283D8C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82D2-7F18-4524-AAD7-83E5B4497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138F-D10D-423A-8BDC-18BEC115A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7261-55A9-4B3C-9DAB-B72ECE7A9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52CD-6A20-4075-AC86-4CB2915A9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6B87-C7B8-4641-9AE4-0EA85EB60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DFA6-4D9B-4311-84C2-586D1A0CC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42E9-0AF0-483D-A309-E97D1FA20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BA5D-DE2B-4FE4-881A-7FE68AFEA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A285-58F4-4A0F-B6A1-6E360978F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4934-68C3-43E5-BB67-3AF83EA9F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48BA-94C7-4D31-9B91-67CEBB050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26D4-6E2A-41AB-A3DA-E0ABC7F1D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C8F8-7CF6-4F06-B02D-DA2DD809F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E26A-7EE5-47C8-9C8C-9247C51B7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7681-03FA-402D-BA50-80B9A2040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1967-3421-4BF4-9892-C9479B178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3E01-F90A-4DDC-A359-38AF00C9F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0F8E-AC49-4462-B74B-2B769B4DF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IGNATURE ON THE DECLARATION OF INDEPENDENCE IS THE LARG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EAD COACH OF THE BALTIMORE RAV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I  HEND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URPLE HAZ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DD  HIRS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95280" y="762120"/>
            <a:ext cx="6553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NUMB3RS" AND "TAX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HINCK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RONALD REA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H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CATCH-22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HOFF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00160" y="762120"/>
            <a:ext cx="87436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BOSS DISAPPEARED WITHOUT A TRACE IN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E  HE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WAS NORTH CAROLINA'S LONGEST SERVING SENATOR, FROM 1973 TO 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HE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MUPP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URPLE HAZ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S  HOP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TREPRENEUR AND PHILANTHROPIST WHO DIED IN 1873 FOUNDED A FAMOUS HOSPITAL AND UNIVERS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HAN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IGNATURE ON THE DECLARATION OF INDEPENDENCE IS THE LAR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HARBA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EAD COACH OF THE BALTIMORE RAV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NUMB3RS" AND "TAX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RONALD REA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CATCH-22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90440" y="72396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BOSS DISAPPEARED WITHOUT A TRACE IN 197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WAS NORTH CAROLINA'S LONGEST SERVING SENATOR, FROM 1973 TO 200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MUPP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TREPRENEUR AND PHILANTHROPIST WHO DIED IN 1873 FOUNDED A FAMOUS HOSPITAL AND UNIVERS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2T14:10:23Z</dcterms:created>
  <dc:creator>Jennifer Budzinski</dc:creator>
  <dc:description/>
  <dc:language>en-US</dc:language>
  <cp:lastModifiedBy>Erich Friedman</cp:lastModifiedBy>
  <dcterms:modified xsi:type="dcterms:W3CDTF">2020-08-23T22:51:57Z</dcterms:modified>
  <cp:revision>327</cp:revision>
  <dc:subject/>
  <dc:title>Slide 1</dc:title>
</cp:coreProperties>
</file>