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0CCD-8869-442A-982D-F9465A9A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30B8-3535-4FB6-B1E9-4C3CB165F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4CAB-AF7B-4020-97D6-853561235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B32B-B059-4F6B-BAFF-0FD7179A6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115D-A44E-43A7-8E22-259C6657E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1494-3DCF-4D43-A423-AE5DC6A5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0F95-A216-47EA-A666-F5D2B2940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7910-7B1F-42B5-9E11-2AACF7A0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521-B4F2-4A89-B42C-192627E92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4360-0E82-4C19-8603-EDCB477B8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D2DA-C3E4-4D8B-8304-7FFB08817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A3D0-0A8F-4121-9769-95FE093A8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555A-6D94-41E5-8E4E-6B376F2C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0B39-731E-4A82-A688-9A7EB98C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F02B-9A5A-4CE1-92ED-1E1B59A4A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3487-DA7E-437E-8C21-4335F377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23EA-D649-4CF4-8739-3AFD03030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3532-F6F3-4D38-A96F-2BA263CF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396F-C9B3-48F5-890A-959D6073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E694-5662-4328-AE97-4F31C45DB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EFEF-CF5B-4E2D-ACA3-CBBCB9743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AC04-4E09-4050-8F7C-BF55F9514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C2D4-3BDA-4A1D-80CA-ECDDAFECB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ON THE DECLARATION OF INDEPENDENCE IS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EAD COACH OF THE BALTIMORE RAV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  HEND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URPLE HAZ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D  HIR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UMB3RS" AND "TAX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INC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RONALD RE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H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CH-22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HOF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00160" y="762120"/>
            <a:ext cx="8743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BOSS DISAPPEARED WITHOUT A TRACE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HE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WAS NORTH CAROLINA'S LONGEST SERVING SENATOR, FROM 1973 TO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HE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MUP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URPLE HAZ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S  HO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TREPRENEUR AND PHILANTHROPIST WHO DIED IN 1873 FOUNDED A FAMOUS HOSPITAL AND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ON THE DECLARATION OF INDEPENDENCE IS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RBA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EAD COACH OF THE BALTIMORE RAV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UMB3RS" AND "TAX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RONALD RE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CH-22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90440" y="72396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BOSS DISAPPEARED WITHOUT A TRACE IN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WAS NORTH CAROLINA'S LONGEST SERVING SENATOR, FROM 1973 TO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MUP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TREPRENEUR AND PHILANTHROPIST WHO DIED IN 1873 FOUNDED A FAMOUS HOSPITAL AND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14:10:23Z</dcterms:created>
  <dc:creator>Jennifer Budzinski</dc:creator>
  <dc:description/>
  <dc:language>en-US</dc:language>
  <cp:lastModifiedBy>Erich Friedman</cp:lastModifiedBy>
  <dcterms:modified xsi:type="dcterms:W3CDTF">2020-08-23T22:51:57Z</dcterms:modified>
  <cp:revision>327</cp:revision>
  <dc:subject/>
  <dc:title>Slide 1</dc:title>
</cp:coreProperties>
</file>