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2F65-F210-4F3A-A3B7-56482EEA7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9A5C-78E3-4CCA-B7C9-A2086A673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AC44-988D-40D1-9105-A157CBB70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3190-AF72-4E20-AC0B-FBF2CB4E0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86BA-1141-40E2-9D40-2557CC051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EE5D-A106-4D6C-8CA6-C4ADAFF0D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7386-FDD8-4C37-9025-67A07595B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D298-3018-4A8A-9EAE-27F885DAA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6777-7007-454D-B17E-E65B089A1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BD7B-7C0D-4AF6-B413-3409CD43B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013B-7C2E-4B3D-910E-69DFED2AC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41CC-843E-480C-87A7-2FF375347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DD6E-82F6-4C54-AC04-47B53B4C3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205C-32D4-4331-A9FF-51ADE5FBD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7665-F520-4B22-9FE5-3B3529E9E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B955-4DBF-4ECE-848A-6CE59CDB2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4551-C0AB-4FE7-870D-7D979C93F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4DAD-8BBE-43D0-890D-8D61242D7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5C3E-7C9F-480F-B344-D397BBCD9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C521-D510-4B12-9626-52633E9FF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DC0F-36F7-44B1-AD20-48529C7F8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D54E-995C-4E23-98D4-FD4BA79BE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533D-A9B1-4A4B-A919-86E688E04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85760" y="761760"/>
            <a:ext cx="6972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RESIDENT JOSIAH BARTLET ON "THE WEST W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62040" y="762120"/>
            <a:ext cx="781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PENED THE FIRST BIRTH CONTROL CLINIC, AND EVEN POPULARIZED THE TERM "BIRTH CONTRO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  SHE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12760" y="762120"/>
            <a:ext cx="8718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GOTHIC NOVEL "FRANKENSTEIN" IN 18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YL  STR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HAS BEEN NOMINATED FOR THE MOST ACADEMY AWARDS (21) AND GOLDEN GLOBE AWARDS (23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SH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246320" y="762120"/>
            <a:ext cx="6651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 IN "THREE FUGITIVES", "THREE AMIGOS", AND "THE SANTA CLAUSE 3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URICE  SEND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24040" y="762120"/>
            <a:ext cx="749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CHILDREN'S BOOK "WHERE THE WILD THINGS A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SPI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ELD THE RECORD FOR WINNING THE MOST GOLD MEDALS AT AN OLYMPICS UNTIL THE RECORD WAS BEATEN BY MICHAEL PHEL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SCORS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18960" y="762120"/>
            <a:ext cx="850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9 FILMS WITH ROBERT DE NIRO, INCLUDING "TAXI DRIVER", "RAGING BULL", "CAPE FEAR" AND "CASI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A  SHARAPO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36480" y="762120"/>
            <a:ext cx="7871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NNIS STAR WAS    THE HIGHEST-PAID FEMALE ATHLETE IN THE WORLD FOR 11 CONSECUTIVE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01600" y="762120"/>
            <a:ext cx="8739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GOTHIC NOVEL "FRANKENSTEIN" IN 18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A  SH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IRST LADY OF CALIFORNIA FOR 8 YEARS AND MARRIED TO ARNOLD SCHWARZENEGGER FOR 31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SH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22480" y="762120"/>
            <a:ext cx="6897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RESIDENT JOSIAH BARTLET ON "THE WEST W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GARET  S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17400" y="762120"/>
            <a:ext cx="7907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PENED THE FIRST BIRTH CONTROL CLINIC, AND EVEN POPULARIZED THE TERM "BIRTH CONTRO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01760" y="761760"/>
            <a:ext cx="8339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HAS BEEN NOMINATED FOR THE MOST ACADEMY AWARDS (21) AND GOLDEN GLOBE AWARDS (23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92320" y="762120"/>
            <a:ext cx="6759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 IN "THREE FUGITIVES", "THREE AMIGOS", AND "THE SANTA CLAUSE 3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95240" y="762120"/>
            <a:ext cx="7553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CHILDREN'S BOOK "WHERE THE WILD THINGS A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ELD THE RECORD FOR WINNING THE MOST GOLD MEDALS AT AN OLYMPICS UNTIL THE RECORD WAS BEATEN BY MICHAEL PHELP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31920" y="76176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9 FILMS WITH ROBERT DE NIRO, INCLUDING "TAXI DRIVER", "RAGING BULL", "CAPE FEAR" AND "CASIN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19200" y="761760"/>
            <a:ext cx="7905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NNIS STAR WAS   THE HIGHEST-PAID FEMALE ATHLETE IN THE WORLD FOR 11 CONSECUTIVE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54040" y="761760"/>
            <a:ext cx="803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IRST LADY OF CALIFORNIA FOR 8 YEARS AND MARRIED TO ARNOLD SCHWARZENEGGER FOR 31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7-12T12:21:21Z</dcterms:modified>
  <cp:revision>376</cp:revision>
  <dc:subject/>
  <dc:title>Slide 1</dc:title>
</cp:coreProperties>
</file>