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164E-40DC-4993-9A5D-C6F38AC39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56C8-8DC6-420E-ADF1-48D72C067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C8B3-C4A0-48D9-AEA3-57D0FE6D4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43ADF-1C00-44F8-8487-16C412DDB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1269-B6AC-4F10-8688-3296B408BD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700B-6BFE-4071-B82F-6F5D1825D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3F9A-AC4C-485E-BE3B-A5F8C3DDF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82AC-7FA2-4E7B-8C23-1F523B008A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C00C-E748-42CB-8473-2B356EB03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980D-ACDF-4EAB-956F-218B493D5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1BEE-2964-4D81-9A08-099AEEBB2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5D4FB-579F-4CBD-A2AF-5D5A7E731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AF0D5-90AE-4A01-8BEC-5AC4C4FD7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B3C60-A734-4991-A801-63BD272B4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8033-D3D9-4C88-AAED-74B4C89B1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FFA5B-F572-4AE2-9CAC-27F39245A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F221E-F813-4693-84F7-73D16F5E4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72D4-9E75-4FF7-B85C-CB69E481B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C74E-27E1-4F13-8D1F-7B3F719C7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8D29-740F-4132-A72D-56F12CC10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BCA3-EC69-4284-BA29-FE0B32E62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50DD-5C0F-4E84-B8E8-C08F0FCBB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E2D6-9CBA-4182-94C0-793A229D8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RESIDENT JOSIAH BARTLET ON "THE WEST W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62040" y="762120"/>
            <a:ext cx="78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PENED THE FIRST BIRTH CONTROL CLINIC, AND EVEN POPULARIZED THE TERM "BIRTH CONTR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Y  SHEL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12760" y="762120"/>
            <a:ext cx="8718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GOTHIC NOVEL "FRANKENSTEIN" IN 18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RYL  STR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57200" y="76212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HAS BEEN NOMINATED FOR THE MOST ACADEMY AWARDS (21) AND GOLDEN GLOBE AWARDS (23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246320" y="762120"/>
            <a:ext cx="6651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 IN "THREE FUGITIVES", "THREE AMIGOS", AND "THE SANTA CLAUSE 3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URICE  SEND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24040" y="762120"/>
            <a:ext cx="749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CHILDREN'S BOOK "WHERE THE WILD THINGS A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SPI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ELD THE RECORD FOR WINNING THE MOST GOLD MEDALS AT AN OLYMPICS UNTIL THE RECORD WAS BEATEN BY MICHAEL PHELP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SCORSE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18960" y="762120"/>
            <a:ext cx="8506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9 FILMS WITH ROBERT DE NIRO, INCLUDING "TAXI DRIVER", "RAGING BULL", "CAPE FEAR" AND "CASI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A  SHARAPO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36480" y="762120"/>
            <a:ext cx="7871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IS STAR WAS    THE HIGHEST-PAID FEMALE ATHLETE IN THE WORLD FOR 11 CONSECUTIVE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01600" y="762120"/>
            <a:ext cx="87393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GOTHIC NOVEL "FRANKENSTEIN" IN 18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A  SHRI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IRST LADY OF CALIFORNIA FOR 8 YEARS AND MARRIED TO ARNOLD SCHWARZENEGGER FOR 31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TIN  SH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22480" y="762120"/>
            <a:ext cx="6897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PRESIDENT JOSIAH BARTLET ON "THE WEST W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GARET  SA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17400" y="762120"/>
            <a:ext cx="7907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PENED THE FIRST BIRTH CONTROL CLINIC, AND EVEN POPULARIZED THE TERM "BIRTH CONTRO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01760" y="761760"/>
            <a:ext cx="8339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HAS BEEN NOMINATED FOR THE MOST ACADEMY AWARDS (21) AND GOLDEN GLOBE AWARDS (23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192320" y="762120"/>
            <a:ext cx="675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STARRED  IN "THREE FUGITIVES", "THREE AMIGOS", AND "THE SANTA CLAUSE 3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95240" y="762120"/>
            <a:ext cx="7553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CHILDREN'S BOOK "WHERE THE WILD THINGS A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ELD THE RECORD FOR WINNING THE MOST GOLD MEDALS AT AN OLYMPICS UNTIL THE RECORD WAS BEATEN BY MICHAEL PHELP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31920" y="76176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DIRECTED 9 FILMS WITH ROBERT DE NIRO, INCLUDING "TAXI DRIVER", "RAGING BULL", "CAPE FEAR" AND "CASIN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9200" y="761760"/>
            <a:ext cx="7905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NNIS STAR WAS   THE HIGHEST-PAID FEMALE ATHLETE IN THE WORLD FOR 11 CONSECUTIVE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FIRST LADY OF CALIFORNIA FOR 8 YEARS AND MARRIED TO ARNOLD SCHWARZENEGGER FOR 31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7-12T12:21:21Z</dcterms:modified>
  <cp:revision>376</cp:revision>
  <dc:subject/>
  <dc:title>Slide 1</dc:title>
</cp:coreProperties>
</file>