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3307-49CF-4D09-B811-7878DF583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22A8-ED59-4BEA-96CA-6667526C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59BD-C71A-4178-9E91-25575EF9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6366-C7A7-4C54-8F84-54DFCF4F4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6621-BDF2-4908-8557-5082C3BDC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3E3D-7252-463F-9D3C-EB3FAA40E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25D7-4304-4CAA-A532-D7B831EF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8B67-0D11-4786-B27B-1C19BA95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1779-E28D-427A-9A39-0E11BAF97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55D2-B225-42A9-BF6B-E16B23651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E38-2ECA-4AC3-8DB8-4BE58D25A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B76-6592-48F5-95FB-2B68DE1C4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0CE-00AF-4D7F-BF6D-3001DA49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A4ED-6A80-4897-A596-033EEBA71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AF11-1469-479F-9FB7-6BD67E0E0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6DAF-3BD4-4A14-A56C-7B4BA9271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4041-73B8-4D6C-9338-5005559B4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3A22-98A1-47F3-A56C-D8134457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1386-3BB3-4BF0-AA79-9AE570FB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9AE4-9CFB-41E4-82AC-5FF56CE1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B647-B364-4238-BA4B-2E4978649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86A7-6D08-4E85-A172-C9777DC80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EA24-9EC1-4ACD-B09A-D8EC70058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DAVID  LEE ROTH AS THE LEAD SINGER FOR VAN HAL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41400" y="762120"/>
            <a:ext cx="7261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AVE OWNED BY THOMAS JEFFERSON BORE 6 OF HIS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HAW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0640" y="762120"/>
            <a:ext cx="7362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BRIEF HISTORY OF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A  HAY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23880" y="762120"/>
            <a:ext cx="7896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, SAG AWARD, BAFTA AWARD, AND GOLDEN GLOBE FOR HER ACTING IN "FRI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HAR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538280" y="762120"/>
            <a:ext cx="606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OF CANADA 2006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5244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52440" y="762120"/>
            <a:ext cx="7877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PERSON TO EVER BE GOVERNOR OF TWO DIFFERENT STATES, TENNESSEE 1827-1829     AND TEXAS 1859-18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HAN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FOX'S MOST-WATCHED NEWS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A  HAL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66680" y="762120"/>
            <a:ext cx="88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#1 FEMALE TENNIS PLAYER IN THE WORLD AT THE END OF 2018 AND 2019, AFTER WINNING THE 2018 FRENCH OPEN AND 2019 WIMBLE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HE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4040" y="762120"/>
            <a:ext cx="857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OWARD ON "THE BIG BANG THEORY", AND WAS GOLDEN GLOBE-NOMINATED FOR HIS ROLE IN THE FILM "FLORENCE FOSTER JENK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BRIEF HISTORY OF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THE MISS UNIVERSE COMPETITION, HIS OWN MORNING SHOW, "FAMILY FEUD", AND FOX'S NEW YEAR'S EVE BROAD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MY  HA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08000" y="762120"/>
            <a:ext cx="7126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DAVID  LEE ROTH AS THE LEAD SINGER FOR VAN HAL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HEM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3880" y="762120"/>
            <a:ext cx="7356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AVE OWNED BY THOMAS JEFFERSON BORE 6 OF HIS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, SAG AWARD, BAFTA AWARD, AND GOLDEN GLOBE FOR HER ACTING IN "FRI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06600" y="762120"/>
            <a:ext cx="613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OF CANADA 2006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PERSON TO EVER BE GOVERNOR OF TWO DIFFERENT STATES, TENNESSEE 1827-1829    AND TEXAS 1859-18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FOX'S MOST-WATCHED NEWS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#1 FEMALE TENNIS PLAYER IN THE WORLD AT THE END OF 2018 AND 2019, AFTER WINNING THE 2018 FRENCH OPEN AND 2019 WIMBLE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7160" y="761760"/>
            <a:ext cx="8688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OWARD ON "THE BIG BANG THEORY", AND WAS GOLDEN GLOBE-NOMINATED FOR HIS ROLE IN THE FILM "FLORENCE FOSTER JENKI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THE MISS UNIVERSE COMPETITION, HIS OWN MORNING SHOW, "FAMILY FEUD", AND FOX'S NEW YEAR'S EVE BROADC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5T14:43:47Z</dcterms:modified>
  <cp:revision>370</cp:revision>
  <dc:subject/>
  <dc:title>Slide 1</dc:title>
</cp:coreProperties>
</file>