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3939-A9CB-42DD-9AD6-04F864E53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90F0-ADAF-4277-8036-A9D9D7C16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7EEA-9657-43A0-AEFC-154825321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BFA9-2BA8-4C05-8A1B-0DE9840C9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0EB9-9265-4A2A-9480-36C28777A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2773-99F9-4041-99A1-132B076D5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AD0A-7388-4054-BD3B-13618F4B1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BAAA-01E7-4C4C-BFFF-2D78F117E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7A80-1812-40E4-AF1F-8C0BAE610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A460-233B-47DB-9663-DB43EEDDC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58B8-85C4-4414-A8C4-28AB14588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12BC-FD7B-4195-95D9-833A54004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6E56-600B-4642-86D7-741917784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117C-12E9-4953-8F5B-9FE0D2EB1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446C-6A63-4D84-87D5-5AA47F137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2A85-9E7C-49A1-A3E6-BE97165AA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FFFD-E861-4BC3-9F50-74CD13A66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1AD8-4DEA-4751-956E-5F6157B54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EFD1-6E50-44E7-B427-B3431933F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DEE0-02C3-4747-8ED3-2DB89E0BB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B3A1-7ACC-4C66-BA60-5EDD5BA03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CE79-B782-4B14-AD04-53DFFFF97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6BA3-44E4-4B1F-BB79-5A5E875E1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71640" y="761760"/>
            <a:ext cx="7200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EPLACED DAVID  LEE ROTH AS THE LEAD SINGER FOR VAN HAL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941400" y="762120"/>
            <a:ext cx="7261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LAVE OWNED BY THOMAS JEFFERSON BORE 6 OF HIS CHILDR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PHEN  HAW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90640" y="762120"/>
            <a:ext cx="7362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A BRIEF HISTORY OF TI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MA  HAY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23880" y="762120"/>
            <a:ext cx="78962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AN OSCAR, SAG AWARD, BAFTA AWARD, AND GOLDEN GLOBE FOR HER ACTING IN "FRID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PHEN  HAR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538280" y="762120"/>
            <a:ext cx="6066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PRIME MINISTER OF CANADA 2006-20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5244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  HOU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52440" y="762120"/>
            <a:ext cx="7877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PERSON TO EVER BE GOVERNOR OF TWO DIFFERENT STATES, TENNESSEE 1827-1829     AND TEXAS 1859-186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N  HANN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95160" y="762120"/>
            <a:ext cx="77536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S FOX'S MOST-WATCHED NEWS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MONA  HAL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66680" y="762120"/>
            <a:ext cx="881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#1 FEMALE TENNIS PLAYER IN THE WORLD AT THE END OF 2018 AND 2019, AFTER WINNING THE 2018 FRENCH OPEN AND 2019 WIMBLED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MON  HELBE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84040" y="762120"/>
            <a:ext cx="857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HOWARD ON "THE BIG BANG THEORY", AND WAS GOLDEN GLOBE-NOMINATED FOR HIS ROLE IN THE FILM "FLORENCE FOSTER JENKIN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31880" y="762120"/>
            <a:ext cx="7678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A BRIEF HISTORY OF TI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HARV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43080" y="762120"/>
            <a:ext cx="8458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URRENTLY HOSTS THE MISS UNIVERSE COMPETITION, HIS OWN MORNING SHOW, "FAMILY FEUD", AND FOX'S NEW YEAR'S EVE BROADC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MY  HAG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08000" y="762120"/>
            <a:ext cx="7126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EPLACED DAVID  LEE ROTH AS THE LEAD SINGER FOR VAN HAL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LY  HEM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893880" y="762120"/>
            <a:ext cx="7356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LAVE OWNED BY THOMAS JEFFERSON BORE 6 OF HIS CHILDR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42880" y="761760"/>
            <a:ext cx="8058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AN OSCAR, SAG AWARD, BAFTA AWARD, AND GOLDEN GLOBE FOR HER ACTING IN "FRID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506600" y="762120"/>
            <a:ext cx="6130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PRIME MINISTER OF CANADA 2006-20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76440" y="762120"/>
            <a:ext cx="7791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PERSON TO EVER BE GOVERNOR OF TWO DIFFERENT STATES, TENNESSEE 1827-1829    AND TEXAS 1859-186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47840" y="762120"/>
            <a:ext cx="8248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S FOX'S MOST-WATCHED NEWS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85760" y="761760"/>
            <a:ext cx="8772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#1 FEMALE TENNIS PLAYER IN THE WORLD AT THE END OF 2018 AND 2019, AFTER WINNING THE 2018 FRENCH OPEN AND 2019 WIMBLED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7160" y="761760"/>
            <a:ext cx="8688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HOWARD ON "THE BIG BANG THEORY", AND WAS GOLDEN GLOBE-NOMINATED FOR HIS ROLE IN THE FILM "FLORENCE FOSTER JENKIN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6360" y="761760"/>
            <a:ext cx="8531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URRENTLY HOSTS THE MISS UNIVERSE COMPETITION, HIS OWN MORNING SHOW, "FAMILY FEUD", AND FOX'S NEW YEAR'S EVE BROADCA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7-15T14:43:47Z</dcterms:modified>
  <cp:revision>370</cp:revision>
  <dc:subject/>
  <dc:title>Slide 1</dc:title>
</cp:coreProperties>
</file>