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4267E-6D01-40D4-9034-385C184BB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23D-C9C2-40F3-8B92-9E8833E77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FE8F-4AC5-4228-A2F8-D7D748687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A488-884F-45AF-B271-BDB112E1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D58F-D54E-4B05-ACD7-FEF4A2ED3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4FFAD-6864-4E66-8771-2789940E2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589-E586-4C04-A20D-944B7377A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8763-A76E-429E-8835-04A3F20D5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BF4B-D9F7-4B6C-BC33-77843BFA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00DF-77AB-4769-AC5E-E9E0BAA62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3EB1-4A5A-44A1-B3C3-57C0BF5F4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9EA6-7201-456E-AB89-492BD781F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C52E-6EF9-4136-8180-A569EA0D4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2332-70C1-4D5C-9AAA-BD1C89023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1243-E902-43E0-B387-A6EDD3699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0FEBB-662E-4F62-841A-713AAC297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7061-9AF9-4F88-A08E-8EC9EDACC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BC39-2CA0-4E86-807D-6EF59E40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30D0-16D3-479D-B342-F13246AB0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85BB-B1B8-4E7D-8F1B-387C40004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4C1A-1EC7-4DC5-B88B-61174DADC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20C5-3A1F-4B0F-979D-0338950F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DA4F-FFD7-41CA-BA02-AF2AB9331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035F-9118-4897-823D-1E957971E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420920" y="761760"/>
            <a:ext cx="630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21 HIERONYMUS BOSCH NO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MALE PLAYER TO EVER WIN A TENNIS GRAND SLAM TOURN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69720" y="762120"/>
            <a:ext cx="8404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HIT SONG "WALKING IN MEMPH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AULAY  CUL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0160" y="762120"/>
            <a:ext cx="748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HILD LEFT "HOME AL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2 NOBEL PRIZES, DISCOVERED RADIUM AND POLONIUM, COINED THE TERM "RADIOACTIVITY", AND DIED OF RADIATION POISO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CU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28800" y="762120"/>
            <a:ext cx="72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IONAIRE OWNS THE DALLAS MAVERI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H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4480" y="80316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MADONNA AND BARBRA STREISAND, WHAT FEMALE MUSICAL ARTIST HAS SOLD OVER 60 MILLION ALB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CHAG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QUINTESSENTIAL JEWISH ARTIST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NEW YORK 1983-1994, A JOB HELD BY HIS SON 2011-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35080" y="762120"/>
            <a:ext cx="867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JACK NICHOLSON, WHAT ACTOR WAS NOMINATED FOR AN ACTING OSCAR IN THE 1960'S, 1970'S, 1980'S, 1990'S, AND 20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ONN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21 HIERONYMUS BOSCH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H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12800" y="762120"/>
            <a:ext cx="7716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MALE PLAYER TO EVER WIN A TENNIS GRAND SLAM TOURN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C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85920" y="762120"/>
            <a:ext cx="837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HIT SONG "WALKING IN MEMPH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9640" y="762120"/>
            <a:ext cx="734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HILD LEFT "HOME AL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39200" y="761760"/>
            <a:ext cx="826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2 NOBEL PRIZES, DISCOVERED RADIUM AND POLONIUM, COINED THE TERM "RADIOACTIVITY", AND DIED OF RADIATION POISO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76320" y="762120"/>
            <a:ext cx="718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IONAIRE OWNS THE DALLAS MAVERI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240" y="762120"/>
            <a:ext cx="9029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MADONNA AND BARBRA STREISAND, WHAT FEMALE MUSICAL ARTIST HAS SOLD OVER 60 MILLION ALB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3920" y="762120"/>
            <a:ext cx="8696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QUINTESSENTIAL JEWISH ARTIST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NEW YORK 1983-1994, A JOB HELD BY HIS SON 2011-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JACK NICHOLSON, WHAT ACTOR WAS NOMINATED FOR AN ACTING OSCAR IN THE 1960'S, 1970'S, 1980'S, 1990'S, AND 200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8-21T18:23:04Z</dcterms:modified>
  <cp:revision>380</cp:revision>
  <dc:subject/>
  <dc:title>Slide 1</dc:title>
</cp:coreProperties>
</file>