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67BA-C1B6-4265-AAE7-51D31A71B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5E55-0019-40DD-9B9D-D75B3037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491-6018-4EEA-B22F-6CB9C6A0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DBC-3E51-471B-A41D-BE02B791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5DA7-FAE6-4B97-A1DF-0A87A39E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856-2C01-4900-AF5D-8037F1C5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D2D-B61F-4D67-B6D9-5135B15C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AABB-28D8-4791-BB88-84C107E0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58C-D0C7-46D8-B350-27F1C61E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407A-09A2-44B4-941A-E18C54E1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D49-3F73-4895-B717-C2773E20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B876-4AED-4111-9EEB-EE225489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B173-9CED-4819-845A-001026038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4FEB-9098-438E-B121-30AEDBA8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3C29-12F5-4D8B-B447-A2F7DA85A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67F-46B1-4F3D-8AE8-D48D0357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1C65-B664-47A7-BCC6-CB9A0D2B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D7B7-BEF3-4FE4-9888-CB87C6A6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BD9-0142-45E7-8870-F125FBC9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FBA-39E2-4334-8EE9-2AA03BAB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358-7E42-465E-9955-7F844B52B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218-D301-47B4-AD4A-845057DE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1527-D819-485B-AF79-C0D0677B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20C0-1856-406B-AA5C-B1F3A791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20920" y="761760"/>
            <a:ext cx="630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21 HIERONYMUS BOSCH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ALE PLAYER TO EVER WIN A TENNIS GRAND SLAM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69720" y="762120"/>
            <a:ext cx="840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 SONG "WALKING IN MEMP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ULAY  CUL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0160" y="762120"/>
            <a:ext cx="748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HILD LEFT "HOME AL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NOBEL PRIZES, DISCOVERED RADIUM AND POLONIUM, COINED THE TERM "RADIOACTIVITY", AND DIED OF RADIATION POIS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CU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28800" y="762120"/>
            <a:ext cx="72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IONAIRE OWNS THE DALLAS MAVERI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H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480" y="80316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MADONNA AND BARBRA STREISAND, WHAT FEMALE MUSICAL ARTIST HAS SOLD OVER 60 MILLION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CH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QUINTESSENTIAL JEWISH ART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83-1994, A JOB HELD BY HIS SON 2011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35080" y="762120"/>
            <a:ext cx="867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JACK NICHOLSON, WHAT ACTOR WAS NOMINATED FOR AN ACTING OSCAR IN THE 1960'S, 1970'S, 1980'S, 1990'S, AND 20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21 HIERONYMUS BOSCH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12800" y="762120"/>
            <a:ext cx="771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ALE PLAYER TO EVER WIN A TENNIS GRAND SLAM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C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85920" y="762120"/>
            <a:ext cx="83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 SONG "WALKING IN MEMP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HILD LEFT "HOME AL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39200" y="761760"/>
            <a:ext cx="82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NOBEL PRIZES, DISCOVERED RADIUM AND POLONIUM, COINED THE TERM "RADIOACTIVITY", AND DIED OF RADIATION POIS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76320" y="762120"/>
            <a:ext cx="718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IONAIRE OWNS THE DALLAS MAVERI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240" y="762120"/>
            <a:ext cx="902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MADONNA AND BARBRA STREISAND, WHAT FEMALE MUSICAL ARTIST HAS SOLD OVER 60 MILLION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3920" y="762120"/>
            <a:ext cx="8696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QUINTESSENTIAL JEWISH ART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83-1994, A JOB HELD BY HIS SON 2011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JACK NICHOLSON, WHAT ACTOR WAS NOMINATED FOR AN ACTING OSCAR IN THE 1960'S, 1970'S, 1980'S, 1990'S, AND 200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8-21T18:23:04Z</dcterms:modified>
  <cp:revision>380</cp:revision>
  <dc:subject/>
  <dc:title>Slide 1</dc:title>
</cp:coreProperties>
</file>