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F41E-1D1E-417F-9DB2-5D06B0CF8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BF70-C84E-4279-BE4C-5A65E12B1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9198-6382-4A07-8B5E-92E12004A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EAB6-F974-4B20-AF2B-A0CFF6BB1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7C83-AB11-4A3F-9955-EA4404BDB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2E74-52FF-42D8-AD4A-6AF4B9F59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BBF8-59B2-4308-9DD5-58BAF5EB2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7FD2-CDBD-4DC8-B5C6-5DFF30D77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3857-7B5B-440F-A75D-6A44696B5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20B1-D0A6-4139-810D-37C26AC29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9BA3-DE90-4B92-943C-6FA5E1615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73D1-4396-4DAE-AD60-BBBE9B517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90B7-1407-4486-9540-6C155ADFA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6220-0705-4FB3-8D9D-5DE0B9C8F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78C9-84EB-40C2-B84F-D12D7C2B5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A676-0DCB-451A-AAB1-2F3AA4A25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557A-D62C-4AFC-BE84-08FCB8D08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844D-DE9B-4332-9B80-977A9037F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A1C1-975E-4FB7-BF3A-A496D2A3D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CF7A-7657-4B37-90BF-1BD696E31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1485-05AD-477D-B7CD-6BE3F4629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A96D-750E-4E9C-82CC-9023CE200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2A22-5FA7-45D9-93B2-6F4700580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05BA-2C89-45BC-A56D-81FBE3E5F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STARSHIP CAPTAIN ON THE SERIES "QUANTUM LEAP" AND "STAR TREK: ENTERPRI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DDITION TO WINNING THE PULITZER AND NOBEL PRIZES, WHO IS THE ONLY AUTHOR TO WIN THE NATIONAL BOOK AWARD FOR FICTION 3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TI-APARTHEID LEADER BECAME A MARTYR AFTER BEING BEATEN TO DEATH IN PRISON IN 197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800600"/>
            <a:ext cx="7010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DRA  BUL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THE BLIND SI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8006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RA  BAREIL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104840" y="762120"/>
            <a:ext cx="6934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OVE SONG", "KING OF ANYTHING", AND "BRA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BUSCE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14440" y="762120"/>
            <a:ext cx="8115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PLAYED THE CHARACTER THAT IS FED INTO A WOODCHIPPER AT THE END OF THE FILM "FAR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00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VIO  BERLUSC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DIA TYCOON SERVED AS PRIME MINISTER OF ITALY 1994-1995, 2001-2006, AND 2008-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UEL  BECK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085760" y="762120"/>
            <a:ext cx="6972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"WAITING FOR GODOT" WON THE NOBEL PRIZE IN LITERATURE IN 196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  B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61960" y="762120"/>
            <a:ext cx="802008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EAD ROLES ON TV'S "THE GUARDIAN" AND "THE MENTAL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SAN  BO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85840" y="762120"/>
            <a:ext cx="8572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APPEARING ON "BRITAIN'S GOT TALENT", WHO RELEASED THE UK'S BEST-SELLING DEBUT ALBUM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T  BAK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STARSHIP CAPTAIN ON THE SERIES "QUANTUM LEAP" AND "STAR TREK: ENTERPRI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UL  B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38120" y="762120"/>
            <a:ext cx="82677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DDITION TO WINNING THE PULITZER AND NOBEL PRIZES, WHO IS THE ONLY AUTHOR TO WIN THE NATIONAL BOOK AWARD FOR FICTION 3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BIK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6400" y="762120"/>
            <a:ext cx="8071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TI-APARTHEID LEADER BECAME A MARTYR AFTER BEING BEATEN TO DEATH IN PRISON IN 197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THE BLIND SID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OVE SONG", "KING OF ANYTHING", AND "BRA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504720" y="762120"/>
            <a:ext cx="813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PLAYED THE CHARACTER THAT IS FED INTO A WOODCHIPPER AT THE END OF THE FILM "FAR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DIA TYCOON SERVED AS PRIME MINISTER OF ITALY 1994-1995, 2001-2006, AND 2008-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85760" y="761760"/>
            <a:ext cx="6972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"WAITING FOR GODOT" WON THE NOBEL PRIZE IN LITERATURE IN 196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EAD ROLES ON TV'S "THE GUARDIAN" AND "THE MENTALI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APPEARING ON "BRITAIN'S GOT TALENT", WHO RELEASED THE UK'S BEST-SELLING DEBUT ALBUM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2-08-22T13:59:26Z</dcterms:modified>
  <cp:revision>354</cp:revision>
  <dc:subject/>
  <dc:title>Slide 1</dc:title>
</cp:coreProperties>
</file>