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1CD1-0454-4FD7-833D-6A9929AD9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0EB4-66C3-438C-B4F9-BAA07C277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FF02-41B2-4796-B050-130A26BC0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AA21-E908-4E04-A260-52A31623E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A81F-D665-486A-965B-E05D5529F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CBC1-874C-4BF5-AC4C-E58E9732A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CA8D-0362-4EC4-880C-440BC39E7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7753-A807-4106-8FB1-3C36CAB2F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40ED-2126-424A-9C81-9BE7DBBDA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7F2E-DD0C-4D1A-BB1C-40412B9D1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0889-30C7-4498-9956-C8AB36EC6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951B-81AD-404C-BA18-1B22AEB6B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A677-10EB-435E-B195-75E33CAAA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1460-DEBA-4DDF-82F9-5883BDE67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B0CA-2B8B-4E3E-B0FC-015A3431F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22C9-4885-4BBA-B59F-55D8BA9F8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E0C5-716B-4C7A-BD3E-5BE88675B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3C91-9800-4ED3-8417-F4E02A6C5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0A91-2AF9-474E-94A1-1E1E9FF6F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8C01-356B-4FD0-856B-C5665C03D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21B3-199E-422B-A0BC-1C72560D9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AA0A-F80E-4CAC-BC68-4F3D65D09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E311-E6B4-40E2-B545-09512BE17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CCD6-66BD-4FBC-8A92-3CFC7FEBA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STARSHIP CAPTAIN ON THE SERIES "QUANTUM LEAP" AND "STAR TREK: ENTERPRI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DDITION TO WINNING THE PULITZER AND NOBEL PRIZES, WHO IS THE ONLY AUTHOR TO WIN THE NATIONAL BOOK AWARD FOR FICTION 3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TI-APARTHEID LEADER BECAME A MARTYR AFTER BEING BEATEN TO DEATH IN PRISON IN 197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800600"/>
            <a:ext cx="701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RA  BUL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HE BLIND S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800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  BAREI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104840" y="762120"/>
            <a:ext cx="6934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OVE SONG", "KING OF ANYTHING", AND "BRA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BUSCE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14440" y="762120"/>
            <a:ext cx="811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LAYED THE CHARACTER THAT IS FED INTO A WOODCHIPPER AT THE END OF THE FILM "F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IO  BERLUSC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DIA TYCOON SERVED AS PRIME MINISTER OF ITALY 1994-1995, 2001-2006, AND 2008-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BECK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085760" y="762120"/>
            <a:ext cx="6972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"WAITING FOR GODOT" WON THE NOBEL PRIZE IN LITERATURE IN 196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  B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61960" y="762120"/>
            <a:ext cx="802008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EAD ROLES ON TV'S "THE GUARDIAN" AND "THE MENTAL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SAN  BO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85840" y="762120"/>
            <a:ext cx="8572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APPEARING ON "BRITAIN'S GOT TALENT", WHO RELEASED THE UK'S BEST-SELLING DEBUT ALBUM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  BAK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STARSHIP CAPTAIN ON THE SERIES "QUANTUM LEAP" AND "STAR TREK: ENTERPRI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UL  B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38120" y="762120"/>
            <a:ext cx="8267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DDITION TO WINNING THE PULITZER AND NOBEL PRIZES, WHO IS THE ONLY AUTHOR TO WIN THE NATIONAL BOOK AWARD FOR FICTION 3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BIK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6400" y="762120"/>
            <a:ext cx="8071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TI-APARTHEID LEADER BECAME A MARTYR AFTER BEING BEATEN TO DEATH IN PRISON IN 197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HE BLIND SI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OVE SONG", "KING OF ANYTHING", AND "BRA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04720" y="762120"/>
            <a:ext cx="813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LAYED THE CHARACTER THAT IS FED INTO A WOODCHIPPER AT THE END OF THE FILM "F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DIA TYCOON SERVED AS PRIME MINISTER OF ITALY 1994-1995, 2001-2006, AND 2008-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85760" y="761760"/>
            <a:ext cx="6972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"WAITING FOR GODOT" WON THE NOBEL PRIZE IN LITERATURE IN 196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EAD ROLES ON TV'S "THE GUARDIAN" AND "THE MENTALI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APPEARING ON "BRITAIN'S GOT TALENT", WHO RELEASED THE UK'S BEST-SELLING DEBUT ALBUM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2-08-22T13:59:26Z</dcterms:modified>
  <cp:revision>354</cp:revision>
  <dc:subject/>
  <dc:title>Slide 1</dc:title>
</cp:coreProperties>
</file>