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C093-2F9A-43A3-ACD5-B0126CA14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063F-D960-43D6-9D31-4DFEBFBCE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EA1E-2109-4C3D-9DFC-7FB547460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F051E-52ED-4590-80F5-03BF87E6F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B890-033D-40DA-918F-8A86B12D0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BDD3E-D32F-433B-91DC-0007AB00E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8B341-FA74-4F1B-A2B2-24DB8E177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438E-91E2-40BF-A31C-E53FD69B2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DB06-9DB3-465B-8991-DE2402728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ED82-9530-4B3A-B5E8-6BCFA27B3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C91F9-1DEF-40A5-8940-77C194070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A563-B523-4E90-8309-8DC3EF13F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A717-1BBC-4803-B8C9-80E35DC4C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4C3B-F544-45CF-876E-B866D33C0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48F3-E2FC-4906-81B2-CF3D4E44E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8607-15FB-4FBE-9E15-CCD7CE80B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C39A-2E02-40FE-9D45-E1555376E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4F54-8366-4D0A-8EBF-067BD198A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0ACB-1446-4C1F-B425-829D2639E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5114-E0F0-4378-A398-221E4AC03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DB05-8C9F-4F74-BFEA-B64093EEC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A087-8DCD-43E4-A8D9-7C6B8DDBA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7888-74CA-4FD3-8321-06481EADA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OSCAR MADISON IN THE FILMS "THE ODD COUPLE" AND ITS SEQU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62040" y="762120"/>
            <a:ext cx="78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, ALONG WITH VIRGINIA JOHNSON, PIONEERED RESEARCH INTO HUMAN SEXUAL RESPONSE AND DYS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MOND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39720" y="762120"/>
            <a:ext cx="7864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JIMMY CARTER'S VIC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E  M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89120" y="762120"/>
            <a:ext cx="7565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UTFIELDER FOR THE NEW YORK (AND THEN SAN FRANCISCO) GIANTS WON 12 CONSECUTIVE GOLD GLOVE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NIE  MAND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62040" y="762120"/>
            <a:ext cx="7819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ECHNICALLY FIRST LADY OF SOUTH AFRICA IN 1994, THOUGH SHE WAS SEPARATED FROM HER HUSBAND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MCKIN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449280" y="762120"/>
            <a:ext cx="82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, UNTIL HIS ASSASSINATION IN 190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K  MARTIND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47680" y="762120"/>
            <a:ext cx="8648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GAME SHOWS "TIC-TAC-DOUGH", "GAMBIT", "HIGH ROLLERS", AND "DEB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YNTON  MARSA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UMPETER'S "BLOOD ON THE FIELDS" IS THE FIRST JAZZ COMPOSITION TO WIN THE PULITZER PRIZE FOR MUS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H.  M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36480" y="762120"/>
            <a:ext cx="7871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SHOWTIME'S "SHAMELESS" IS MARRIED TO FELICITY HUFF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99640" y="762120"/>
            <a:ext cx="7342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JIMMY CARTER'S VIC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LFGANG  MOZ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LIFIC CLASSICAL COMPOSER COMPOSED THE OPERAS "THE MARRIAGE OF FIGARO" AND "DON GIOVANN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MATTH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60520" y="762120"/>
            <a:ext cx="802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OSCAR MADISON IN THE FILMS "THE ODD COUPLE" AND ITS SEQU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MA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6800" y="762120"/>
            <a:ext cx="7610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, ALONG WITH VIRGINIA JOHNSON, PIONEERED RESEARCH INTO HUMAN SEXUAL RESPONSE AND DYS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8640" y="761760"/>
            <a:ext cx="7686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UTFIELDER FOR THE NEW YORK (AND THEN SAN FRANCISCO) GIANTS WON 12 CONSECUTIVE GOLD GLOVE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41520" y="762120"/>
            <a:ext cx="7860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ECHNICALLY FIRST LADY OF SOUTH AFRICA IN 1994, THOUGH SHE WAS SEPARATED FROM HER HUSBAND AT TH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74840" y="762120"/>
            <a:ext cx="8194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5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, UNTIL HIS ASSASSINATION IN 190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62080" y="762120"/>
            <a:ext cx="86198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GAME SHOWS "TIC-TAC-DOUGH", "GAMBIT", "HIGH ROLLERS", AND "DEB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57120" y="761760"/>
            <a:ext cx="842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UMPETER'S "BLOOD ON THE FIELDS" IS THE FIRST JAZZ COMPOSITION TO WIN THE PULITZER PRIZE FOR MUS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9200" y="761760"/>
            <a:ext cx="7905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R OF SHOWTIME'S "SHAMELESS" IS MARRIED TO FELICITY HUFF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16080" y="761760"/>
            <a:ext cx="8511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OLIFIC CLASSICAL COMPOSER COMPOSED THE OPERAS "THE MARRIAGE OF FIGARO" AND "DON GIOVANN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8-23T15:45:29Z</dcterms:modified>
  <cp:revision>380</cp:revision>
  <dc:subject/>
  <dc:title>Slide 1</dc:title>
</cp:coreProperties>
</file>