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57C7-25F8-4921-84F1-5030F72CF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E8F4-444B-447F-999C-65F2135CB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39D6-94D1-49A7-AB29-83BE00084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48EA-C1C5-4F08-8460-12A2E468D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A856-24D2-409E-A75A-E75FA0956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21EC-EFC8-43D5-93CD-B2440F605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79CB-1102-4B32-BB49-51785A526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6E50-9B08-45C4-848E-445128006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D2A6-C93F-4B09-A64A-95058B891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F9AA-E090-4468-8D9D-9B13AF6CF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6B16-E06D-4987-B241-A4B4F8BCD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FCA6-91FE-4E99-948A-0CB9E9BE1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B72A-373D-47B4-B329-1CE44613B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A60B-31CD-4399-A0E6-02365C540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9D07-5CBB-41CB-9179-A61378261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7BAA-3FC6-4E2F-A953-838C4E564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9F5F-DF05-4E19-BE7F-2550BA6B3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4E1B-290D-424D-80B4-6FB085D05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A005-024E-4324-A66B-DDAB0223D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11F7-58EA-49AF-9160-93685EFB7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FF92-B446-464A-89FC-00D3A4746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5738-71C8-49A7-A727-69E3C52AC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7D57-898E-4231-97B9-21AB573B0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OSCAR MADISON IN THE FILMS "THE ODD COUPLE" AND ITS SEQU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62040" y="762120"/>
            <a:ext cx="7819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, ALONG WITH VIRGINIA JOHNSON, PIONEERED RESEARCH INTO HUMAN SEXUAL RESPONSE AND DYSFUN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ER  MOND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39720" y="762120"/>
            <a:ext cx="7864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JIMMY CARTER'S VICE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E  M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89120" y="762120"/>
            <a:ext cx="7565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UTFIELDER FOR THE NEW YORK (AND THEN SAN FRANCISCO) GIANTS WON 12 CONSECUTIVE GOLD GLOVE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NIE  MAND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62040" y="762120"/>
            <a:ext cx="781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ECHNICALLY FIRST LADY OF SOUTH AFRICA IN 1994, THOUGH SHE WAS SEPARATED FROM HER HUSBAND AT TH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MCKIN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49280" y="762120"/>
            <a:ext cx="82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, UNTIL HIS ASSASSINATION IN 190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K  MARTIND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47680" y="762120"/>
            <a:ext cx="8648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GAME SHOWS "TIC-TAC-DOUGH", "GAMBIT", "HIGH ROLLERS", AND "DEB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YNTON  MARSA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18960" y="762120"/>
            <a:ext cx="850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UMPETER'S "BLOOD ON THE FIELDS" IS THE FIRST JAZZ COMPOSITION TO WIN THE PULITZER PRIZE FOR MUS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H.  M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36480" y="762120"/>
            <a:ext cx="7871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OF SHOWTIME'S "SHAMELESS" IS MARRIED TO FELICITY HUFF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99640" y="762120"/>
            <a:ext cx="7342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JIMMY CARTER'S VICE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LFGANG  MOZ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LIFIC CLASSICAL COMPOSER COMPOSED THE OPERAS "THE MARRIAGE OF FIGARO" AND "DON GIOVANN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ER  MATTH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60520" y="762120"/>
            <a:ext cx="802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OSCAR MADISON IN THE FILMS "THE ODD COUPLE" AND ITS SEQU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MA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66800" y="762120"/>
            <a:ext cx="7610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, ALONG WITH VIRGINIA JOHNSON, PIONEERED RESEARCH INTO HUMAN SEXUAL RESPONSE AND DYSFUN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28640" y="761760"/>
            <a:ext cx="7686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UTFIELDER FOR THE NEW YORK (AND THEN SAN FRANCISCO) GIANTS WON 12 CONSECUTIVE GOLD GLOVE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41520" y="762120"/>
            <a:ext cx="7860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ECHNICALLY FIRST LADY OF SOUTH AFRICA IN 1994, THOUGH SHE WAS SEPARATED FROM HER HUSBAND AT TH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4840" y="762120"/>
            <a:ext cx="819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, UNTIL HIS ASSASSINATION IN 190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62080" y="762120"/>
            <a:ext cx="8619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GAME SHOWS "TIC-TAC-DOUGH", "GAMBIT", "HIGH ROLLERS", AND "DEB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57120" y="761760"/>
            <a:ext cx="842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UMPETER'S "BLOOD ON THE FIELDS" IS THE FIRST JAZZ COMPOSITION TO WIN THE PULITZER PRIZE FOR MUS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19200" y="761760"/>
            <a:ext cx="7905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OF SHOWTIME'S "SHAMELESS" IS MARRIED TO FELICITY HUFF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16080" y="761760"/>
            <a:ext cx="8511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LIFIC CLASSICAL COMPOSER COMPOSED THE OPERAS "THE MARRIAGE OF FIGARO" AND "DON GIOVANN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8-23T15:45:29Z</dcterms:modified>
  <cp:revision>380</cp:revision>
  <dc:subject/>
  <dc:title>Slide 1</dc:title>
</cp:coreProperties>
</file>