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CD95-1E7D-4344-95EC-6919608A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55BA-94A6-4B9A-B2FA-1EDDE597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9D43-4C00-4276-9810-800C48F1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2EE-D4BB-40F5-B5E6-17CA32C4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12A0-7431-42F2-B8CB-00B25BDE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2CB-3DC2-49DB-BE56-71F614D8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575-7545-47C6-9CB9-2CE8227C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3EEE-AF81-434E-95C8-C2E042A6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A902-4DDB-4B96-BB21-E21D9DC2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A36-2938-4885-AC4B-3E9B3083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159-D141-4996-8865-19138802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2F2-1ED4-4B6E-A545-1C2D5941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8AA-6661-4F98-976F-CC79C473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A52-FB2F-440D-8450-E8011BF0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893-61A8-460C-8B33-AD61E783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D72-BB9E-49A0-AB04-B5C284EF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0A4-5D0D-49FA-885C-E310BBE6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39CA-8A31-4340-A19D-7EBEFC23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A17B-ABFF-4384-B0CA-68D2117C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CFC-E61A-44B5-B584-FEB7163C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2ECD-C42F-4AAA-86A9-A43B6AEE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4DB-84F5-499E-8BE7-2FCBC507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356-0666-42EE-B268-FBEE3F4E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CBB4-9F34-4641-A3D6-6448CBCD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HA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WON          AN OSCAR FOR BEST DOCUMENTARY FOR "BOWLING FOR COLUMB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EAF PERFORMER TO HAVE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HALL  M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04760" y="762120"/>
            <a:ext cx="7132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RAP STAR EMIN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360" y="762120"/>
            <a:ext cx="896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NTLEMEN PREFER BLONDES", "MONKEY BUSINESS", AND     "THE SEVEN YEAR 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  FOR BEST ACTOR FOR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71560" y="762120"/>
            <a:ext cx="739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PLAYED THE MATRIARCH ON THE TV SERIES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47800" y="762120"/>
            <a:ext cx="744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THE FILM  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GOT OSCAR NOMINATIONS FOR "CAN YOU EVER FORGIVE ME?" AND "BRIDESMA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M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SHREK IN 4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HAN  MARK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HA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802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WON          AN OSCAR FOR BEST DOCUMENTARY FOR "BOWLING FOR COLUMB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E  MAT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EAF PERFORMER TO HAVE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9760" y="762120"/>
            <a:ext cx="686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RAP STAR EMIN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5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NTLEMEN PREFER BLONDES", "MONKEY BUSINESS", AND     "THE SEVEN YEAR 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44720" y="762120"/>
            <a:ext cx="705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  FOR BEST ACTOR FOR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2320" y="762120"/>
            <a:ext cx="729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PLAYED THE MATRIARCH ON THE TV SERIES "THIS IS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THE FILM  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GOT OSCAR NOMINATIONS FOR "CAN YOU EVER FORGIVE ME?" AND "BRIDESMAI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SHREK IN 4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02T23:25:30Z</dcterms:modified>
  <cp:revision>386</cp:revision>
  <dc:subject/>
  <dc:title>Slide 1</dc:title>
</cp:coreProperties>
</file>