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E7F0-7C31-4B18-B5D3-8A35613D0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1873-8C48-47E0-B3B0-C97C158AF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4FFA-4400-4441-A1B0-2E6F2892F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34BE-CA0F-4BBB-BB07-B363AB610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D2E2-4E2D-4D03-A673-1FCF00D55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9A9F-64A0-4D3D-B910-767D83471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D164-AF9B-42CA-A014-8B0B331BA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EF94-A07E-43B0-91EA-D03DA3EC2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6C26-1B79-402F-8711-356BFD2AF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E8ED-592B-45C8-B049-79BAFF63D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5890-C9D4-458A-B569-A6408B237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F713-AB8F-4105-AEF3-F3AAF004B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A048-0B8B-4016-B59F-D7212A1D2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09F6-D644-4BF0-8745-D164C2CE1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8D10-610B-47C1-A94E-727DF4ED3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2951-2664-42AF-A046-CB3A293F4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FF35-D4C7-4D4F-A970-57DF91099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908A-F262-4B2C-AEAB-6DC903F6C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BC81-4438-4A1D-BEED-302DCC4D9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37F1-723D-4F2F-9237-161A0C8AC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DD93-FBFC-4289-9971-E7F4B6A64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AB40-F843-4A47-80A5-532FD5E56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C44D-72AB-4CEE-9522-D3E2C0EB0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F01A-C2D3-4856-A7D7-921DF23C2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16080" y="761760"/>
            <a:ext cx="8511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PRINCE HAR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761760"/>
            <a:ext cx="8207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MAKER WON          AN OSCAR FOR BEST DOCUMENTARY FOR "BOWLING FOR COLUMB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89120" y="762120"/>
            <a:ext cx="756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DEAF PERFORMER TO HAVE WON AN ACADEMY A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SHALL  MA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004760" y="762120"/>
            <a:ext cx="7132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RAP STAR EMIN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LYN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0360" y="762120"/>
            <a:ext cx="896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GENTLEMEN PREFER BLONDES", "MONKEY BUSINESS", AND     "THE SEVEN YEAR IT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HEW  MCCONAUG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131840" y="762120"/>
            <a:ext cx="688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  FOR BEST ACTOR FOR "DALLAS BUYERS CLU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DY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71560" y="762120"/>
            <a:ext cx="7399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SINGER PLAYED THE MATRIARCH ON THE TV SERIES "THIS IS 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COLM  MCD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47800" y="762120"/>
            <a:ext cx="7448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ENTRAL CHARACTER IN THE FILM   "A CLOCKWORK ORAN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SSA  MCCA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17400" y="762120"/>
            <a:ext cx="7909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GOT OSCAR NOMINATIONS FOR "CAN YOU EVER FORGIVE ME?" AND "BRIDESMAI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E  M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36480" y="762120"/>
            <a:ext cx="7871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VIDED THE VOICE FOR SHREK IN 4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GHAN  MARK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PRINCE HAR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60520" y="762120"/>
            <a:ext cx="802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MAKER WON          AN OSCAR FOR BEST DOCUMENTARY FOR "BOWLING FOR COLUMB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EE  MAT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839880" y="762120"/>
            <a:ext cx="7462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DEAF PERFORMER TO HAVE WON AN ACADEMY AW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39760" y="762120"/>
            <a:ext cx="686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RAP STAR EMIN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9320" y="762120"/>
            <a:ext cx="90453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GENTLEMEN PREFER BLONDES", "MONKEY BUSINESS", AND     "THE SEVEN YEAR IT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44720" y="762120"/>
            <a:ext cx="705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  FOR BEST ACTOR FOR "DALLAS BUYERS CLU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22320" y="762120"/>
            <a:ext cx="729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SINGER PLAYED THE MATRIARCH ON THE TV SERIES "THIS IS 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ENTRAL CHARACTER IN THE FILM   "A CLOCKWORK ORAN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12800" y="761760"/>
            <a:ext cx="7718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GOT OSCAR NOMINATIONS FOR "CAN YOU EVER FORGIVE ME?" AND "BRIDESMAI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9200" y="761760"/>
            <a:ext cx="7905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VIDED THE VOICE FOR SHREK IN 4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9-02T23:25:30Z</dcterms:modified>
  <cp:revision>386</cp:revision>
  <dc:subject/>
  <dc:title>Slide 1</dc:title>
</cp:coreProperties>
</file>