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03F-CB6B-49F7-A1EE-6A65013FD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5818-D6EF-4EB3-AD17-CA5C305C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4BB-9288-44B9-BA72-10A2F6E4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F76-15C6-4C83-B579-95A0C358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A31-E412-4A93-A80F-4691FCC6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857E-01B6-46B6-A5F5-FAE647A2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9ED3-305F-4108-BD01-8600D506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EF67-BA9E-497F-B34D-4BB85427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303-A43C-4F5E-9F09-CD666E74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18F6-CD6B-41C8-B8D2-0630E8E1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4718-3F84-4A7A-8517-B1D454EA5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22E8-3FDC-4DE1-B58F-E9362CC64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A37B-8E7A-41CB-8FFF-64426AA8F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74BD-5D8E-486B-9518-A858C7D5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8FA7-5E89-45DB-BA73-FE689EAEC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763-CEDA-42ED-8C6D-2CC337F3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0CCB-B261-408A-922B-3FE152890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DBB0-8B3B-4615-972E-3E0E36A4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0B20-FA1A-4D76-BA24-C053AAC9E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DA1-CB63-4FDB-95B3-3A53EEDCB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75F6-9B9D-4CA0-9EBB-DB1B8BE03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27EA-D265-429B-8E20-33A77B36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EAE8-3E16-4557-87FA-F5D672FC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2BC2-A004-4F93-9649-8B8A78E8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39720" y="761760"/>
            <a:ext cx="786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FRANCE 1969-1974, AFTER CHARLES DE GAU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19120" y="761760"/>
            <a:ext cx="8105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FT THE BYRDS WITH CHRIS HILLMAN TO FORM THE FLYING BURRITO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69920" y="762120"/>
            <a:ext cx="880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HONDO", "YOU'RE A BIG BOY NOW", AND "PETE 'N' TILLIE", AND WON BEST ACTRESS FOR "THE TRIP TO BOUN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YNETH  PALT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76360" y="762120"/>
            <a:ext cx="798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 ACTRESS OWNS THE LIFESTYLE COMPANY GO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74840" y="762120"/>
            <a:ext cx="8261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O KILL A MOCKINGBI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EPP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57080" y="762120"/>
            <a:ext cx="76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. JOHN "HANNIBAL" SMITH, THE LEADER OF THE "A-T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ACOMO  PUCC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5120" y="762120"/>
            <a:ext cx="829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OPERAS "LA BOHÈME", "TOSCA", AND "MADAMA BUTTER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ATA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85880" y="762120"/>
            <a:ext cx="757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NEW YORK 1995-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PAY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NT GUARD HOLDS THE SEATTLE SUPERSONICS RECORDS FOR POINTS, ASSISTS, AND STE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A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41360" y="762120"/>
            <a:ext cx="826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DID GEORGE C. SCOTT WIN AN OSCAR FOR PORTRAYING IN A 1970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S  POMPID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82480" y="762120"/>
            <a:ext cx="7979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FRANCE 1969-1974, AFTER CHARLES DE GAU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M  PAR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12640" y="762120"/>
            <a:ext cx="811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FT THE BYRDS WITH CHRIS HILLMAN TO FORM THE FLYING BURRITO BR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INE 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14480" y="762120"/>
            <a:ext cx="8915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HONDO", "YOU'RE A BIG BOY NOW", AND "PETE 'N' TILLIE", AND WON BEST ACTRESS FOR "THE TRIP TO BOUN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 ACTRESS OWNS THE LIFESTYLE COMPANY GO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5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O KILL A MOCKING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. JOHN "HANNIBAL" SMITH, THE LEADER OF THE "A-T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8320" y="762120"/>
            <a:ext cx="7947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OPERAS "LA BOHÈME", "TOSCA", AND "MADAMA BUTTER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9400" y="761760"/>
            <a:ext cx="758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NEW YORK 1995-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2800" y="761760"/>
            <a:ext cx="825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NT GUARD HOLDS THE SEATTLE SUPERSONICS RECORDS FOR POINTS, ASSISTS, AND STE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DID GEORGE C. SCOTT WIN AN OSCAR FOR PORTRAYING IN A 1970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9-17T12:17:37Z</dcterms:modified>
  <cp:revision>379</cp:revision>
  <dc:subject/>
  <dc:title>Slide 1</dc:title>
</cp:coreProperties>
</file>