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76CC-AC97-46E1-AE00-04D2E35B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382-898C-4D1C-8EF6-9A3932D38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78A1-95DF-43BE-9A28-0D572974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6A7C-921F-47D6-A18F-282B869C9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7562-083F-4150-9A8C-96B26431C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2B8D-6384-48AD-879B-5F795F832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BE21-988A-4C2B-A461-454A8DEE5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C48E-B67E-491B-B348-401ADBC0C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1281-F834-4EE6-BBA8-D987F041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B496-CF7C-4A84-A783-632530F1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8DCD-0763-4DA2-97E6-7107CEB77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D2D8-B0EB-4CA0-895A-9CAADCB3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2181-59A9-4105-BC00-4259C3370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332-B9AE-4B5B-9227-1F50EF49D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6FEF-9E3F-4458-9AEF-AAA8B083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0EF9-172B-437E-9275-46EBE48F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4D0A-64E0-44BB-890F-BD804904E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BF76-99DF-41D3-BE7A-BCCD6010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4DFD-1636-4B2E-B76C-1A20AC42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FF76-39FC-4B70-BADB-30AC78063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5928-5A9E-4776-8DD1-29BF030F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DC71-8F1E-48E1-9FB1-A62D7CC4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D5CB-4EBD-4E0F-A6B1-4EE40A918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3B61-7601-40B6-B302-9C4D7DB0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39720" y="761760"/>
            <a:ext cx="786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FRANCE 1969-1974, AFTER CHARLES DE GAUL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19120" y="761760"/>
            <a:ext cx="8105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FT THE BYRDS WITH CHRIS HILLMAN TO FORM THE FLYING BURRITO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69920" y="762120"/>
            <a:ext cx="880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HONDO", "YOU'RE A BIG BOY NOW", AND "PETE 'N' TILLIE", AND WON BEST ACTRESS FOR "THE TRIP TO BOUN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YNETH  PALT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6360" y="762120"/>
            <a:ext cx="798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 ACTRESS OWNS THE LIFESTYLE COMPANY GO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74840" y="762120"/>
            <a:ext cx="8261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O KILL A MOCKING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EPP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757080" y="762120"/>
            <a:ext cx="76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. JOHN "HANNIBAL" SMITH, THE LEADER OF THE "A-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ACOMO  PUCC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65120" y="762120"/>
            <a:ext cx="829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PERAS "LA BOHÈME", "TOSCA", AND "MADAMA BUTTER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85880" y="762120"/>
            <a:ext cx="757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95-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PAY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NT GUARD HOLDS THE SEATTLE SUPERSONICS RECORDS FOR POINTS, ASSISTS, AND STE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A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41360" y="762120"/>
            <a:ext cx="826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DID GEORGE C. SCOTT WIN AN OSCAR FOR PORTRAYING IN A 1970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S  POMPID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82480" y="762120"/>
            <a:ext cx="797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FRANCE 1969-1974, AFTER CHARLES DE GAUL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M  PAR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12640" y="762120"/>
            <a:ext cx="811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FT THE BYRDS WITH CHRIS HILLMAN TO FORM THE FLYING BURRITO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INE 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14480" y="762120"/>
            <a:ext cx="8915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OSCAR-NOMINATED FOR "HONDO", "YOU'RE A BIG BOY NOW", AND "PETE 'N' TILLIE", AND WON BEST ACTRESS FOR "THE TRIP TO BOUN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7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WINNING  ACTRESS OWNS THE LIFESTYLE COMPANY GO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O KILL A MOCKING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. JOHN "HANNIBAL" SMITH, THE LEADER OF THE "A-T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PERAS "LA BOHÈME", "TOSCA", AND "MADAMA BUTTERF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79400" y="761760"/>
            <a:ext cx="7585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NEW YORK 1995-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800" y="761760"/>
            <a:ext cx="825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NT GUARD HOLDS THE SEATTLE SUPERSONICS RECORDS FOR POINTS, ASSISTS, AND STE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NERAL DID GEORGE C. SCOTT WIN AN OSCAR FOR PORTRAYING IN A 1970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9-17T12:17:37Z</dcterms:modified>
  <cp:revision>379</cp:revision>
  <dc:subject/>
  <dc:title>Slide 1</dc:title>
</cp:coreProperties>
</file>