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6F8C-C54F-4E10-8200-7B9224241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44E4-34AB-4E45-B58B-38B564865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8E0A-9C29-4B5B-A3EE-A4FE8235D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CF04-96CD-49FE-BCFA-B90B55292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052C-00D3-4A24-AFB9-FD5298DF1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63E5-CD86-4C10-90BD-07DD4B5EC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BEF9-D7F3-4D28-9C15-E891DA7D9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CD94-C65D-4FF6-9F9B-83AC2CD28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B9CE-41EB-446D-B1E7-7A97246F8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1616-3304-45A9-B5B6-1BC0422C6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E54E-4969-44C9-9D96-D0C5E900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A1E0-4976-472B-B9CC-DA48A98C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2044-4728-44BB-B9BC-2483B052B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6542-628E-40EC-B3D9-01980962D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5817-2236-419B-AF49-715EC41B4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E0A4-9356-4FE8-96CB-10C859EE9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D7AC-926A-4348-A97F-3BBEBB907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3CE4-C9DB-4175-8509-E16A3C80D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49AD-C466-45BC-BF05-DD511C3EA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7EFA-2975-4818-8E6F-BDECCF05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A336-92CF-4EA1-9974-054749B41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75BC-304D-4C58-BDCA-8A17C8A72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F388-892D-4608-8C5C-7E97C27C1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WROTE 31 FANTASY NOVELS, INCLUDING 23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ERS, ABOUT THE SHANNARA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RESS APPEARED IN "PATRIOT GAMES", "HOCUS POCUS", "MONKEY TROUBLE", AND "AMERICAN BEA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BU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AL KILLER ESCAPED FROM PRISON IN UTAH TWICE IN 1977 ONLY TO BE CAPTURED AND EXECUTED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429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AS WON 6 SUPER BOWLS, THE MOST OF ANY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BL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24080" y="762120"/>
            <a:ext cx="6495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E MINISTER OF THE UK 1997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RA 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MODEL WAS EXECUTIVE PRODUCER AND PRESENTER OF THE SHOW "AMERICA'S NEXT TOP MODEL" FOR 2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CHO  BRA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9560" y="762120"/>
            <a:ext cx="7724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STRONOMER WORE A PROSTHETIC BRASS NOSE AFTER LOSING HIS NOSE IN A DUEL IN 156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O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95560" y="762120"/>
            <a:ext cx="675288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OWARD CUNNINGHAM ON "HAPPY D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BRAD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62080" y="762120"/>
            <a:ext cx="861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PITTSBURGH STEELERS WHEN THEY WON SUPER BOWLS IN '74, '75, '78, AND '7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AL KILLER ESCAPED FROM PRISON IN UTAH TWICE IN 1977 ONLY TO BE CAPTURED AND EXECUTED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OK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NCHOR OF "NBC NIGHTLY NEWS" FROM 1982 TO 200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48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WROTE 31 FANTASY NOVELS, INCLUDING 23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ERS, ABOUT THE SHANNARA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A  BI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92240" y="762120"/>
            <a:ext cx="8759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RESS APPEARED IN "PATRIOT GAMES", "HOCUS POCUS", "MONKEY TROUBLE", AND "AMERICAN BEA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AS WON 6 SUPER BOWLS, THE MOST OF ANY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81240" y="762120"/>
            <a:ext cx="658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E MINISTER OF THE UK 1997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MODEL WAS EXECUTIVE PRODUCER AND PRESENTER OF THE SHOW "AMERICA'S NEXT TOP MODEL" FOR 22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STRONOMER WORE A PROSTHETIC BRASS NOSE AFTER LOSING HIS NOSE IN A DUEL IN 156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71440" y="761760"/>
            <a:ext cx="680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OWARD CUNNINGHAM ON "HAPPY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PITTSBURGH STEELERS WHEN THEY WON SUPER BOWLS IN '74, '75, '78, AND '7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4560" y="761760"/>
            <a:ext cx="6914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NCHOR OF "NBC NIGHTLY NEWS" FROM 1982 TO 200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2-09-20T18:10:55Z</dcterms:modified>
  <cp:revision>356</cp:revision>
  <dc:subject/>
  <dc:title>Slide 1</dc:title>
</cp:coreProperties>
</file>