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EDAA-AEF1-42A7-BFE3-1C1D1F697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A52A-366F-4818-AECD-12B6050F5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CFF3-BFF6-4FF2-9410-A36CA95B6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11FA-6FFB-406A-AD0D-13D894CB3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7577-8249-4BAD-8FAB-8FF6E3F35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3950-DF87-413A-88A7-1E8951A1C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3EAE-977B-4FCE-8A18-F6FC81FD9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F68D-481F-4038-8DD1-AFD6BF031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98E4-4F31-4724-B1FF-081818187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BB18-A705-48AF-982C-C928ED178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5F37-26F9-4C8E-B926-2D3735746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5760-10CE-49EE-9ACD-C87868E94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D4DB-285E-4B84-A077-E0298D729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57FD-F0E0-41E7-B26B-54641A8C8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25DD-9C83-4D2C-B8B9-B1ACCBEB1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8703-7243-45E8-8DC1-11123CDB6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D94E-C232-4F38-99AA-04C3FCD60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FC21-621E-4B6E-B22D-07AB95540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320B-A0D4-4CA5-A67B-52A420F78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D958-21EC-4EC3-B09E-922DD0A9D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0872-5ACA-42ED-B246-0CDAAB473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8FEE-682E-44D5-949F-EAD8EE9F8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3099-C850-4AF6-B0E0-ADF2FCDD6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WROTE 31 FANTASY NOVELS, INCLUDING 23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ERS, ABOUT THE SHANNARA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09520" y="762120"/>
            <a:ext cx="872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RESS APPEARED IN "PATRIOT GAMES", "HOCUS POCUS", "MONKEY TROUBLE", AND "AMERICAN BEAU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769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BU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AL KILLER ESCAPED FROM PRISON IN UTAH TWICE IN 1977 ONLY TO BE CAPTURED AND EXECUTED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57160" y="762120"/>
            <a:ext cx="7429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HAS WON 6 SUPER BOWLS, THE MOST OF ANY PL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BL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24080" y="762120"/>
            <a:ext cx="6495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IME MINISTER OF THE UK 1997-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RA  B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MODEL WAS EXECUTIVE PRODUCER AND PRESENTER OF THE SHOW "AMERICA'S NEXT TOP MODEL" FOR 22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CHO  BRA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9560" y="762120"/>
            <a:ext cx="7724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ASTRONOMER WORE A PROSTHETIC BRASS NOSE AFTER LOSING HIS NOSE IN A DUEL IN 156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O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95560" y="762120"/>
            <a:ext cx="675288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OWARD CUNNINGHAM ON "HAPPY DA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 BRADSH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62080" y="762120"/>
            <a:ext cx="8619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OF THE PITTSBURGH STEELERS WHEN THEY WON SUPER BOWLS IN '74, '75, '78, AND '7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AL KILLER ESCAPED FROM PRISON IN UTAH TWICE IN 1977 ONLY TO BE CAPTURED AND EXECUTED IN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OK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ANCHOR OF "NBC NIGHTLY NEWS" FROM 1982 TO 200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8120" y="762120"/>
            <a:ext cx="8248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WROTE 31 FANTASY NOVELS, INCLUDING 23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ERS, ABOUT THE SHANNARA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RA  BI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92240" y="762120"/>
            <a:ext cx="8759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RESS APPEARED IN "PATRIOT GAMES", "HOCUS POCUS", "MONKEY TROUBLE", AND "AMERICAN BEAU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HAS WON 6 SUPER BOWLS, THE MOST OF ANY P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81240" y="762120"/>
            <a:ext cx="658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IME MINISTER OF THE UK 1997-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14280" y="762120"/>
            <a:ext cx="8515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MODEL WAS EXECUTIVE PRODUCER AND PRESENTER OF THE SHOW "AMERICA'S NEXT TOP MODEL" FOR 22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ASTRONOMER WORE A PROSTHETIC BRASS NOSE AFTER LOSING HIS NOSE IN A DUEL IN 156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71440" y="761760"/>
            <a:ext cx="680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OWARD CUNNINGHAM ON "HAPPY D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OF THE PITTSBURGH STEELERS WHEN THEY WON SUPER BOWLS IN '74, '75, '78, AND '7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14560" y="761760"/>
            <a:ext cx="6914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ANCHOR OF "NBC NIGHTLY NEWS" FROM 1982 TO 200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2-09-20T18:10:55Z</dcterms:modified>
  <cp:revision>356</cp:revision>
  <dc:subject/>
  <dc:title>Slide 1</dc:title>
</cp:coreProperties>
</file>