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3E92B-2668-4DE4-A4E5-525B0305D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7BF7-243C-4C56-A1E4-8EB894228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3971-B9B8-4B58-ABD5-64033E06F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1A0F-66F2-4272-8057-E2D280EB2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CB9B-F545-43AF-9047-7B964EE31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42A4-7623-4738-860F-0F4BD5433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3BC2-1C28-45F2-93A6-0D85EBE1D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0C4C-09E0-46BA-9D91-B3E7DDD5A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0559-9D9F-43A6-AB06-AF1F023E3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81CE-2D81-4B71-BA75-FAC535192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37CA-0C88-44BB-8FCD-D0695AD57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0CA8-2298-40B9-B0A9-05A474956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E41E-2DA8-48DF-B12F-05E9A84CF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0401-B4FB-4665-88C2-B04F1D869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DA53-A834-4D8C-B023-4DDBEA111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5DF5-54BE-4382-828A-1E03B9740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E6F0-C410-4D86-8B97-57A5D28ED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4B35-66A7-41BA-9506-FF22ADF8A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E6DD-4513-4EFB-A875-1796FF92D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44E1-1C31-43E4-8512-CA13467B5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06FB-35CB-4C13-8E76-B5E2B882A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3C41-BCF3-4DEE-A44D-BC11A43A1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6AC1-FB75-45AB-A469-957E5265A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4157-7496-4AE5-B9FA-EE8135564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32920" y="76176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PEE-WEE HERMAN" IN 2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76120" y="761760"/>
            <a:ext cx="8591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QUEEN OF LATIN POP" HAS HAD FOUR #1 ALBUMS, INCLUDING "ANANDA" AND "GRAN CITY PO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AS A PULITZER PRIZE FINALIST FOR HIS NOVELS "THE GHOST WRITER", "OPERATION SHYLOCK", AND "SABBATH'S THEATER" BEFORE WINNING FOR "AMERICAN PASTORAL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RY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33240" y="762120"/>
            <a:ext cx="7877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MITT ROMNEY'S VICE PRESIDENTIAL RUNNING 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  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53880" y="762120"/>
            <a:ext cx="84362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NCINNATI REDS PLAYER AND COACH IS BANNED FROM THE BASEBALL HALL OF FAME FOR GAMB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ROBER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46240" y="762120"/>
            <a:ext cx="865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LEVANGELIST FOUNDED THE CHRISTIAN BROADCASTING NETWORK AND THE CHRISTIAN COALI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IP 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09560" y="762120"/>
            <a:ext cx="7724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FOR THE SAN DIEGO CHARGERS 2006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REV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39560" y="762120"/>
            <a:ext cx="8264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MIDNIGHT RIDE TO ALERT THE AMERICAN MILITIA WAS DRAMATIZED IN A FAMOUS POEM BY HENRY WADSWORTH LONGFELL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RU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11240" y="762120"/>
            <a:ext cx="7120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ANT-MAN IN 4 MARVEL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ROBER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01760" y="762120"/>
            <a:ext cx="834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UTSPOKEN REPUBLICAN PATRIARCH ON THE SERIES "DUCK DYNAS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RUEB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PEE-WEE HERMAN" IN 2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INA  RUB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60520" y="762120"/>
            <a:ext cx="7669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QUEEN OF LATIN POP" HAS HAD FOUR #1 ALBUMS, INCLUDING "ANANDA" AND "GRAN CITY PO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IP  R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AS A PULITZER PRIZE FINALIST FOR HIS NOVELS "THE GHOST WRITER", "OPERATION SHYLOCK", AND "SABBATH'S THEATER" BEFORE WINNING FOR "AMERICAN PASTORAL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8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MITT ROMNEY'S VICE PRESIDENTIAL RUNNING M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85760" y="761760"/>
            <a:ext cx="8772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NCINNATI REDS PLAYER AND COACH IS BANNED FROM THE BASEBALL HALL OF FAME FOR GAMBL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44440" y="762120"/>
            <a:ext cx="865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LEVANGELIST FOUNDED THE CHRISTIAN BROADCASTING NETWORK AND THE CHRISTIAN COALI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96760" y="762120"/>
            <a:ext cx="735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FOR THE SAN DIEGO CHARGERS 2006-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MIDNIGHT RIDE TO ALERT THE AMERICAN MILITIA WAS DRAMATIZED IN A FAMOUS POEM BY HENRY WADSWORTH LONGFELL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01720" y="761760"/>
            <a:ext cx="7540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ANT-MAN IN 4 MARVEL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2680" y="761760"/>
            <a:ext cx="8378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UTSPOKEN REPUBLICAN PATRIARCH ON THE SERIES "DUCK DYNAS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9-23T13:30:07Z</dcterms:modified>
  <cp:revision>399</cp:revision>
  <dc:subject/>
  <dc:title>Slide 1</dc:title>
</cp:coreProperties>
</file>