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AE06-87F5-43D2-9DEE-7A94A0A32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0EEC-D6E6-4E69-9B7B-C43C4BC07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3A41-0D74-4D85-AA9D-80BC97E26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26C5-D7CD-406A-8F8D-FA5EB2A6A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7FDA-0101-4420-9867-B250D020B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23E2-9709-47F5-8514-FD209E199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1019-C134-475E-A601-1A73D2A43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62B8-A1BD-41BD-A296-ADAFC6002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0535-3696-4D06-801F-6DEB5B770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E830-5A75-4C69-BAAB-CC8882375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EE95-884F-4EA9-998E-CAB3E7AB8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42C3-8A33-42E5-8A2A-B02F3646C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E8DE-DFCC-4983-B92F-CEBB46746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788E-814A-47BA-A109-9D8C31376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E539-B0C0-4540-B134-E8C87470A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1977-C52C-4B87-81D1-F0ED1C978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7D0A-9A9E-4510-8CBA-FAD04E3C2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CC5A-DD85-4164-84DC-A00E75138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4A73-C474-4BA9-A996-7FE305B76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4A88-56D1-4BD9-AA04-5751291D8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4CD5-632D-4149-A7A5-2C7E2B56D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DA15-6E05-4949-8EC9-5B2B0218F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3E31-33EA-4E13-A3AC-E3A6234AB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A4FB-FF41-4C6B-AFF8-9E91FB38A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32920" y="761760"/>
            <a:ext cx="8675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"PEE-WEE HERMAN" IN 2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76120" y="761760"/>
            <a:ext cx="8591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QUEEN OF LATIN POP" HAS HAD FOUR #1 ALBUMS, INCLUDING "ANANDA" AND "GRAN CITY POP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318960" y="762120"/>
            <a:ext cx="850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WAS A PULITZER PRIZE FINALIST FOR HIS NOVELS "THE GHOST WRITER", "OPERATION SHYLOCK", AND "SABBATH'S THEATER" BEFORE WINNING FOR "AMERICAN PASTORAL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RY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633240" y="762120"/>
            <a:ext cx="7877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MITT ROMNEY'S VICE PRESIDENTIAL RUNNING M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E  R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353880" y="762120"/>
            <a:ext cx="84362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NCINNATI REDS PLAYER AND COACH IS BANNED FROM THE BASEBALL HALL OF FAME FOR GAMBL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  ROBERT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246240" y="762120"/>
            <a:ext cx="865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LEVANGELIST FOUNDED THE CHRISTIAN BROADCASTING NETWORK AND THE CHRISTIAN COALI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IP  RI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709560" y="762120"/>
            <a:ext cx="7724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TARTING QUARTERBACK FOR THE SAN DIEGO CHARGERS 2006-201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REV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439560" y="762120"/>
            <a:ext cx="8264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MIDNIGHT RIDE TO ALERT THE AMERICAN MILITIA WAS DRAMATIZED IN A FAMOUS POEM BY HENRY WADSWORTH LONGFELL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RU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011240" y="762120"/>
            <a:ext cx="7120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PLAYED ANT-MAN IN 4 MARVEL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  ROBERT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401760" y="762120"/>
            <a:ext cx="8340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UTSPOKEN REPUBLICAN PATRIARCH ON THE SERIES "DUCK DYNAS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RUEB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"PEE-WEE HERMAN" IN 2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INA  RUB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560520" y="762120"/>
            <a:ext cx="76690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QUEEN OF LATIN POP" HAS HAD FOUR #1 ALBUMS, INCLUDING "ANANDA" AND "GRAN CITY PO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IP  RO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47640" y="762120"/>
            <a:ext cx="784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WAS A PULITZER PRIZE FINALIST FOR HIS NOVELS "THE GHOST WRITER", "OPERATION SHYLOCK", AND "SABBATH'S THEATER" BEFORE WINNING FOR "AMERICAN PASTORAL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27120" y="762120"/>
            <a:ext cx="7888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MITT ROMNEY'S VICE PRESIDENTIAL RUNNING M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85760" y="761760"/>
            <a:ext cx="8772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NCINNATI REDS PLAYER AND COACH IS BANNED FROM THE BASEBALL HALL OF FAME FOR GAMBL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244440" y="762120"/>
            <a:ext cx="8655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LEVANGELIST FOUNDED THE CHRISTIAN BROADCASTING NETWORK AND THE CHRISTIAN COALI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96760" y="762120"/>
            <a:ext cx="7350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TARTING QUARTERBACK FOR THE SAN DIEGO CHARGERS 2006-201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MIDNIGHT RIDE TO ALERT THE AMERICAN MILITIA WAS DRAMATIZED IN A FAMOUS POEM BY HENRY WADSWORTH LONGFELL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01720" y="761760"/>
            <a:ext cx="7540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PLAYED ANT-MAN IN 4 MARVEL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2680" y="761760"/>
            <a:ext cx="8378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UTSPOKEN REPUBLICAN PATRIARCH ON THE SERIES "DUCK DYNAS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2-09-23T13:30:07Z</dcterms:modified>
  <cp:revision>399</cp:revision>
  <dc:subject/>
  <dc:title>Slide 1</dc:title>
</cp:coreProperties>
</file>