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3860-6F91-4002-8CA6-6BABE1BF9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C73C-34EA-4679-A89A-98258BF42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A39B-3742-43B1-80BC-26B078FC9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52B0-8BBE-40DA-BFD9-7EF82ECE2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828F-3004-466B-B43A-B421CE83C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1AB2-A29E-4E64-977D-30A5D00FB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DBE7-7C6E-42CF-BB57-07AC3E17B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7D651-D3B4-4EDA-A0C9-490F190AD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ADE0-2A1F-4665-A56B-A7032A334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8A5D9-3016-40F4-AFF2-474DB056B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369B-D1F4-4340-A98F-74E2A32EC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D03D-44B1-44A4-B46D-0CCB12855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655E-2007-4F6C-9557-10D411AD3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FBE2-DBA1-4A6F-91A4-6298076F0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C084-8313-4BB5-872F-5A687F2CF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435B-9781-4638-85E2-7E35CD039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8268-79BE-4382-B8FB-109433700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43D5-D41F-48F8-9B7F-4B421B1D7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44BE-669E-4337-BC1B-7733F222F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06A9-3814-4595-A817-F780DACCB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C907-1709-48D7-B295-267C3AF0B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BAE6C-500B-4825-8861-6035485C5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3D44-E557-4814-8DF2-7EAC1C03F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25EE-C3DD-4EAC-9F2C-C284D9F13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32920" y="761760"/>
            <a:ext cx="8675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OTH THE PENGUIN ON THE ORIGINAL "BATMAN" SERIES AND ROCKY'S COACH IN 4 "ROCKY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01720" y="761760"/>
            <a:ext cx="7539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OPACABANA (AT THE COPA)", "MANDY",   "I WRITE THE SONGS", AND "COULD IT BE MAGI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18960" y="762120"/>
            <a:ext cx="850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KNOWN AS "THE   FATHER OF BLUEGRASS"?          (INDEED, THE GENRE ITSELF WAS NAMED AFTER HIS GROUP,   THE "BLUE GRASS BOYS"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MU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33240" y="762120"/>
            <a:ext cx="7877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TRIPES" AND "GROUNDHOG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TE  MID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351000" y="762120"/>
            <a:ext cx="8442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 ROSE", "THE WIND BENEATH MY WINGS", AND "DO YOU WANNA DA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ITO  MUSSOL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04800" y="762120"/>
            <a:ext cx="7934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ITALY 1919-194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NIE  MAD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79600" y="762120"/>
            <a:ext cx="798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EADED GUILTY IN 2009 TO OPERATING THE LARGEST PONZI SCHEME IN HISTORY, AND WAS SENTENCED TO  150 YEARS IN PRI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MAR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39560" y="762120"/>
            <a:ext cx="8264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GREATEST HITS ALBUM "LEGEND", RELEASED 3 YEARS AFTER HIS DEATH, BECAME THE BEST-SELLING REGGAE ALBUM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Y  MAR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00040" y="762120"/>
            <a:ext cx="8143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MANAGER OF THE NY YANKEES 5 TIMES, BEING HIRED AND FIRED BY OWNER GEORGE STEINBRENNER EVERY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BY  MCFERR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574560" y="762120"/>
            <a:ext cx="7994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SONG "DON'T WORRY, BE HAPPY" WON "SONG OF THE YEAR" AT THE 1989 GRAMMY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GESS  MERED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OTH THE PENGUIN ON THE ORIGINAL "BATMAN" SERIES AND ROCKY'S COACH IN 4 "ROCKY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RY  MANI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60520" y="762120"/>
            <a:ext cx="7669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OPACABANA (AT THE COPA)", "MANDY",   "I WRITE THE SONGS", AND "COULD IT BE MAGI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MONR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68200" y="762120"/>
            <a:ext cx="8607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KNOWN AS "THE   FATHER OF BLUEGRASS"?          (INDEED, THE GENRE ITSELF WAS NAMED AFTER HIS GROUP,   THE "BLUE GRASS BOYS"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27120" y="762120"/>
            <a:ext cx="7888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TRIPES" AND "GROUNDHOG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69720" y="761760"/>
            <a:ext cx="8404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 ROSE", "THE WIND BENEATH MY WINGS", AND "DO YOU WANNA DAN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598320" y="762120"/>
            <a:ext cx="7947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ITALY 1919-194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8200" y="762120"/>
            <a:ext cx="8067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EADED GUILTY IN 2009 TO OPERATING THE LARGEST PONZI SCHEME IN HISTORY, AND WAS SENTENCED TO  150 YEARS IN PRI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GREATEST HITS ALBUM "LEGEND", RELEASED 3 YEARS AFTER HIS DEATH, BECAME THE BEST-SELLING REGGAE ALBUM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6400" y="761760"/>
            <a:ext cx="8071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MANAGER OF THE NY YANKEES 5 TIMES, BEING HIRED AND FIRED BY OWNER GEORGE STEINBRENNER EVERY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5920" y="761760"/>
            <a:ext cx="8372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SONG "DON'T WORRY, BE HAPPY" WON "SONG OF THE YEAR" AT THE 1989 GRAMMY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9-27T15:41:41Z</dcterms:modified>
  <cp:revision>395</cp:revision>
  <dc:subject/>
  <dc:title>Slide 1</dc:title>
</cp:coreProperties>
</file>