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1BF0-12F3-47CD-BBD5-4122D418F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12CB-C617-48CA-837F-730DD6186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3877-AA41-49F0-9EF5-479876502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06A0-59AC-4008-BB22-06A68BC1B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5A8F-CADE-466D-ADC2-0D66CC443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940A-C463-4F1F-B8F0-467734BAE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0737-826D-410A-A916-B656AC23E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D899-8681-4FBC-82D3-507614F50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ECD5-1120-4F1F-9D69-BA917197D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F554-ED57-4893-AAF3-B1EF619E5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4527-0C4B-49C5-BB03-F3EC8D7BB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B4DC-B2C7-42E0-A5D0-6B0356808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B477-2242-46B2-B95E-A9DC412A4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15AA-8ACD-4786-AE4E-D25F04125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0D3F-7D49-44D1-95A6-8E918C7B2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EDD5-698D-41AE-94E8-0FF773915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7ED1-1772-48D6-953E-7035F6B35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9E22-F901-492C-AB64-12F5691C6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D53B-B136-4C74-999A-BDDE3DD34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C389-7AA3-47A8-9309-CC765433E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2AE7-3B7D-4E0C-B893-F23BA6D05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9471-149C-4EB7-9217-04FF8494B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C1D7-4873-4BBA-9F75-840E96290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6764-2213-434C-B61F-893E68426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32920" y="76176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OTH THE PENGUIN ON THE ORIGINAL "BATMAN" SERIES AND ROCKY'S COACH IN 4 "ROCKY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01720" y="761760"/>
            <a:ext cx="7539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OPACABANA (AT THE COPA)", "MANDY",   "I WRITE THE SONGS", AND "COULD IT BE MAG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KNOWN AS "THE   FATHER OF BLUEGRASS"?          (INDEED, THE GENRE ITSELF WAS NAMED AFTER HIS GROUP,   THE "BLUE GRASS BOYS"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33240" y="762120"/>
            <a:ext cx="7877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TRIPES" AND "GROUNDHOG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E  MID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51000" y="762120"/>
            <a:ext cx="8442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ROSE", "THE WIND BENEATH MY WINGS", AND "DO YOU WANNA D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ITO  MUSSOL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04800" y="762120"/>
            <a:ext cx="793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ITALY 1919-194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MAD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9600" y="762120"/>
            <a:ext cx="798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EADED GUILTY IN 2009 TO OPERATING THE LARGEST PONZI SCHEME IN HISTORY, AND WAS SENTENCED TO  150 YEARS IN PRI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MA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39560" y="762120"/>
            <a:ext cx="8264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REATEST HITS ALBUM "LEGEND", RELEASED 3 YEARS AFTER HIS DEATH, BECAME THE BEST-SELLING REGGAE ALBUM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MA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00040" y="762120"/>
            <a:ext cx="8143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ANAGER OF THE NY YANKEES 5 TIMES, BEING HIRED AND FIRED BY OWNER GEORGE STEINBRENNER EVERY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  MCFER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74560" y="762120"/>
            <a:ext cx="7994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ONG "DON'T WORRY, BE HAPPY" WON "SONG OF THE YEAR" AT THE 1989 GRA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GESS  MERED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OTH THE PENGUIN ON THE ORIGINAL "BATMAN" SERIES AND ROCKY'S COACH IN 4 "ROCKY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MANI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60520" y="762120"/>
            <a:ext cx="7669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OPACABANA (AT THE COPA)", "MANDY",   "I WRITE THE SONGS", AND "COULD IT BE MAG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68200" y="762120"/>
            <a:ext cx="8607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KNOWN AS "THE   FATHER OF BLUEGRASS"?          (INDEED, THE GENRE ITSELF WAS NAMED AFTER HIS GROUP,   THE "BLUE GRASS BOYS"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TRIPES" AND "GROUNDHOG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69720" y="761760"/>
            <a:ext cx="8404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ROSE", "THE WIND BENEATH MY WINGS", AND "DO YOU WANNA D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98320" y="762120"/>
            <a:ext cx="7947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ITALY 1919-194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8200" y="762120"/>
            <a:ext cx="8067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EADED GUILTY IN 2009 TO OPERATING THE LARGEST PONZI SCHEME IN HISTORY, AND WAS SENTENCED TO  150 YEARS IN PRI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REATEST HITS ALBUM "LEGEND", RELEASED 3 YEARS AFTER HIS DEATH, BECAME THE BEST-SELLING REGGAE ALBUM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6400" y="761760"/>
            <a:ext cx="807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ANAGER OF THE NY YANKEES 5 TIMES, BEING HIRED AND FIRED BY OWNER GEORGE STEINBRENNER EVERY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5920" y="761760"/>
            <a:ext cx="8372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ONG "DON'T WORRY, BE HAPPY" WON "SONG OF THE YEAR" AT THE 1989 GRAMM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9-27T15:41:41Z</dcterms:modified>
  <cp:revision>395</cp:revision>
  <dc:subject/>
  <dc:title>Slide 1</dc:title>
</cp:coreProperties>
</file>