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A6C-B190-4EA7-9AA3-A382C8C04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C357-6C0A-44A1-8C02-9E7A01581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496-BD27-4A36-B50C-DB909DDF8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FDB5-370B-40EB-81D8-7D64DF934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71D3-8B49-4F4E-BD66-BC0542E7A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1478-0437-47AC-975D-CBC788139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D2B7-5056-4B01-8824-749E4FACA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FC5D-B0B5-4383-8017-D594A1987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EEE5-6795-48CD-BE9D-C530685A9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3D01-E653-40B9-A0FD-93A8CF2D6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6C22-07D2-4608-8E49-6B5779360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273E-A30D-4348-AF62-0E1CE3D20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A6B7-EA29-4BD0-ABE1-71A454759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9A4C-B6FC-4115-9705-3D20AE4E2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C9E0-CBE9-449D-9CA9-A95F93AF1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B55F-BF23-4FCE-BF68-C48E9B23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026E-4382-41DE-A6DD-4708A13C3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67C1-0AF9-4E21-938D-7BB21AE6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913A-B55F-4C33-AD09-A6783803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30F4-76B3-41AA-949A-3B4C43220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CB69-EFC8-464E-B264-F6CA5D671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FE3-4425-4378-A0BD-9F98D2A48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5E03-54B7-4CC4-8837-6B033C31A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HOSTED HER OWN TV SHOW FROM 1967 TO 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 FORWARD IN THE NBA WAS KNOWN AS "THE ROUND MOUND OF REBOUND", AND IS NOW A POPULAR TV NBA ANALY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ICE  BER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71600" y="76212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MURPHY BR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22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B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ATMAN IN THE 2005, 2008, AND 201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99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BRO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GREAT ESCAPE", "THE DIRTY DOZEN", AND 5 "DEATH WISH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3012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ILLA  BOW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THE SECOND WIFE OF PRINCE CHAR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Y  BO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NEWARK BECAME THE JUNIOR SENATOR OF NEW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A  B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MURPHY BR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800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E  BLANCH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BLUE JASMINE" AND BEST SUPPORTING ACTRESS FOR "THE AVI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  BUR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81200" y="762120"/>
            <a:ext cx="7581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HOSTED HER OWN TV SHOW FROM 1967 TO 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BAR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 FORWARD IN THE NBA WAS KNOWN AS "THE ROUND MOUND OF REBOUND", AND IS NOW A POPULAR TV NBA ANALY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ATMAN IN THE 2005, 2008, AND 201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GREAT ESCAPE", "THE DIRTY DOZEN", AND 5 "DEATH WISH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THE SECOND WIFE OF PRINCE CHAR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NEWARK BECAME THE JUNIOR SENATOR OF NEW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BLUE JASMINE" AND BEST SUPPORTING ACTRESS FOR "THE AVI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4:43:27Z</dcterms:created>
  <dc:creator>Jennifer Budzinski</dc:creator>
  <dc:description/>
  <dc:language>en-US</dc:language>
  <cp:lastModifiedBy>Erich Friedman</cp:lastModifiedBy>
  <dcterms:modified xsi:type="dcterms:W3CDTF">2020-08-24T12:16:37Z</dcterms:modified>
  <cp:revision>330</cp:revision>
  <dc:subject/>
  <dc:title>Slide 1</dc:title>
</cp:coreProperties>
</file>