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6727-9194-4045-AC0C-313702638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6CA5-168D-4970-8507-DF10C897C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1BE5-FD60-4223-BDDB-B4F096AC7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3467-83CB-46BF-A320-3BDA1BF11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B862-57D0-481B-ADE4-5BD82E6D0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FBDA-AA67-45A5-808E-7B8D45C3A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0537-6AC1-47F9-BB14-EE8A873B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6B39-555A-4A12-9935-BE06F524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7947-DA0E-4C0A-9B5D-775F743E3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112E-DC6E-479D-9FB6-C325D60F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60F4-136F-4B1E-9349-DD6762A2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6985-E587-45B9-933A-A6A365AF9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3476-9A49-4953-85A6-87BDAB25D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A1C6-EDB8-4AF5-8436-A6D89C227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6624-5A5D-4C60-9B82-F4A2587FF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92D6-FA41-4EE4-8C76-21F503E23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D264-AFB4-4014-805B-7187B0FB4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7F50-7658-4CE4-8D3E-9B0E05983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68A2-0CA2-4CA0-9C6F-A0D2323E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989D-335D-48A1-97AC-FE227AF89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1185-D2B0-44CB-BED8-F973F3DA6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D0A1-7AD7-45D5-BB85-FECD19D22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DEF3-B7ED-4717-AE00-43FFF3E4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HOSTED HER OWN TV SHOW FROM 1967 TO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IN THE NBA WAS KNOWN AS "THE ROUND MOUND OF REBOUND", AND IS NOW A POPULAR TV NBA ANALY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ICE  BER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716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MURPHY B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22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B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TMAN IN THE 2005, 2008, AND 201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99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RO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GREAT ESCAPE", "THE DIRTY DOZEN", AND 5 "DEATH WISH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3012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ILLA  BOW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THE SECOND WIFE OF PRINCE CHAR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Y  BO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NEWARK BECAME THE JUNIOR SENATOR OF NE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A  B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MURPHY B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800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  BLANCH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BLUE JASMINE" AND BEST SUPPORTING ACTRESS FOR "THE AV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  BUR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81200" y="762120"/>
            <a:ext cx="7581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HOSTED HER OWN TV SHOW FROM 1967 TO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AR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IN THE NBA WAS KNOWN AS "THE ROUND MOUND OF REBOUND", AND IS NOW A POPULAR TV NBA ANALY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TMAN IN THE 2005, 2008, AND 201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GREAT ESCAPE", "THE DIRTY DOZEN", AND 5 "DEATH WISH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THE SECOND WIFE OF PRINCE CHAR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NEWARK BECAME THE JUNIOR SENATOR OF NE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BLUE JASMINE" AND BEST SUPPORTING ACTRESS FOR "THE AV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4:43:27Z</dcterms:created>
  <dc:creator>Jennifer Budzinski</dc:creator>
  <dc:description/>
  <dc:language>en-US</dc:language>
  <cp:lastModifiedBy>Erich Friedman</cp:lastModifiedBy>
  <dcterms:modified xsi:type="dcterms:W3CDTF">2020-08-24T12:16:37Z</dcterms:modified>
  <cp:revision>330</cp:revision>
  <dc:subject/>
  <dc:title>Slide 1</dc:title>
</cp:coreProperties>
</file>