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6879-6C54-4A48-B13D-EEFD2E95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7854-9B91-4B25-993E-662BA8930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6D4E-B836-4FD4-BE7C-0A7F1F0FD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1D6B-FE1F-4553-ABBB-49FE7FD6F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6425-807D-4AC3-9618-F9E0124E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B084-D456-463F-8F6D-727557C0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336A-E716-4D54-8FD4-928B640F1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5BC5A-6A2C-47FF-A36E-3E23C12E0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742F-9B57-44DE-9C16-0817E507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123B-58A4-4245-810A-35B19F359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E9D8-5405-41DA-9A09-1C89F0E12F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845D-4CCB-4DB8-8C1A-25A8CB373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4E0A-9776-4937-B657-8A5C3395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27F9-2E48-4FC1-8D34-9FB516456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5D46-C439-4222-ACA5-925BC2F30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2669-2C7C-49C1-8CA0-886914DB4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7BC-E7D9-44EF-8155-DB041C132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F3E7-2056-4610-BA76-F20A2CEC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C96A-4B92-4662-B768-C50B90E2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C502-9DDD-4B09-8E92-032D7808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268F-72B5-4CF0-9BF7-4B2A617C7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0109-9FBF-4BD2-A15A-CB14D11D5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5F15-6026-4F75-8BCC-61E5F473A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DICE  BER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71600" y="762120"/>
            <a:ext cx="640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22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N  B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996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RO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0120" y="480060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OTTE  BRONT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ILLA  BOW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Y  BO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85800" y="762120"/>
            <a:ext cx="77724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A  BA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MURPHY BR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8006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E  BLANCH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BUR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81200" y="762120"/>
            <a:ext cx="7581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IC ACTRESS HOSTED HER OWN TV SHOW FROM 1967 TO 197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WER FORWARD IN THE NBA WAS KNOWN AS "THE ROUND MOUND OF REBOUND", AND IS NOW A POPULAR TV NBA ANALY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ATMAN IN THE 2005, 2008, AND 2012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 GREAT ESCAPE", "THE DIRTY DOZEN", AND 5 "DEATH WISH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JANE EY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BECAME THE SECOND WIFE OF PRINCE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NEWARK BECAME THE JUNIOR SENATOR OF NEW JERSE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AMERICAN RED CRO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"BLUE JASMINE" AND BEST SUPPORTING ACTRESS FOR "THE AV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4:43:27Z</dcterms:created>
  <dc:creator>Jennifer Budzinski</dc:creator>
  <dc:description/>
  <dc:language>en-US</dc:language>
  <cp:lastModifiedBy>Erich Friedman</cp:lastModifiedBy>
  <dcterms:modified xsi:type="dcterms:W3CDTF">2020-08-24T12:16:37Z</dcterms:modified>
  <cp:revision>330</cp:revision>
  <dc:subject/>
  <dc:title>Slide 1</dc:title>
</cp:coreProperties>
</file>