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695D-17CE-4149-8233-3A216C7FD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868E-34AB-46FA-8607-E33A3C836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1E49-FFEB-4B4A-9397-F3321D5F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6AC2-41A2-4F0D-9E0A-799F2217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B3A4-C955-4FB4-B45E-474E863B7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0166-D2AC-4746-ADE1-529D0C445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BBE2-B308-4F4C-933C-8724FE8ED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BC21-0125-4DB5-A6F0-95AF10F0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BB75-D05E-485D-B0D5-D98C42D2C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AA6C-69A3-431D-8B9A-D10BAE9C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2FE6-2801-44FB-BC9F-4A9FF233F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AC23-A174-4DC7-8B60-4894A2E4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3F85-F96A-45EA-BAD2-76827D01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4859-4274-4719-B870-E6142D7AA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CC61-A0E4-4194-83AD-D8DEED011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F311-6ED3-42F9-8389-D0470DE1A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6B57-1546-41B5-8CD2-D109CD9F2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7AB5-1433-45F0-89D1-36BC04AA1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3834-E229-4727-A98A-530233423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45B5-58EF-4329-9906-56BB533C9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ADA-C605-430F-91C6-3F51D050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D1BA-60D0-4F99-979A-C586E6D8F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DBB0-8747-47FE-BF0B-E36F40A05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8CAF-E99D-4FF4-9DF4-6C30D9259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WAS THE HIGHEST SCORING PLAYER IN 2003, AND AGAIN IN 2004, WHEN PLAYING FOR THE ORLANDO MAG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28680" y="761760"/>
            <a:ext cx="668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IDER-MAN IN THE 2002, 2004, AND 2007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81040" y="762120"/>
            <a:ext cx="798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INA FEY ON BOTH "SNL" 1997-2003 AND "30 ROCK" 2006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MCV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8600" y="762120"/>
            <a:ext cx="8686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OKLAHOMA CITY BOMBING, BESIDES TERRY NICH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RGOOD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SUPREME COURT JU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33440" y="838080"/>
            <a:ext cx="827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E MINISTER OF THE U.K. 2016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03280" y="762120"/>
            <a:ext cx="813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S SOLD MORE THAN 75 MILLION RECORDS, AND IS MARRIED TO FAITH HILL WHO HAS SOLD OVER 40 M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YVON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TALLY SHOT IN SANFORD, FLORIDA IN 2012 BY GEORGE ZIMMER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LONIOUS 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09680" y="762120"/>
            <a:ext cx="8324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-MOST-RECORDED JAZZ COMPOSER, AFTER DUKE ELL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39840" y="762120"/>
            <a:ext cx="84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  PRIZE AND THE NATIONAL BOOK AWARD IN 1988 FOR "BELOVED", AND THE NOBEL PRIZE IN LITERATURE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MCG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50880" y="762120"/>
            <a:ext cx="784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WAS THE HIGHEST SCORING PLAYER IN 2003, AND AGAIN IN 2004, WHEN PLAYING FOR THE ORLANDO MAG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BE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66840" y="762120"/>
            <a:ext cx="6610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PIDER-MAN IN THE 2002, 2004, AND 2007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TINA FEY ON BOTH "SNL" 1997-2003 AND "30 ROCK" 2006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58840" y="762120"/>
            <a:ext cx="86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OKLAHOMA CITY BOMBING, BESIDES TERRY NICH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SUPREME COURT JU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33440" y="762120"/>
            <a:ext cx="827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IME MINISTER OF THE U.K. 2016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6040" y="762120"/>
            <a:ext cx="825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S SOLD MORE THAN 75 MILLION RECORDS, AND IS MARRIED TO FAITH HILL WHO HAS SOLD OVER 40 MILLION RE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TALLY SHOT IN SANFORD, FLORIDA IN 2012 BY GEORGE ZIMM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-MOST-RECORDED JAZZ COMPOSER, AFTER DUKE ELL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  PRIZE AND THE NATIONAL BOOK AWARD IN 1988 FOR "BELOVED", AND THE NOBEL PRIZE IN LITERATURE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3-02-02T19:05:31Z</dcterms:modified>
  <cp:revision>363</cp:revision>
  <dc:subject/>
  <dc:title>Slide 1</dc:title>
</cp:coreProperties>
</file>