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F3AC-F594-41ED-A388-460CE9C79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9E26-C43F-4F42-AE33-29A0CFAEC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1D22-E448-4E4A-B8AC-96AD782A8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4D76-1FAF-4609-86D2-A65AF2FAB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5D3B-A665-41E8-B0E5-972E7641B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7C0E-9131-43C6-9813-5F4A5E989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5773-3D9A-4238-87F8-7CD4232D6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35CE-958E-4AA4-817D-357388590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B7B7-2C89-4340-B14E-2FACEDF00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21A7-99A3-45A9-BAF1-DBA2862AF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7D16-E5D4-4DC0-8351-BFB1A4C16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0CB2-05EF-4DEB-9A35-108FF2330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FA41-C93C-49B2-ABEB-C18760DD5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2A63-7C91-4401-9CD3-6D5BFFC99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7EE6-7BEA-4B37-8E7F-1249B8BFC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CE25-F59E-4202-B444-7B32A96A7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6110-8D89-465C-AD8E-F86F7613D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076D-19D2-4411-864D-2935E80BF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F7DD-9F64-4FA0-881F-0F4405FA2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EC0A-970B-4620-865B-C6986FFFC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0FA7-6F6B-4569-9D42-3FD6C2323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51DD-ED30-486E-BB5C-04BC9EB60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9D03-96FD-405C-B4A6-75A5DC319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44E6-ED39-441C-A37E-51C2D13E8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95160" y="761760"/>
            <a:ext cx="7753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A PLAYER WAS THE HIGHEST SCORING PLAYER IN 2003, AND AGAIN IN 2004, WHEN PLAYING FOR THE ORLANDO MAGI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28680" y="7617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PIDER-MAN IN THE 2002, 2004, AND 2007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81040" y="762120"/>
            <a:ext cx="7981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TINA FEY ON BOTH "SNL" 1997-2003 AND "30 ROCK" 2006-201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OTHY  MCVEI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28600" y="762120"/>
            <a:ext cx="8686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RESPONSIBLE FOR THE OKLAHOMA CITY BOMBING, BESIDES TERRY NICHO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URGOOD  MARSH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690480" y="762120"/>
            <a:ext cx="7763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FRICAN-AMERICAN SUPREME COURT JUD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RESA  M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433440" y="838080"/>
            <a:ext cx="8275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RIME MINISTER OF THE U.K. 2016-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  MCGR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503280" y="762120"/>
            <a:ext cx="8137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STAR HAS SOLD MORE THAN 75 MILLION RECORDS, AND IS MARRIED TO FAITH HILL WHO HAS SOLD OVER 40 MILLION REC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AYVON  MAR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666720" y="762120"/>
            <a:ext cx="7810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FATALLY SHOT IN SANFORD, FLORIDA IN 2012 BY GEORGE ZIMMER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LONIOUS  MO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409680" y="762120"/>
            <a:ext cx="8324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SECOND-MOST-RECORDED JAZZ COMPOSER, AFTER DUKE ELLING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I  MORR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339840" y="762120"/>
            <a:ext cx="846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PULITZER   PRIZE AND THE NATIONAL BOOK AWARD IN 1988 FOR "BELOVED", AND THE NOBEL PRIZE IN LITERATURE IN 199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ACY  MCGR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650880" y="762120"/>
            <a:ext cx="784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A PLAYER WAS THE HIGHEST SCORING PLAYER IN 2003, AND AGAIN IN 2004, WHEN PLAYING FOR THE ORLANDO MAGI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BEY  MAGU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266840" y="762120"/>
            <a:ext cx="66103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PIDER-MAN IN THE 2002, 2004, AND 2007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ACY  MOR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38280" y="762120"/>
            <a:ext cx="7867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TINA FEY ON BOTH "SNL" 1997-2003 AND "30 ROCK" 2006-201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8840" y="762120"/>
            <a:ext cx="8624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RESPONSIBLE FOR THE OKLAHOMA CITY BOMBING, BESIDES TERRY NICHO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71400" y="761760"/>
            <a:ext cx="7801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FRICAN-AMERICAN SUPREME COURT JUD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433440" y="762120"/>
            <a:ext cx="8275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RIME MINISTER OF THE U.K. 2016-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46040" y="762120"/>
            <a:ext cx="8251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STAR HAS SOLD MORE THAN 75 MILLION RECORDS, AND IS MARRIED TO FAITH HILL WHO HAS SOLD OVER 40 MILLION RECO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00120" y="761760"/>
            <a:ext cx="7943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FATALLY SHOT IN SANFORD, FLORIDA IN 2012 BY GEORGE ZIMMER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14440" y="761760"/>
            <a:ext cx="8115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SECOND-MOST-RECORDED JAZZ COMPOSER, AFTER DUKE ELLINGT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85640" y="761760"/>
            <a:ext cx="8172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PULITZER   PRIZE AND THE NATIONAL BOOK AWARD IN 1988 FOR "BELOVED", AND THE NOBEL PRIZE IN LITERATURE IN 199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3-02-02T19:05:31Z</dcterms:modified>
  <cp:revision>363</cp:revision>
  <dc:subject/>
  <dc:title>Slide 1</dc:title>
</cp:coreProperties>
</file>