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2B52-56C6-43A3-83EF-0102B0A0D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DC82F-B31B-4BE3-AEA8-27001E467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D19F7-39F2-42C4-B578-D24A730D3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C5F32-B831-4EDB-AB44-38F89E55F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D8E48-3FD6-4EE7-9C70-73B371223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E93F0-6F65-4290-8225-6584FDA26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5DE6C-2CB5-437B-A644-1354FDA8E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D25FD-40A0-427C-867F-0F88E6B04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8A7D8-13D2-4F27-B7CC-567CEBD2C6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EFFDE-8614-4E5C-999D-2AAE978B6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40029-2A93-4605-9E44-7D3A4A3CD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E240E-B491-46C9-8630-3C0C1B233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310E-C495-41DB-86A5-8610A3116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FF451-2D6B-4972-AADD-99362652C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D66A6-B7E6-4C25-B4BB-8EA220526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2F6DF-1AFA-4987-B392-F0B8AC110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C2011-6527-414D-A49E-56911CAA9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F5740-E415-4E4E-825D-E23C8672F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AC445-1B67-4AF3-B988-B5E8BAA6F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B2B18-18C2-4A64-A750-2EADC9970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80BC5-9FDE-472C-AFEE-CA5F542B6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776AB-84C1-41A7-B79B-7A4AB67FC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06529-BC12-4904-AE35-58A5C0770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6280" y="761760"/>
            <a:ext cx="8191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8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SCOTTISH EMPIRICIST PHILOSOPHER WROTE "A TREATISE OF HUMAN NATUR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100080" y="762120"/>
            <a:ext cx="8943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ONLY MATH BOOK TO EVER WIN A PULITZER PRIZE, "GÖDEL, ESCHER, BAC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USTIN  HOFF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71560" y="762120"/>
            <a:ext cx="73994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OR OSCARS FOR "KRAMER VS. KRAMER" AND "RAIN M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RYL  HANNA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690480" y="762120"/>
            <a:ext cx="77630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MERMAID IN "SPLASH" AND ROXANNE       IN "ROXAN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N  HEN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68320" y="762120"/>
            <a:ext cx="7405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MBER OF THE EAGLES SANG THE LEAD ON "HOTEL CALIFORNI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C HOLLI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76040" y="762120"/>
            <a:ext cx="8791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OUGHT ALONGSIDE THE     3 EARP BROTHERS IN THE GUNFIGHT AT THE O.K. CORR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VID  HASSELHO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666720" y="762120"/>
            <a:ext cx="7810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HIGH-TECH CRIME FIGHTER ON THE TV SERIES "KNIGHT RID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NNIS  HOP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09680" y="762120"/>
            <a:ext cx="83246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, DIRECTED, AND STARRED IN "EASY RID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RYL  H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39840" y="762120"/>
            <a:ext cx="84643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MUSICAL PARTNER OF JOHN O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29800" y="762120"/>
            <a:ext cx="74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OR OSCARS FOR "KRAMER VS. KRAMER" AND "RAIN M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WIGHT  HOW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325440" y="762120"/>
            <a:ext cx="84931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RLANDO MAGIC CENTER WON DEFENSIVE PLAYER OF THE YEAR 3 YEARS IN A R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VID  HU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66560" y="762120"/>
            <a:ext cx="82108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8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 SCOTTISH EMPIRICIST PHILOSOPHER WROTE "A TREATISE OF HUMAN NATU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UGLAS  HOFSTAD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20600" y="762120"/>
            <a:ext cx="8901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ONLY MATH BOOK TO EVER WIN A PULITZER PRIZE, "GÖDEL, ESCHER, BAC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91640" y="761760"/>
            <a:ext cx="75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MERMAID IN "SPLASH" AND ROXANNE       IN "ROXAN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68320" y="762120"/>
            <a:ext cx="7405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MBER OF THE EAGLES SANG THE LEAD ON "HOTEL CALIFORNI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09440" y="762120"/>
            <a:ext cx="8925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OUGHT ALONGSIDE THE     3 EARP BROTHERS IN THE GUNFIGHT AT THE O.K. CORR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00120" y="761760"/>
            <a:ext cx="7943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HIGH-TECH CRIME FIGHTER ON THE TV SERIES "KNIGHT RID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14440" y="761760"/>
            <a:ext cx="8115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, DIRECTED, AND STARRED IN "EASY RID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85640" y="761760"/>
            <a:ext cx="8172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MUSICAL PARTNER OF JOHN OAT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85920" y="761760"/>
            <a:ext cx="8372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RLANDO MAGIC CENTER WON DEFENSIVE PLAYER OF THE YEAR 3 YEARS IN A RO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2-11-05T12:18:09Z</dcterms:modified>
  <cp:revision>367</cp:revision>
  <dc:subject/>
  <dc:title>Slide 1</dc:title>
</cp:coreProperties>
</file>