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1D93-6A51-42C2-A6F2-3A0353840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B553-5C98-4F2A-ADAE-0F9D20FD5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91CE-5B70-4FCD-81DA-124248DD8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7BBA-6247-4DA5-9B9F-7666B0872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7816-5E0E-471F-807E-495F1921C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38CB-0280-4DDD-B4BE-143263B0A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5427-985F-4995-8B80-C86531B4D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2F04-7160-4CC2-9E45-41AAA498B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9198-524D-455F-9D03-F5C767EB8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8E1E-13F1-4033-AB0C-C1229EB25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34B2-7BED-4855-B1A5-86EADE265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F822-2924-4A71-8D1B-DAA92AED9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E657-9DA3-4ACF-981A-C87492A7C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7459-7644-431A-BBA6-077950B77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AEFD-DE15-4444-956F-ECC0600C6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AA8A-E2B3-4158-94E2-B8E33BA77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53F1-2E92-4574-9FF8-CD0A74EA7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13E5-689E-4877-878E-E2C6DD1E2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53C8-8A8C-40B1-9733-9B31C9EF6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808C-F50E-4CDF-82CB-B21D64657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8E0C-74DB-44D3-8018-D7B3FA9CF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C443-D7EB-4FE3-BF8A-44A3C2CA7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AC25-774F-459B-A104-0460E26ED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SCOTTISH EMPIRICIST PHILOSOPHER WROTE "A TREATISE OF HUMAN NATU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0080" y="762120"/>
            <a:ext cx="8943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ONLY MATH BOOK TO EVER WIN A PULITZER PRIZE, "GÖDEL, ESCHER, BA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STIN  HOFF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71560" y="762120"/>
            <a:ext cx="7399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OSCARS FOR "KRAMER VS. KRAMER" AND "RAIN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YL  HANN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90480" y="762120"/>
            <a:ext cx="7763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MERMAID IN "SPLASH" AND ROXANNE       IN "ROXAN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HEN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68320" y="762120"/>
            <a:ext cx="74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EAGLES SANG THE LEAD ON "HOTEL CALIFORN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 HOLL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76040" y="762120"/>
            <a:ext cx="879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GHT ALONGSIDE THE     3 EARP BROTHERS IN THE GUNFIGHT AT THE O.K. COR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HASSELH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66720" y="762120"/>
            <a:ext cx="7810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HIGH-TECH CRIME FIGHTER ON THE TV SERIES "KNIGHT RI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NIS  HO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09680" y="762120"/>
            <a:ext cx="8324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DIRECTED, AND STARRED IN "EASY RI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YL 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39840" y="762120"/>
            <a:ext cx="846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USICAL PARTNER OF JOHN O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9800" y="762120"/>
            <a:ext cx="74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OSCARS FOR "KRAMER VS. KRAMER" AND "RAIN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IGHT  HO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25440" y="762120"/>
            <a:ext cx="849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LANDO MAGIC CENTER WON DEFENSIVE PLAYER OF THE YEAR 3 YEARS IN A R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H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66560" y="762120"/>
            <a:ext cx="8210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SCOTTISH EMPIRICIST PHILOSOPHER WROTE "A TREATISE OF HUMAN NATU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GLAS  HOFSTAD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20600" y="762120"/>
            <a:ext cx="89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ONLY MATH BOOK TO EVER WIN A PULITZER PRIZE, "GÖDEL, ESCHER, BA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91640" y="761760"/>
            <a:ext cx="75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MERMAID IN "SPLASH" AND ROXANNE       IN "ROXAN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68320" y="762120"/>
            <a:ext cx="74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EAGLES SANG THE LEAD ON "HOTEL CALIFORN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9440" y="762120"/>
            <a:ext cx="8925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GHT ALONGSIDE THE     3 EARP BROTHERS IN THE GUNFIGHT AT THE O.K. COR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HIGH-TECH CRIME FIGHTER ON THE TV SERIES "KNIGHT RI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DIRECTED, AND STARRED IN "EASY RI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85640" y="761760"/>
            <a:ext cx="8172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USICAL PARTNER OF JOHN O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5920" y="761760"/>
            <a:ext cx="837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LANDO MAGIC CENTER WON DEFENSIVE PLAYER OF THE YEAR 3 YEARS IN A R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11-05T12:18:09Z</dcterms:modified>
  <cp:revision>367</cp:revision>
  <dc:subject/>
  <dc:title>Slide 1</dc:title>
</cp:coreProperties>
</file>