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9E2D-FDE3-4808-823D-7D6FAB0E7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8E0E-CC57-4FD3-ACF5-4C952CDBB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2685-2913-4BC3-A85D-07614D80B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E0C4-FD5B-4189-868E-2CC62D396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A5EF-2873-48BC-90AC-6CDFE27C4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868B-628E-4ABF-9737-9E4FF0B3E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DE85-76E9-4D18-813D-E5050DB9E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3641-81FE-41FC-91B3-684BF70F5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84ED-8CDA-4DB1-BB01-CD7E4341A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CF41-B0F1-4D98-965D-B33160A20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D828-CE14-42C7-8813-2C15E32AA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905A-C010-45C3-BD15-D6058AF8E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CEBD-9DD7-42DE-AA1E-FA05DC6D6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C0F4-D458-4613-B331-E35E45B9E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EAB7-3FF3-4279-9820-9943E6563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B47C-1851-45D7-B0CD-5946779F1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720A-1F1E-4F6E-92AE-A85800189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9153-72AA-430C-9EA1-21170DA71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9CB2-EEDA-4FBC-8F57-C3ADB0B8D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B298-99B7-47C6-8E2D-209BAC265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937B-ABB0-4345-82F0-9D27F40C1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32C8-F4E6-4CCC-858A-096698AB3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8444-0713-48A6-9281-D4079DC66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6280" y="761760"/>
            <a:ext cx="8191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GENETICIST ALMOST SINGLE-HANDEDLY CREATED THE FOUNDATIONS FOR MODERN STATISTICAL SCIE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81040" y="762120"/>
            <a:ext cx="7981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SCONSIN SENATOR, ALONG WITH JOHN MCCAIN, CO-SPONSORED THE BIPARTISAN CAMPAIGN REFORM ACT OF 200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GER  FEDE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50800" y="762120"/>
            <a:ext cx="804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D WON THE MOST MEN'S SINGLES MAJOR TITLES IN TENNIS, UNTIL 2022 WHEN HE WAS SURPASSED BY RAFAEL NAD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  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82640" y="762120"/>
            <a:ext cx="757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YOR OF TORONTO 2010-2014 HAD A DRUG ABUSE PROBL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D  FOX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68320" y="762120"/>
            <a:ext cx="7405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ON "SANFORD AND SON" FOR 6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FR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76040" y="762120"/>
            <a:ext cx="8791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N POET IS THE ONLY PERSON TO HAVE WON 4 PULITZER PRIZES FOR POE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YAN  FITZPATR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66720" y="762120"/>
            <a:ext cx="7810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FOR THE MIAMI DOLPHINS IS THE ONLY PERSON TO THROW NFL TOUCHDOWNS FOR 8 DIFFERENT TEA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FU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76160" y="762120"/>
            <a:ext cx="7591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WIDELY CREDITED WITH DEVELOPING THE FIRST COMMERCIALLY SUCCESSFUL STEAMBO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LPH  FIEN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88960" y="762120"/>
            <a:ext cx="796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"THE CONSTANT GARDNER", "THE ENGLISH PATIENT", AND "THE END OF THE AFFAI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66280" y="762120"/>
            <a:ext cx="8008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D WON THE MOST MEN'S SINGLES MAJOR TITLES IN TENNIS, UNTIL 2022 WHEN HE WAS SURPASSED BY RAFAEL NAD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A  F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35120" y="698400"/>
            <a:ext cx="76737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HE FIRST TIME EVER I SAW YOUR FACE" AND "KILLING ME SOFTLY WITH HIS SO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NALD  FIS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66560" y="762120"/>
            <a:ext cx="82108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GENETICIST ALMOST SINGLE-HANDEDLY CREATED THE FOUNDATIONS FOR MODERN STATISTICAL SCI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S  FEING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38280" y="762120"/>
            <a:ext cx="7867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SCONSIN SENATOR, ALONG WITH JOHN MCCAIN, CO-SPONSORED THE BIPARTISAN CAMPAIGN REFORM ACT OF 200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17400" y="761760"/>
            <a:ext cx="790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YOR OF TORONTO 2010-2014 HAD A DRUG ABUSE PROBL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68320" y="762120"/>
            <a:ext cx="7405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ON "SANFORD AND SON" FOR 6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9440" y="762120"/>
            <a:ext cx="8925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N POET IS THE ONLY PERSON TO HAVE WON 4 PULITZER PRIZES FOR POE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0120" y="761760"/>
            <a:ext cx="7943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FOR THE MIAMI DOLPHINS IS THE ONLY PERSON TO THROW NFL TOUCHDOWNS FOR 8 DIFFERENT TEA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76440" y="761760"/>
            <a:ext cx="7791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WIDELY CREDITED WITH DEVELOPING THE FIRST COMMERCIALLY SUCCESSFUL STEAMBO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85720" y="761760"/>
            <a:ext cx="797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"THE CONSTANT GARDNER", "THE ENGLISH PATIENT", AND "THE END OF THE AFFAI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25040" y="761760"/>
            <a:ext cx="7691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HE FIRST TIME EVER I SAW YOUR FACE" AND "KILLING ME SOFTLY WITH HIS SO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2-11-13T13:15:49Z</dcterms:modified>
  <cp:revision>370</cp:revision>
  <dc:subject/>
  <dc:title>Slide 1</dc:title>
</cp:coreProperties>
</file>