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9DD2-84FB-4931-990A-061382172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B386-7CF4-4565-A512-6BE060A82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E77F-D87F-4CAE-ADEF-7030B7D68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3C51-3199-46F4-9BA5-5DAE2C840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F483-805C-48A1-B65C-93E654B01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291C-8E9F-41BE-9EEF-4B383C68B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0009-ECA5-48A2-ADE4-9AC4A7D03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B317-EFAE-470B-8CC2-EF85CBAC0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36EC-CF31-4A34-9B9C-6E8C6AD07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B8F1-4318-4B24-8572-A11E47998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FB8E-39C7-40DD-A3CF-61F8A9052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1005-EC1A-4C4C-894C-D64D14C1D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1FEC-4550-4EF7-8EA5-224275BAA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8F6C-DC2B-49D2-91F4-3437DD76B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8FD5-4EB0-462F-9C50-A5D95E466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909F-F77A-4B58-BF57-5F6DE0753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F7FC-D9BF-4238-947D-73D28069A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9FF5-BDBA-4EAA-8FE4-AF6068882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91E9-4108-4E70-B1F1-9AC7C1042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722C-F32E-4CB4-B09D-D2EAAA5D3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35A9-060C-4D83-86C8-8302786F3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F8E1-817A-4A0E-939E-CB8840492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B4D8-28B2-4377-B1C9-5A6AADA01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6280" y="761760"/>
            <a:ext cx="8191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GENETICIST ALMOST SINGLE-HANDEDLY CREATED THE FOUNDATIONS FOR MODERN STATISTICAL SCIE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81040" y="762120"/>
            <a:ext cx="7981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SCONSIN SENATOR, ALONG WITH JOHN MCCAIN, CO-SPONSORED THE BIPARTISAN CAMPAIGN REFORM ACT OF 200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GER  FEDE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50800" y="762120"/>
            <a:ext cx="804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D WON THE MOST MEN'S SINGLES MAJOR TITLES IN TENNIS, UNTIL 2022 WHEN HE WAS SURPASSED BY RAFAEL NAD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  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82640" y="762120"/>
            <a:ext cx="757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YOR OF TORONTO 2010-2014 HAD A DRUG ABUSE PROBL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D  FOX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68320" y="762120"/>
            <a:ext cx="7405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ON "SANFORD AND SON" FOR 6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FR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76040" y="762120"/>
            <a:ext cx="8791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N POET IS THE ONLY PERSON TO HAVE WON 4 PULITZER PRIZES FOR POE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YAN  FITZPATR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66720" y="762120"/>
            <a:ext cx="7810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FOR THE MIAMI DOLPHINS IS THE ONLY PERSON TO THROW NFL TOUCHDOWNS FOR 8 DIFFERENT TEA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FU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76160" y="762120"/>
            <a:ext cx="7591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WIDELY CREDITED WITH DEVELOPING THE FIRST COMMERCIALLY SUCCESSFUL STEAMBO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LPH  FIEN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88960" y="762120"/>
            <a:ext cx="796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"THE CONSTANT GARDNER", "THE ENGLISH PATIENT", AND "THE END OF THE AFFAI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66280" y="762120"/>
            <a:ext cx="8008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D WON THE MOST MEN'S SINGLES MAJOR TITLES IN TENNIS, UNTIL 2022 WHEN HE WAS SURPASSED BY RAFAEL NAD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A  F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35120" y="698400"/>
            <a:ext cx="76737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HE FIRST TIME EVER I SAW YOUR FACE" AND "KILLING ME SOFTLY WITH HIS SO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NALD  FIS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66560" y="762120"/>
            <a:ext cx="82108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GENETICIST ALMOST SINGLE-HANDEDLY CREATED THE FOUNDATIONS FOR MODERN STATISTICAL SCI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S  FEING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38280" y="762120"/>
            <a:ext cx="7867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SCONSIN SENATOR, ALONG WITH JOHN MCCAIN, CO-SPONSORED THE BIPARTISAN CAMPAIGN REFORM ACT OF 200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17400" y="761760"/>
            <a:ext cx="790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YOR OF TORONTO 2010-2014 HAD A DRUG ABUSE PROBL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68320" y="762120"/>
            <a:ext cx="7405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ON "SANFORD AND SON" FOR 6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9440" y="762120"/>
            <a:ext cx="8925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N POET IS THE ONLY PERSON TO HAVE WON 4 PULITZER PRIZES FOR POE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0120" y="761760"/>
            <a:ext cx="7943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FOR THE MIAMI DOLPHINS IS THE ONLY PERSON TO THROW NFL TOUCHDOWNS FOR 8 DIFFERENT TEA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76440" y="761760"/>
            <a:ext cx="7791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WIDELY CREDITED WITH DEVELOPING THE FIRST COMMERCIALLY SUCCESSFUL STEAMBO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85720" y="761760"/>
            <a:ext cx="797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"THE CONSTANT GARDNER", "THE ENGLISH PATIENT", AND "THE END OF THE AFFAI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25040" y="761760"/>
            <a:ext cx="7691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HE FIRST TIME EVER I SAW YOUR FACE" AND "KILLING ME SOFTLY WITH HIS SO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2-11-13T13:15:49Z</dcterms:modified>
  <cp:revision>370</cp:revision>
  <dc:subject/>
  <dc:title>Slide 1</dc:title>
</cp:coreProperties>
</file>