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8C2D-A0E3-429C-AD66-89F092E3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1E6-E3A9-4C62-83F1-40986B2E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7DA8-5C97-4DFA-84B1-5BDF3AA2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572-5ACC-4A85-AC70-96566D151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DE41-3E3B-4790-BECE-A270A4F5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191-A5B9-4718-90EC-806DA5AE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8707-B66C-4BD6-BAB7-421EF03E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0F0-DC96-4026-8DF0-2BAB26DAE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307-56DC-4E83-B6D3-22C337D64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8BA4-23C3-416E-8C5B-67C90033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7C97-5EE4-4610-90C8-746841F3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97B9-1028-494F-831B-B88CAEF60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0B54-C793-498F-8911-641F90D1B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39C-90CF-4AF4-849E-E04F88C0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163A-28FE-4598-894F-B5089B8E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D31C-117F-4840-952D-9AB8A06F7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9357-B46E-48DB-8BDE-1FD5CCE32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6F6-0E63-475C-8A83-DC6CAD2B7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42E2-2B20-48CD-9694-A5D83AB7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D71A-B4B7-4878-BF9B-B6BC6C01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1557-3D2F-46DF-ABA1-D8F3F2C3E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8518-434B-4B5F-B32E-51BDD4B2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34B1-99AE-4407-9F7C-BD02761E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6F2E-A57B-4247-AA06-264703BB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DESCRIBE AS THE MOST COMMERCIALLY SUCCESSFUL MAGICIAN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OW TO WIN FRIENDS AND INFLUENCE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AS HOST OF "THE PRICE IS RIGHT" AFTER BOB BARKER HOSTED FOR 3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CR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16000" y="762120"/>
            <a:ext cx="69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THE 2006 FILM "CASINO ROY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542960" y="762120"/>
            <a:ext cx="60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THE U.K. 2010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CHE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70'S TV SERIES "KUNG FU" AND PLAYED BILL IN THE "KILL BILL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CH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OES CHRISTIAN BALE PORTRAY IN THE 2018 FILM "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R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BIOLOGICAL FATHER OF THE TWO CHILDREN OF MELISSA ETHERIDGE AND HER PARTNER JULIE CYP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SS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EITH PARTRIDGE ON "THE PARTRIDGE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OPPE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63680" y="762120"/>
            <a:ext cx="82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DESCRIBE AS THE MOST COMMERCIALLY SUCCESSFUL MAGICIAN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E  CARNE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OW TO WIN FRIENDS AND INFLUENCE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W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AS HOST OF "THE PRICE IS RIGHT" AFTER BOB BARKER HOSTED FOR 3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THE 2006 FILM "CASINO ROYA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42960" y="761760"/>
            <a:ext cx="6058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THE U.K. 2010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70'S TV SERIES "KUNG FU" AND PLAYED BILL IN THE "KILL BILL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OES CHRISTIAN BALE PORTRAY IN THE 2018 FILM "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BIOLOGICAL FATHER OF THE TWO CHILDREN OF MELISSA ETHERIDGE AND HER PARTNER JULIE CYP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EITH PARTRIDGE ON "THE PARTRIDGE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22T09:33:25Z</dcterms:modified>
  <cp:revision>353</cp:revision>
  <dc:subject/>
  <dc:title>Slide 1</dc:title>
</cp:coreProperties>
</file>