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A018-CD2F-4481-A773-5CBF5B430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DFB2-D156-4AD7-ADB0-D8748905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D387-E2B9-4C14-B61B-D4F14A2FE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6DBD-448E-4993-95BD-4AE3F8605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FEC8-83A6-42DF-AEEE-B48092D5A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156-6419-4BD4-B9FC-466B1C67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1D53-C68B-4772-B8DE-E4331BA8F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3902-713B-4351-9C86-B560ABD9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7C6E-4A90-43AC-B6EC-067D24E38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1A26-8B7B-49CA-A269-ED00A6F36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9DBC-E2D3-47CA-A885-C5ED8C819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9C02-E0E1-441C-AA65-6B00CE11C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295A-C246-4CC3-BB09-6846A1B36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401E-C1D9-4A6F-831E-4EE7F0AB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6E7-93CB-42C7-8A0F-54F226E8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FE0-C6DF-46CD-A7C8-F63B0FD87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79CA-7074-44FA-A801-AA155FC8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ACF-DA17-4FDF-8A25-DD1F2EC1F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ED79-0625-4D92-A7D0-5B17E6FF2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E86F-441C-40B1-B7C6-609B84E9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786-FC63-48A6-B801-91B8F44A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B4C9-9D1E-4B6E-B670-9DAD44DD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5BBC-C009-4514-AE37-5BAB6891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5FC-C31F-4367-ABC1-93DC684F3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DESCRIBE AS THE MOST COMMERCIALLY SUCCESSFUL MAGICIAN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OW TO WIN FRIENDS AND INFLUENCE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AS HOST OF "THE PRICE IS RIGHT" AFTER BOB BARKER HOSTED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CR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116000" y="762120"/>
            <a:ext cx="69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THE 2006 FILM "CASINO ROY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542960" y="762120"/>
            <a:ext cx="60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THE U.K. 2010-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CHEA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RRAD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70'S TV SERIES "KUNG FU" AND PLAYED BILL IN THE "KILL BILL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CH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OES CHRISTIAN BALE PORTRAY IN THE 2018 FILM "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BIOLOGICAL FATHER OF THE TWO CHILDREN OF MELISSA ETHERIDGE AND HER PARTNER JULIE CYP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ASS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EITH PARTRIDGE ON "THE PARTRIDGE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OPPE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63680" y="762120"/>
            <a:ext cx="82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FORB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DESCRIBE AS THE MOST COMMERCIALLY SUCCESSFUL MAGICIAN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E  CARNE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OW TO WIN FRIENDS AND INFLUENCE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W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OOK OVER AS HOST OF "THE PRICE IS RIGHT" AFTER BOB BARKER HOSTED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CTOR PLAYED JAMES BOND IN THE 2006 FILM "CASINO ROYA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42960" y="761760"/>
            <a:ext cx="6058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PRIME MINISTER OF THE U.K. 2010-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HOTEL R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70'S TV SERIES "KUNG FU" AND PLAYED BILL IN THE "KILL BILL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M DOES CHRISTIAN BALE PORTRAY IN THE 2018 FILM "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THE BIOLOGICAL FATHER OF THE TWO CHILDREN OF MELISSA ETHERIDGE AND HER PARTNER JULIE CYP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KEITH PARTRIDGE ON "THE PARTRIDGE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22T09:33:25Z</dcterms:modified>
  <cp:revision>353</cp:revision>
  <dc:subject/>
  <dc:title>Slide 1</dc:title>
</cp:coreProperties>
</file>