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BE58-20FC-4348-9BCD-7C0F90A4A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94A8-C701-4195-B367-69791BC8D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A91C-9E3E-42E8-BB52-AA10B0B42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C1CD-A270-4E58-B1D2-FA1B34622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4CD4-7B6C-4791-A30A-1081A9919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1E7D-B42F-4EA8-892F-395016CFE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7246-7BCC-4103-A42A-AADE359F8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958A-87E5-413A-8EAD-76B983FE2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3C5B-E6EF-4F37-AA09-A54C403A0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F5B1-03BF-41F4-8752-D68135EEF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217D-B9B8-4684-98DC-89A230D44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7DBF-2747-49E9-B76B-1335D9E2B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836F-8E12-4998-928F-883F9DB6F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C864-27E9-4F3D-AC62-EE4E821C6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E088-6013-4131-AD06-DCF29C2A4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927B-2A3C-4B71-8A3B-BEF14254E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1075-C652-4487-AB79-373B304EB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0786-7421-4EB2-A8C3-DF977B5D6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3C2C-D405-4F8C-99E8-DB3DA9B71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7341-E36D-433C-9DA3-D293CD102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D754-141C-4AE5-AE91-DDCD76C5B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4554-4801-451D-9C0B-E1BAC362F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B6CF-2E04-401C-B8E8-6532FC39A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OLFER WON 19 EVENTS ON THE PGA TOUR, INCLUDING THE 1984 AND 1995 MASTERS TOURNA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ONEL HOGAN ON "HOGAN'S HERO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4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651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INDA  CARLIS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1160" y="762120"/>
            <a:ext cx="7321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THE GO-GO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COU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OINT GUARD FOR TH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STON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TICS FROM 1950 TO 1963, AND WAS KNOWN AS "THE HOUDINI OF THE HARDW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6512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T  CON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HOSTED THE GAME SHOWS "TATTLETALES", "SUPER PASSWORD", AND "WIN, LOSE OR DRAW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  COLL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HOSTED THE GAME SHOWS "BEAT THE CLOCK" AND "TO TELL THE TRU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U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2280" y="762120"/>
            <a:ext cx="8839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GAME    SHOWS "THE PRICE IS RIGHT", "BLOCKBUSTERS", "THE $25,000 PYRAMID", AND "JOKER'S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COCK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NADIAN SINGER / SONGWRITER / GUITARIST HAS PUT OUT 30 ALBUMS, INCLUDING HIS PLATINUM "WAITING FOR A MIRAC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4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I  CHAS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FEMALE SOCCER STAR IS FAMOUS FOR REMOVING HER JERSEY IN CELEBRATION AFTER SCORING THE WINNING GOAL IN THE 1999 WOMEN'S WORLD CU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6188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CRENSH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OLFER WON 19 EVENTS ON THE PGA TOUR, INCLUDING THE 1984 AND 1995 MASTERS TOURNA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C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ONEL HOGAN ON "HOGAN'S HERO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THE GO-GO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OINT GUARD FOR THE BOSTON CELTICS FROM 1950 TO 1963, AND WAS KNOWN AS "THE HOUDINI OF THE HARDW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HOSTED THE GAME SHOWS "TATTLETALES", "SUPER PASSWORD", AND "WIN, LOSE OR DRAW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43000" y="723960"/>
            <a:ext cx="685800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HOSTED THE GAME SHOWS "BEAT THE CLOCK" AND "TO TELL THE TRU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GAME   SHOWS "THE PRICE IS RIGHT", "BLOCKBUSTERS", "THE $25,000 PYRAMID", AND "JOKER'S 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NADIAN SINGER / SONGWRITER / GUITARIST HAS PUT OUT 30 ALBUMS, INCLUDING HIS PLATINUM "WAITING FOR A MIRAC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FEMALE SOCCER STAR IS FAMOUS FOR REMOVING HER JERSEY IN CELEBRATION AFTER SCORING THE WINNING GOAL IN THE 1999 WOMEN'S WORLD CU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9T20:10:11Z</dcterms:created>
  <dc:creator>Jennifer Budzinski</dc:creator>
  <dc:description/>
  <dc:language>en-US</dc:language>
  <cp:lastModifiedBy>Erich Friedman</cp:lastModifiedBy>
  <dcterms:modified xsi:type="dcterms:W3CDTF">2020-08-23T20:48:37Z</dcterms:modified>
  <cp:revision>274</cp:revision>
  <dc:subject/>
  <dc:title>Slide 1</dc:title>
</cp:coreProperties>
</file>