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CA22-BD4A-47A5-A0B4-CCA8FC061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ED1F-C60A-41E7-8857-890C4B026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C76C-22B0-49B8-BEA8-868B77616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C11A-2A62-45DE-B846-99AAA2BC4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0177-79BF-4E95-86DE-CF6400EAE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7BD8-1142-4DF5-BB8B-92653A8E0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4629-5EBD-413A-8357-B6C5C6913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2175-6D74-49AC-BE04-E3D640D04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8E80-EB00-4027-92D8-8392B145E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C5DE-BC9D-40C6-904D-5FC7988D8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15DD-983E-4E8A-A718-28D1A3C08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F227-B1A0-4EF0-9487-FB54B1EAA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1AE7-DCE0-4F28-86FA-486864641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5FA6-31FA-48D3-B36C-97AE11FD0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5B04-5975-4D76-BE73-E93006BED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6BB9-B809-4700-B7B8-2F22C3620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A520-6B29-4DF9-B504-E4D92C0F2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01DD-6F13-4CAE-AE37-1E767B5B5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3B36-AB92-440B-9E9D-701F0DAFA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C99E-5B79-4483-B178-DB7042401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F051-9633-4A1D-9521-011AD6E8B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5DAF-573B-4C2F-840D-1C80BAAD9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276D-67CB-416F-A9FA-5E49B0B16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GOLFER WON 19 EVENTS ON THE PGA TOUR, INCLUDING THE 1984 AND 1995 MASTERS TOURNA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OLONEL HOGAN ON "HOGAN'S HERO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4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651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INDA  CARLIS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1160" y="762120"/>
            <a:ext cx="7321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THE GO-GO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COU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OINT GUARD FOR TH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STON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TICS FROM 1950 TO 1963, AND WAS KNOWN AS "THE HOUDINI OF THE HARDW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65120" y="4876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T  CON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HOSTED THE GAME SHOWS "TATTLETALES", "SUPER PASSWORD", AND "WIN, LOSE OR DRAW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  COLL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HOSTED THE GAME SHOWS "BEAT THE CLOCK" AND "TO TELL THE TRU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CU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2280" y="762120"/>
            <a:ext cx="8839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GAME    SHOWS "THE PRICE IS RIGHT", "BLOCKBUSTERS", "THE $25,000 PYRAMID", AND "JOKER'S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COCK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NADIAN SINGER / SONGWRITER / GUITARIST HAS PUT OUT 30 ALBUMS, INCLUDING HIS PLATINUM "WAITING FOR A MIRAC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4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I  CHAS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FEMALE SOCCER STAR IS FAMOUS FOR REMOVING HER JERSEY IN CELEBRATION AFTER SCORING THE WINNING GOAL IN THE 1999 WOMEN'S WORLD CU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6188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CRENSH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GOLFER WON 19 EVENTS ON THE PGA TOUR, INCLUDING THE 1984 AND 1995 MASTERS TOURNA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C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OLONEL HOGAN ON "HOGAN'S HERO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THE GO-GO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OINT GUARD FOR THE BOSTON CELTICS FROM 1950 TO 1963, AND WAS KNOWN AS "THE HOUDINI OF THE HARDW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HOSTED THE GAME SHOWS "TATTLETALES", "SUPER PASSWORD", AND "WIN, LOSE OR DRAW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43000" y="723960"/>
            <a:ext cx="685800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HOSTED THE GAME SHOWS "BEAT THE CLOCK" AND "TO TELL THE TRU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GAME   SHOWS "THE PRICE IS RIGHT", "BLOCKBUSTERS", "THE $25,000 PYRAMID", AND "JOKER'S 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NADIAN SINGER / SONGWRITER / GUITARIST HAS PUT OUT 30 ALBUMS, INCLUDING HIS PLATINUM "WAITING FOR A MIRAC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FEMALE SOCCER STAR IS FAMOUS FOR REMOVING HER JERSEY IN CELEBRATION AFTER SCORING THE WINNING GOAL IN THE 1999 WOMEN'S WORLD CU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9T20:10:11Z</dcterms:created>
  <dc:creator>Jennifer Budzinski</dc:creator>
  <dc:description/>
  <dc:language>en-US</dc:language>
  <cp:lastModifiedBy>Erich Friedman</cp:lastModifiedBy>
  <dcterms:modified xsi:type="dcterms:W3CDTF">2020-08-23T20:48:37Z</dcterms:modified>
  <cp:revision>274</cp:revision>
  <dc:subject/>
  <dc:title>Slide 1</dc:title>
</cp:coreProperties>
</file>