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B87B-F79B-4464-865D-B2D87E79B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D1FF-09A6-48CB-A656-3DD86CDD2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C364-1986-4296-BDF6-9DAB2E00F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2C5D-CC00-4F3D-8983-6A1DDAC84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F9E6-1F14-47C0-AD02-AED998FBB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66A1-0BE1-4D76-91FA-5E80136F2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FECC-D555-4D14-AFB8-0D55E8C6D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ACFE-D287-432C-8861-973A6F822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5CAD-6AA5-4C84-9955-11DE28F4B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143F-C494-4432-A693-CC780F735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59FE-E4C6-484B-A048-23802B272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48D1-2954-477B-8AFE-DDA5D4C55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E133-EA29-4010-A5C1-385171A49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3F6E-14AC-4F41-8AD1-EA8BDD538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B642-E168-4DCD-AD0B-23C83EEBB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9472-D81B-4D8A-8B0B-E65CA1DCC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5B1D-02BD-42D7-A625-49A88D9CC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179E-8C10-4BF4-8B83-26C1D1BEE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604B-2EAE-4EE3-A5D3-2DDF5B509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8CF1-12A5-4674-B842-D97F89549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899C-7335-45CB-9668-A86D368D1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8D43-4474-4735-B91C-0AF089CCD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B589-AC20-4584-AE34-F247D65BD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GOLFER WON 19 EVENTS ON THE PGA TOUR, INCLUDING THE 1984 AND 1995 MASTERS TOURNAME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OLONEL HOGAN ON "HOGAN'S HERO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CLIN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229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4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NITED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6512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LINDA  CARLIS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11160" y="762120"/>
            <a:ext cx="7321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THE GO-GO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COU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POINT GUARD FOR THE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STON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TICS FROM 1950 TO 1963, AND WAS KNOWN AS "THE HOUDINI OF THE HARDWOO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65120" y="48769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RT  CON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HOSTED THE GAME SHOWS "TATTLETALES", "SUPER PASSWORD", AND "WIN, LOSE OR DRAW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53352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D  COLL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219320" y="762120"/>
            <a:ext cx="6705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HOSTED THE GAME SHOWS "BEAT THE CLOCK" AND "TO TELL THE TRU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CUL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52280" y="762120"/>
            <a:ext cx="8839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THE GAME    SHOWS "THE PRICE IS RIGHT", "BLOCKBUSTERS", "THE $25,000 PYRAMID", AND "JOKER'S WI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CE  COCKB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NADIAN SINGER / SONGWRITER / GUITARIST HAS PUT OUT 30 ALBUMS, INCLUDING HIS PLATINUM "WAITING FOR A MIRAC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4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NITED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NDI  CHAST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CH FEMALE SOCCER STAR IS FAMOUS FOR REMOVING HER JERSEY IN CELEBRATION AFTER SCORING THE WINNING GOAL IN THE 1999 WOMEN'S WORLD CU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6188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  CRENSH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GOLFER WON 19 EVENTS ON THE PGA TOUR, INCLUDING THE 1984 AND 1995 MASTERS TOURNA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CR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OLONEL HOGAN ON "HOGAN'S HERO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THE GO-GO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POINT GUARD FOR THE BOSTON CELTICS FROM 1950 TO 1963, AND WAS KNOWN AS "THE HOUDINI OF THE HARDWOO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HOSTED THE GAME SHOWS "TATTLETALES", "SUPER PASSWORD", AND "WIN, LOSE OR DRAW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43000" y="723960"/>
            <a:ext cx="6858000" cy="35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HOSTED THE GAME SHOWS "BEAT THE CLOCK" AND "TO TELL THE TRUT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THE GAME   SHOWS "THE PRICE IS RIGHT", "BLOCKBUSTERS", "THE $25,000 PYRAMID", AND "JOKER'S WI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NADIAN SINGER / SONGWRITER / GUITARIST HAS PUT OUT 30 ALBUMS, INCLUDING HIS PLATINUM "WAITING FOR A MIRAC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2396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CH FEMALE SOCCER STAR IS FAMOUS FOR REMOVING HER JERSEY IN CELEBRATION AFTER SCORING THE WINNING GOAL IN THE 1999 WOMEN'S WORLD CUP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9T20:10:11Z</dcterms:created>
  <dc:creator>Jennifer Budzinski</dc:creator>
  <dc:description/>
  <dc:language>en-US</dc:language>
  <cp:lastModifiedBy>Erich Friedman</cp:lastModifiedBy>
  <dcterms:modified xsi:type="dcterms:W3CDTF">2020-08-23T20:48:37Z</dcterms:modified>
  <cp:revision>274</cp:revision>
  <dc:subject/>
  <dc:title>Slide 1</dc:title>
</cp:coreProperties>
</file>