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A3B-585B-4E01-8527-C22478DD0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9CA1-D20D-4E90-9087-8A9810BF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540-8DC9-4CAA-BD96-9C8CF6B7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7E0F-7132-48D0-9198-B6810452F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CA3A-13C3-41E5-9CB2-9E2D70934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FD60-6D15-45EC-90DE-B4588432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973B-11C0-47B7-B867-217C1B39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88D6-2BEA-4F42-BD5C-8B4F3C193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060A-E2C5-4317-80DB-06E627FCE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1943-82E1-4EA3-9FA7-E68871EF8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ECC6-E466-4165-8EB5-791DBB89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A81C-73AB-41FF-A425-817620E3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D98C-D111-4BAC-A79C-CB5C56050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19F1-BCA9-45C2-B4FF-4B39121C2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E03-2C9A-4917-B118-2C11D19C2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A145-2D21-4CD4-87FD-C12398987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C0A2-0B76-43D3-A268-F9B444676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3F1B-33CF-471E-B9B6-AC6987373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6F9F-BA02-4F37-B9D9-189F875A0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39C4-12C6-4DD1-A064-4FEFF2A0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8AD6-C7E3-4521-8E8D-5BB5D643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5B20-419A-48C2-98B2-05551C0B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CF13-3549-4DD9-AB00-5C7240286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42 FOR "YANKEE DOODLE DAN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FRANCE FROM 1995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6656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656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OR 3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836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THE LATE LATE SHOW" ON C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CHEST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UNDISPUTED COMPETETIVE EATING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CU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SATURDAY NIGHT LIVE" ACTRESS WAS FAMOUS FOR HER ROLE AS A CONE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NY  CR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INOCCHIO'S TRAVELING COMPANION AND CON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96920" y="762120"/>
            <a:ext cx="6950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ANT-GARDE COMPOSER WROTE 4'33", A PIECE CONSISTING OF 4 MINUTES AND 33 SECONDS OF SIL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 AND "THE TERMIN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OR 3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ONN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LE TENNIS STAR WON 8 MAJOR TITLES BETWEEN 1974 AND 19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G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42 FOR "YANKEE DOODLE DAN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QUES  CHIR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FRANCE FROM 1995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THE LATE LATE SHOW" ON C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UNDISPUTED COMPETETIVE EATING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SATURDAY NIGHT LIVE" ACTRESS WAS FAMOUS FOR HER ROLE AS A CONEH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INOCCHIO'S TRAVELING COMPANION AND CON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ANT-GARDE COMPOSER WROTE 4'33", A PIECE CONSISTING OF 4 MINUTES AND 33 SECONDS OF SILENC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 AND "THE TERMIN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LE TENNIS STAR WON 8 MAJOR TITLES BETWEEN 1974 AND 19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3:32:06Z</dcterms:created>
  <dc:creator>Jennifer Budzinski</dc:creator>
  <dc:description/>
  <dc:language>en-US</dc:language>
  <cp:lastModifiedBy>Erich Friedman</cp:lastModifiedBy>
  <dcterms:modified xsi:type="dcterms:W3CDTF">2020-08-23T21:00:42Z</dcterms:modified>
  <cp:revision>279</cp:revision>
  <dc:subject/>
  <dc:title>Slide 1</dc:title>
</cp:coreProperties>
</file>