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803-5595-44BE-B9F9-73154F282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C421-8DB2-4F1E-9DFB-12B595C6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B1D-B004-44E3-B281-D17A0F16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D25-0AC2-4837-84A8-C1852916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BE4-EE37-450C-B97B-2487BED5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2D5-8032-426E-86E1-FF19AE13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D54-F4DD-4D9C-8941-9175D777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64C1-D4CC-4ED8-9B6A-440B730A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E340-E455-4A59-B179-314AAD0D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08DA-8AC1-43E7-B4DE-6CCDF079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CDA-C4DA-4010-90F1-877414BD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BA73-9A79-42E6-8166-E75CA91C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C42-8A65-447A-B6F4-4B1144DC5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F88-DD1B-496C-A0C9-B0B125C8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66AA-D526-48D2-A7E7-FC69851E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D60-AEFC-4719-93B5-E9DCF3373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9FE-117F-4086-812D-CC988A30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3BD1-8DA1-419F-BA00-834A82DA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590-AF9A-41D5-A3F6-6382759B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AEF-8BF0-4DB2-8E06-5543F583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DF0-68BB-4257-B6B5-B3DF1297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1439-60B2-41FC-8D2E-4CA13E7A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BFC-EDD7-474C-8422-DEDDEB5C7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83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CU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NY 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96920" y="762120"/>
            <a:ext cx="695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ONN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HIR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3:32:06Z</dcterms:created>
  <dc:creator>Jennifer Budzinski</dc:creator>
  <dc:description/>
  <dc:language>en-US</dc:language>
  <cp:lastModifiedBy>Erich Friedman</cp:lastModifiedBy>
  <dcterms:modified xsi:type="dcterms:W3CDTF">2020-08-23T21:00:42Z</dcterms:modified>
  <cp:revision>279</cp:revision>
  <dc:subject/>
  <dc:title>Slide 1</dc:title>
</cp:coreProperties>
</file>