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A1AC7-76DE-4259-B070-970290F7B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67F3-1FB0-4891-B488-06F098933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A9F-D03C-4328-B019-DA0EB4394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3A41-1A2A-48C3-B4CA-E9D7BB990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256F-4AA1-4291-B1CD-5E4DC41F1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FF82-2395-48EF-9B11-6D6423BAD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24E-1379-4A0F-B2C4-79C86D1F4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CD9A-21C8-4B11-9369-EAAE1F10A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E1BE-BFBC-41BD-8187-60F6AFFB8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A449-6D68-4F60-ABAF-6D25A9928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8725-2AF8-4E5F-B8BA-B60460A36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F7C2-1F9B-42D9-85F5-0439BA24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1343-5388-4B86-B3AB-27C11052C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E2C4-3CF8-450D-B7EB-80CF0D73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721A-D643-4DFB-8B3E-1BAE92F2A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B629-F980-4F5A-97F3-2EF56CCD0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65A5-FF90-41CC-9F4C-6D3D9908F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6F09-81A7-4025-A24D-AB47D3E16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5600-BBB4-4649-B464-FE59E9F0A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8C309-5DE4-4AB2-95BC-07791C674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C585-0539-472A-BD9E-E96C575F2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B620-BE5A-4E6A-8E68-C0A213106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E55B-AFF6-4F28-9E39-8BA5C0490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42 FOR "YANKEE DOODLE DAN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FRANCE FROM 1995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65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656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OR 30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836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O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THE LATE LATE SHOW" ON CB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CHESTN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UNDISPUTED COMPETETIVE EATING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CURT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SATURDAY NIGHT LIVE" ACTRESS WAS FAMOUS FOR HER ROLE AS A CONEH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INY  CRI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INOCCHIO'S TRAVELING COMPANION AND CONSCIE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96920" y="762120"/>
            <a:ext cx="6950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ANT-GARDE COMPOSER WROTE 4'33", A PIECE CONSISTING OF 4 MINUTES AND 33 SECONDS OF SILENC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M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 AND "THE TERMIN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OR 30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ONN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LE TENNIS STAR WON 8 MAJOR TITLES BETWEEN 1974 AND 198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CAG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IN 1942 FOR "YANKEE DOODLE DAN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QUES  CHIR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FRANCE FROM 1995 TO 200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URRENTLY HOSTS "THE LATE LATE SHOW" ON CB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UNDISPUTED COMPETETIVE EATING CHAMP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"SATURDAY NIGHT LIVE" ACTRESS WAS FAMOUS FOR HER ROLE AS A CONEH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INOCCHIO'S TRAVELING COMPANION AND CONSCIE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VANT-GARDE COMPOSER WROTE 4'33", A PIECE CONSISTING OF 4 MINUTES AND 33 SECONDS OF SILENCE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ALIENS" AND "THE TERMIN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MALE TENNIS STAR WON 8 MAJOR TITLES BETWEEN 1974 AND 198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3:32:06Z</dcterms:created>
  <dc:creator>Jennifer Budzinski</dc:creator>
  <dc:description/>
  <dc:language>en-US</dc:language>
  <cp:lastModifiedBy>Erich Friedman</cp:lastModifiedBy>
  <dcterms:modified xsi:type="dcterms:W3CDTF">2020-08-23T21:00:42Z</dcterms:modified>
  <cp:revision>279</cp:revision>
  <dc:subject/>
  <dc:title>Slide 1</dc:title>
</cp:coreProperties>
</file>