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632B-605A-41EE-ABEE-096FBF87D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7225-309C-42BA-AFFD-B7A1CB208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8EE6-EF8D-4873-A8DB-D6ADE85DE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1F4A-5184-4D94-9EB9-D05B692BE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7F10-E094-428B-B37E-A60BFD503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3D90-08B0-419F-8B6A-B94346C9B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9DD3-1DC3-4EC9-8B86-B1ABDB6C5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1692-4318-4D6E-89D8-956C273CE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7047-A8DF-4373-ADC9-B545E1280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C81E-BBA7-46A0-827B-79CAE4101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4D4D-4246-4666-8A3E-E25CB777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7A91-6257-4591-BB98-B2BB0AF4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9266-9F73-4D5E-B504-0CB0BE4A8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A9F9-5D9D-4116-86F5-6E516495F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D78A-FCD8-4F01-90EE-8AEBF5DCE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8A2A-2F0B-4BC9-A09C-E6CEF4FDF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4E4C-103F-4DD8-9B52-D2C5109E7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6749-F726-447E-AC6C-51F55BC81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3929-D0A6-4E84-B79F-2479AF3F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CE30-02FC-48AE-9516-1BCD434AC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B8D8-C43A-4E6E-B2A8-037CFF32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49AB-115E-4B8B-BCC7-090E10339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2245-467E-4E71-B12F-F06AD7326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2004 HIT SONG "YOU'RE BEAUTI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TIC PERIOD PIANIST COMPOSED               "A GERMAN REQUIEM" AND THE "TRAGIC OVER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APA'S GOT A BRAND NEW BAG" AND "I GOT YOU (I FEEL GOOD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N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LED ZEPPE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BIE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THE FIRST TO EXCEED 10 BILLION VIDEO VIEWS ON VE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B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BRANDENBURG CONCERTOS AND THE GOLDBERG VARI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BUFF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RGARITAVIL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BA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MONDS AND RUST" AND "THE NIGHT THEY DROVE OLD DIXIE 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APA'S GOT A BRAND NEW BAG" AND "I GOT YOU (I FEEL GOOD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BROW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PRETENDER", "LAWYERS IN LOVE", AND "DOCTOR MY EYES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L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96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2004 HIT SONG "YOU'RE BEAU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BRA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TIC PERIOD PIANIST COMPOSED               "A GERMAN REQUIEM" AND THE "TRAGIC OVER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LED ZEPPE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THE FIRST TO EXCEED 10 BILLION VIDEO VIEWS ON VEV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BRANDENBURG CONCERTOS AND THE GOLDBERG VARI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RGARITAVIL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MONDS AND RUST" AND "THE NIGHT THEY DROVE OLD DIXIE 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PRETENDER", "LAWYERS IN LOVE", AND "DOCTOR MY EYES"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6:57:14Z</dcterms:created>
  <dc:creator>Jennifer Budzinski</dc:creator>
  <dc:description/>
  <dc:language>en-US</dc:language>
  <cp:lastModifiedBy>Erich Friedman</cp:lastModifiedBy>
  <dcterms:modified xsi:type="dcterms:W3CDTF">2020-08-24T23:17:12Z</dcterms:modified>
  <cp:revision>341</cp:revision>
  <dc:subject/>
  <dc:title>Slide 1</dc:title>
</cp:coreProperties>
</file>