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20E6-6A2D-4484-9EED-D3BA47245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D681-D681-445C-B04A-FE8372BC8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E879-25A0-4D11-BD39-07F4FDE1B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D0B3-B786-452A-8B59-7490A9AE7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5FC0-BD84-4112-BE92-1722AC95F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3973-10B2-4FE8-9EDB-4CE0A50FA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7523-8BEF-43F8-87D4-202F80EE0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4A09-8D1A-4103-B96A-C56172DAF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4A8A-5E36-4F31-8EA4-4BA5DED6E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A0C4-148E-47A5-BFA5-7547D00C4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04A4-1513-454C-96D4-55AC4AE5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6CA6-DF35-4B06-A9B1-ED7BDAC22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FF70-7878-434D-8C3C-B728289FD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FAFC-17AD-4417-9A75-F88AFAF63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9B6C-BCB3-42AC-9EFC-AF48A6C7F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EFC8-EC15-410F-8492-CB31190EA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B865-27B7-4F07-B895-6E6F6D170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5863-B0AB-4537-9E03-18A20764E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4665-E275-45C7-9AAF-A63462498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0662-776F-452B-BD94-FE618692A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10EA-8F86-423C-9A73-3FDFF683D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AED1-2E6A-489D-9289-8AD7DF790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5E43-DC10-4E6A-A65E-4814FD02C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2004 HIT SONG "YOU'RE BEAUTIF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TIC PERIOD PIANIST COMPOSED               "A GERMAN REQUIEM" AND THE "TRAGIC OVERT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APA'S GOT A BRAND NEW BAG" AND "I GOT YOU (I FEEL GOOD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LAYED LEAD GUITAR FOR THE YARDBIRDS, AFTER ERIC CLAPTON, WITH JIMMY PAGE, AND WAS INFLUENTIAL IN THE BEGINNING OF HEAVY MET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ON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LED ZEPPE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N  BIE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AS THE FIRST TO EXCEED 10 BILLION VIDEO VIEWS ON VEV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  B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BRANDENBURG CONCERTOS AND THE GOLDBERG VARI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BUFF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RGARITAVIL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BA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AMONDS AND RUST" AND "THE NIGHT THEY DROVE OLD DIXIE 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APA'S GOT A BRAND NEW BAG" AND "I GOT YOU (I FEEL GOOD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BROW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PRETENDER", "LAWYERS IN LOVE", AND "DOCTOR MY EYES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L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96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2004 HIT SONG "YOU'RE BEAUTI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BRA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TIC PERIOD PIANIST COMPOSED               "A GERMAN REQUIEM" AND THE "TRAGIC OVERT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LAYED LEAD GUITAR FOR THE YARDBIRDS, AFTER ERIC CLAPTON, WITH JIMMY PAGE, AND WAS INFLUENTIAL IN THE BEGINNING OF HEAVY META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LED ZEPPE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AS THE FIRST TO EXCEED 10 BILLION VIDEO VIEWS ON VEV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BRANDENBURG CONCERTOS AND THE GOLDBERG VARI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RGARITAVIL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AMONDS AND RUST" AND "THE NIGHT THEY DROVE OLD DIXIE 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PRETENDER", "LAWYERS IN LOVE", AND "DOCTOR MY EYES"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6:57:14Z</dcterms:created>
  <dc:creator>Jennifer Budzinski</dc:creator>
  <dc:description/>
  <dc:language>en-US</dc:language>
  <cp:lastModifiedBy>Erich Friedman</cp:lastModifiedBy>
  <dcterms:modified xsi:type="dcterms:W3CDTF">2020-08-24T23:17:12Z</dcterms:modified>
  <cp:revision>341</cp:revision>
  <dc:subject/>
  <dc:title>Slide 1</dc:title>
</cp:coreProperties>
</file>