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EFE1-0C45-4DA5-BF91-8DECCA617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9FD1-824F-422F-B783-62759A396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640A-DFBE-4762-9053-89C3DB201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A5F6-0D08-4FB2-976F-2B7132319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DCDB-B191-49A3-A050-DA4C6424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80F0-79C2-4805-A724-57F552AD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63301-E6F3-4292-8432-3D656E81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073-16E3-44CF-86F3-45ABC59C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6A46-F211-4E46-BF3E-DAF06ADE5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2143-65EA-4351-A117-53036065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49C6-E22A-4C55-ADD9-0E7F7BDA6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D756-EE6A-4EE0-B750-61891D621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C167-903C-415A-B130-1C4840F0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A32D-B41B-41D0-A3A3-60E43F2AD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BCA3-E3F4-43ED-ABD9-851904AA9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22D9-DFA3-4603-9F49-4C5EC0262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BC0C-76AD-4E9F-8D44-1EE73E3C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801E-5C19-4460-BDDA-A8F466BF9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2070-7435-4DAE-86B3-A58CAD17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2DA2-55F2-4D04-AC33-96859FF5A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0093-8DB6-4486-9BBD-A0E205889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0FE2-C514-4545-AB45-15EE5D25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3CB0-3CFD-4CC8-813E-6D75BC6E6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2004 HIT SONG "YOU'RE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TIC PERIOD PIANIST COMPOSED               "A GERMAN REQUIEM" AND THE "TRAGIC OVER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APA'S GOT A BRAND NEW BAG" AND "I GOT YOU (I FEEL GOOD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N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THE FIRST TO EXCEED 10 BILLION VIDEO VIEWS ON VEV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BRANDENBURG CONCERTOS AND THE GOLDBERG VARI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BUFF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RGARITAVI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MONDS AND RUST" AND "THE NIGHT THEY DROVE OLD DIXIE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APA'S GOT A BRAND NEW BAG" AND "I GOT YOU (I FEEL GOOD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PRETENDER", "LAWYERS IN LOVE", AND "DOCTOR MY EYES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L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96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2004 HIT SONG "YOU'RE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BRAH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TIC PERIOD PIANIST COMPOSED               "A GERMAN REQUIEM" AND THE "TRAGIC OVER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AS THE FIRST TO EXCEED 10 BILLION VIDEO VIEWS ON VEV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BRANDENBURG CONCERTOS AND THE GOLDBERG VARI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RGARITAVIL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MONDS AND RUST" AND "THE NIGHT THEY DROVE OLD DIXIE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PRETENDER", "LAWYERS IN LOVE", AND "DOCTOR MY EYES"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6:57:14Z</dcterms:created>
  <dc:creator>Jennifer Budzinski</dc:creator>
  <dc:description/>
  <dc:language>en-US</dc:language>
  <cp:lastModifiedBy>Erich Friedman</cp:lastModifiedBy>
  <dcterms:modified xsi:type="dcterms:W3CDTF">2020-08-24T23:17:12Z</dcterms:modified>
  <cp:revision>341</cp:revision>
  <dc:subject/>
  <dc:title>Slide 1</dc:title>
</cp:coreProperties>
</file>