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77A1-5D2E-4624-88DE-E57C3BF51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E9E9-44B8-4C76-A953-20ADF2B37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88D6-5D60-4F25-9A5B-3453AF369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9359-FFEA-4B26-914A-83BDE2269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4A2E-5E56-4975-9843-5345D165E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ADD4-3EAA-4F26-8589-5792DC7B8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FD2C-356B-4665-9888-394A123B5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7549-040C-4DB4-A3B8-22FFCA402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8FAB-A809-4D20-B935-E9DA68A22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5F24-67CB-4AD9-A27A-B5D327BE5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3E09-4F22-4C4F-B63C-171F08F6E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7FB8-9613-4379-A697-EABABCEDB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311F-547D-4226-B2B8-837E3673F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9F5E-5C2C-401E-B4B4-69345E45A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3EB4-4FF1-423C-B0BF-259511B23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3943-FDB7-4447-9356-C60896D90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044C-C627-4A2B-8822-DD115A398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D476-ED72-4F0C-9A64-2A9CF3E8F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EF3D-490E-4F7B-A4E7-996CD9592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B77D-03D2-4C6C-932F-B1B2BC0B7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79FD-A247-4DD1-88D6-A0DCC24DF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110E-BF9E-4293-BFF1-8443893A2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4C77-80C5-4249-AC02-BC86F7474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ILOSOPHER SAID    "I THINK, THEREFORE I A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FOR "SUPERTRAM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DNEY  DANGER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OMIC COMPLAINED "I GET NO RESPEC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ARD  DREYFU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JAWS" AND "CLOSE ENCOUNTERS OF THE THIRD KI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DE NI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CTING OSCARS FOR "RAGING BULL" AND "THE GODFATHER PART I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484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DUV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RECENT FILMS INCLUDE "BROKEN TRAIL", "THE JUDGE", "GET LOW", "A NIGHT IN OLD MEXICO", AND "WILD HORS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GER  DALT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FOR "THE WH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ARD  DAW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"FAMILY FEUD" 1976-1985 AND 1994-199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ARD  DA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AYOR OF CHICAGO 1955-1976, AND HAS THE SAME NAME AS HIS SON, WHO WAS MAYOR OF CHICAGO 1989-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OMIC COMPLAINED "I GET NO RESPEC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909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ARD  DAWK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333440" y="762120"/>
            <a:ext cx="6477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BLIND WATCHMAKER" AND "THE SELFISH GE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NÉ  DESCAR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00280" y="762120"/>
            <a:ext cx="7543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ILOSOPHER SAID    "I THINK, THEREFORE I A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K  DAV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FOR "SUPERTRAM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JAWS" AND "CLOSE ENCOUNTERS OF THE THIRD KI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CTING OSCARS FOR "RAGING BULL" AND "THE GODFATHER PART I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RECENT FILMS INCLUDE "BROKEN TRAIL", "THE JUDGE", "GET LOW", "A NIGHT IN OLD MEXICO", AND "WILD HORS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FOR "THE WH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"FAMILY FEUD" 1976-1985 AND 1994-199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AYOR OF CHICAGO 1955-1976, AND HAS THE SAME NAME AS HIS SON, WHO WAS MAYOR OF CHICAGO 1989-201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BLIND WATCHMAKER" AND "THE SELFISH GE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1T15:58:12Z</dcterms:created>
  <dc:creator>Jennifer Budzinski</dc:creator>
  <dc:description/>
  <dc:language>en-US</dc:language>
  <cp:lastModifiedBy>Erich Friedman</cp:lastModifiedBy>
  <dcterms:modified xsi:type="dcterms:W3CDTF">2020-08-24T23:29:30Z</dcterms:modified>
  <cp:revision>336</cp:revision>
  <dc:subject/>
  <dc:title>Slide 1</dc:title>
</cp:coreProperties>
</file>