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C41B-43D5-4846-946C-AAF04BFCE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7BFD-4E79-4D5A-B6E5-D99B67A4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80A9-5549-45D3-B9A6-08A252F8F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1774-1C84-43FB-825E-98782154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DFFC-9AAD-4F61-BCE6-8D936859A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6B04-CB55-40B7-B8BC-161F4CEF4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AB356-8B64-4375-9F44-B1A298D80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EACA-E964-4A1E-B443-969611E21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01E6-AEF4-43BF-8086-17AAA9D4D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2B67-0B42-4DDA-A7B8-A6DCC4973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2A71-A8A1-4CCB-8F2F-0B13659C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C161-D822-4BF6-8CE7-91203267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9076-60B3-400A-A3E8-DE9675D93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4681-01A2-4D73-B13A-5A6E64D01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EEA1-0725-4374-A6E3-E8011F109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085E-F9C3-4EA9-ACAA-60066C995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835D-285D-46F0-8B65-1173D06F3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BED6-0BA6-4F87-A83D-2A0B3586D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959E-D44F-45B6-BBD8-05A7AD7A0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72AE-BF85-42E1-BE1F-6FBAD2004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5D46-F905-4E1C-8F0E-A4200CB86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F591-6EB2-4F37-83C8-24268A9AF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F093-C5F9-40ED-B1D0-CFEA8C830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OSOPHER SAID    "I THINK, THEREFORE I 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SUPER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NEY  DANGE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MIC COMPLAINED "I GET NO RESP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DREYF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AWS" AND "CLOSE ENCOUNTERS OF THE THIRD K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E N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CTING OSCARS FOR "RAGING BULL" AND "THE GODFATHER PART 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UV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RECENT FILMS INCLUDE "BROKEN TRAIL", "THE JUDGE", "GET LOW", "A NIGHT IN OLD MEXICO", AND "WILD HOR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DALT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THE WH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DAW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FAMILY FEUD" 1976-1985 AND 1994-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D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YOR OF CHICAGO 1955-1976, AND HAS THE SAME NAME AS HIS SON, WHO WAS MAYOR OF CHICAGO 1989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MIC COMPLAINED "I GET NO RESPEC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DAW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BLIND WATCHMAKER" AND "THE SELFISH GE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É  DESCAR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OSOPHER SAID    "I THINK, THEREFORE I 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K  DA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SUPER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AWS" AND "CLOSE ENCOUNTERS OF THE THIRD K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CTING OSCARS FOR "RAGING BULL" AND "THE GODFATHER PART 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RECENT FILMS INCLUDE "BROKEN TRAIL", "THE JUDGE", "GET LOW", "A NIGHT IN OLD MEXICO", AND "WILD HOR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THE WH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FAMILY FEUD" 1976-1985 AND 1994-19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YOR OF CHICAGO 1955-1976, AND HAS THE SAME NAME AS HIS SON, WHO WAS MAYOR OF CHICAGO 1989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BLIND WATCHMAKER" AND "THE SELFISH GE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5:58:12Z</dcterms:created>
  <dc:creator>Jennifer Budzinski</dc:creator>
  <dc:description/>
  <dc:language>en-US</dc:language>
  <cp:lastModifiedBy>Erich Friedman</cp:lastModifiedBy>
  <dcterms:modified xsi:type="dcterms:W3CDTF">2020-08-24T23:29:30Z</dcterms:modified>
  <cp:revision>336</cp:revision>
  <dc:subject/>
  <dc:title>Slide 1</dc:title>
</cp:coreProperties>
</file>