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E709-600D-43C7-A983-27D91E205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E4CA-B4B6-4C0B-AFD4-0267462E3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EFB3-AC95-4C9F-B048-C89B61E1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BB5E-D279-4564-AB5B-2CAF8370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88E4-3093-4F11-8BB7-B1EE725E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79C-6A12-484D-AA54-CFE051D4D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BA38-E407-4232-85B5-A654C3F5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7155-C8BA-49CE-BD0F-A21D9D24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C861-DB42-435C-8511-DB47720FC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B669-3769-4E0D-A2A0-82CC8A074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6B1A-1A49-4564-A88A-9C9A60E60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63B2-1F4E-47B7-BD59-2F4EBEB4A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AF81-CC56-4EBE-94D4-DFC01E9C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B8A2-BB9A-4EF4-99A7-7B9D42BB6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DE21-386B-42DA-99CB-0B09729D8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FAA0-14DE-4FAB-9D25-167EB3665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BECF-5A7E-4766-9C7C-AC6F432C4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A635-7FBE-4176-AD4E-7D8A02ACF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AFF6-24C2-4F0C-8277-BA2FAD0E1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625C-D304-466A-8601-E37DE1B19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9F3C-0184-479D-BC0A-7ADA81F48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2A42-9D70-4C8A-B22C-821C9EF7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99F2-3C2E-453A-A19A-D4B066CE3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TRODUCES "MASTERPIECE MYSTERY!" AND PLAYED ELI GOLD      ON "THE GOO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SURDIST FRENCH PHILOSOPHER WON THE NOBEL PRIZE IN LITERATURE AT AGE 43, THE SECOND YOUNGEST TO DO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GATHA  CHRIS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NOVEL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MOBSTER RULED CHICAGO FOR 7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ERSON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356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-HAIRED CNN ANCHOR HAS HIS OWN SHOW CALLED "36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  CHEKH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NRIK IBSEN AND AUGUST STRINDBERG, WHAT RUSSIAN AUTHOR IS CONSIDERED A FATHER OF MODERNIST THEAT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U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, JUST LIKE HIS FATHER W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ODFATHER OF SHOCK ROCK" SANG "SCHOOL'S 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COP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"THE DEAN OF AMERICAN COMPOS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NOVEL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W  CARNE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 MAGNATE AND PHILANTHROPIST BUILT A CONCERT HALL IN NEW YORK AND FOUNDED A COLLEGE IN PITTSBUR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CU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TRODUCES "MASTERPIECE MYSTERY!" AND PLAYED ELI GOLD      ON "THE GOO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CAM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SURDIST FRENCH PHILOSOPHER WON THE NOBEL PRIZE IN LITERATURE AT AGE 43, THE SECOND  YOUNGEST TO DO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MOBSTER RULED CHICAGO FOR 7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ITE-HAIRED CNN ANCHOR HAS HIS OWN SHOW CALLED "36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NRIK IBSEN AND AUGUST STRINDBERG, WHAT RUSSIAN AUTHOR IS CONSIDERED A FATHER OF MODERNIST THEAT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OVERNOR OF NEW YORK, JUST LIKE HIS FATHER W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GODFATHER OF SHOCK ROCK" SANG "SCHOOL'S 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"THE DEAN OF AMERICAN COMPOS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EL MAGNATE AND PHILANTHROPIST BUILT A CONCERT HALL IN NEW YORK AND FOUNDED A COLLEGE IN PITTSBUR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8T19:31:41Z</dcterms:created>
  <dc:creator>Jennifer Budzinski</dc:creator>
  <dc:description/>
  <dc:language>en-US</dc:language>
  <cp:lastModifiedBy>Erich Friedman</cp:lastModifiedBy>
  <dcterms:modified xsi:type="dcterms:W3CDTF">2020-08-25T15:48:21Z</dcterms:modified>
  <cp:revision>347</cp:revision>
  <dc:subject/>
  <dc:title>Slide 1</dc:title>
</cp:coreProperties>
</file>