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1AFD-CFE4-4675-913C-FFDA3A5DC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52C7-EFCC-4C3D-AE39-9BCD1DF06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185B-4170-45DE-8015-3A9DF3AB5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E93B-DD71-43FD-AB5E-A6068D7DD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CDF9-4DB4-4D22-AC33-D6C81BE25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A912-F15D-407F-B5D5-ED2197D77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FD0D-8963-4E31-8C20-50E70E6B0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C104-BA4A-463E-ABCF-0754E1FFC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6C90-DE88-4ED0-BEC8-B88A1D399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DDAD-A8C6-4805-B760-39F685470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DAD5-7E6B-4692-B41E-0F846C3B0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BA57-B750-4D22-8257-F96A88EA5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4A56-E162-4E39-A796-70E7B0A31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472F-4E73-418D-9503-0FCF48DB4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6449-7E28-48DB-8445-C40141187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C318-89A7-4A37-A5CC-F218C6225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9E3E-DA18-41B2-9062-63590C2DD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8D87-B0D2-4EB1-AF68-FC1B21504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174E-C89D-476C-982F-706E516DF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366B-16A7-41A8-8B7E-6C2848BFA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0363-5D44-41D2-BE79-970D94126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0613-0EBA-46F9-B072-EAE86F2C3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B1FC-2A18-4105-A50F-2C0A99263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NTRODUCES "MASTERPIECE MYSTERY!" AND PLAYED ELI GOLD      ON "THE GOOD W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BSURDIST FRENCH PHILOSOPHER WON THE NOBEL PRIZE IN LITERATURE AT AGE 43, THE SECOND YOUNGEST TO DO S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GATHA  CHRIS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BEST-SELLING NOVELIST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  CAP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HIBITION-ERA MOBSTER RULED CHICAGO FOR 7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ERSON  COO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356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HITE-HAIRED CNN ANCHOR HAS HIS OWN SHOW CALLED "360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ON  CHEKH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ONG WITH HENRIK IBSEN AND AUGUST STRINDBERG, WHAT RUSSIAN AUTHOR IS CONSIDERED A FATHER OF MODERNIST THEAT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  CU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GOVERNOR OF NEW YORK, JUST LIKE HIS FATHER W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ICE  COO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GODFATHER OF SHOCK ROCK" SANG "SCHOOL'S OU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ARON  COP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KNOWN AS "THE DEAN OF AMERICAN COMPOS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BEST-SELLING NOVELIST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  CARNE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EEL MAGNATE AND PHILANTHROPIST BUILT A CONCERT HALL IN NEW YORK AND FOUNDED A COLLEGE IN PITTSBUR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N  CU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NTRODUCES "MASTERPIECE MYSTERY!" AND PLAYED ELI GOLD      ON "THE GOOD W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BERT  CAM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BSURDIST FRENCH PHILOSOPHER WON THE NOBEL PRIZE IN LITERATURE AT AGE 43, THE SECOND  YOUNGEST TO DO S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HIBITION-ERA MOBSTER RULED CHICAGO FOR 7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HITE-HAIRED CNN ANCHOR HAS HIS OWN SHOW CALLED "360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ONG WITH HENRIK IBSEN AND AUGUST STRINDBERG, WHAT RUSSIAN AUTHOR IS CONSIDERED A FATHER OF MODERNIST THEAT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GOVERNOR OF NEW YORK, JUST LIKE HIS FATHER W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GODFATHER OF SHOCK ROCK" SANG "SCHOOL'S OU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KNOWN AS "THE DEAN OF AMERICAN COMPOS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EEL MAGNATE AND PHILANTHROPIST BUILT A CONCERT HALL IN NEW YORK AND FOUNDED A COLLEGE IN PITTSBURG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8T19:31:41Z</dcterms:created>
  <dc:creator>Jennifer Budzinski</dc:creator>
  <dc:description/>
  <dc:language>en-US</dc:language>
  <cp:lastModifiedBy>Erich Friedman</cp:lastModifiedBy>
  <dcterms:modified xsi:type="dcterms:W3CDTF">2020-08-25T15:48:21Z</dcterms:modified>
  <cp:revision>347</cp:revision>
  <dc:subject/>
  <dc:title>Slide 1</dc:title>
</cp:coreProperties>
</file>